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ABC0-8317-4C4F-A535-9FD5516E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EB72-039F-4765-87B5-60B56BC8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4D81-FDE4-48E3-A678-C14088C2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AD7-335E-48CE-A7CF-7B5A4DDB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37EC-9FF4-4376-B9E3-8247708A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BC42-9BD0-471D-9F91-8D3A0F24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91CB-41DF-4A45-AD3F-4DF260BC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2DE-2777-4C6E-9211-1FED7725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B55B-69E8-42B8-9173-7E2178C7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8A2-31F8-402A-92D1-E08160F6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89B9-348B-4ED3-A9BC-16B80BA8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581-0024-4829-A15D-3B3EE686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8338-EF99-4A4D-A041-51D203DAF8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5600" y="963720"/>
          <a:ext cx="88884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963720"/>
                    <a:ext cx="8888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нение бюджета МО «Верхнебогатырское»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2013 год          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(6816,3 тыс. руб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юджетные средства на выполнение полномочий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64,8 тыс. руб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6040" y="1047600"/>
          <a:ext cx="8780760" cy="534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040" y="1047600"/>
                    <a:ext cx="8780760" cy="534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бственные средства бюджета сельского поселени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(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477 тыс. рубле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17520" y="1866960"/>
          <a:ext cx="8607240" cy="48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866960"/>
                    <a:ext cx="8607240" cy="48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2T04:22:22Z</dcterms:created>
  <dc:creator>Пользователь</dc:creator>
  <dc:description/>
  <dc:language>en-US</dc:language>
  <cp:lastModifiedBy>Пользователь</cp:lastModifiedBy>
  <dcterms:modified xsi:type="dcterms:W3CDTF">2014-04-25T06:38:41Z</dcterms:modified>
  <cp:revision>7</cp:revision>
  <dc:subject/>
  <dc:title>Слайд 1</dc:title>
</cp:coreProperties>
</file>