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133D-473C-4451-AC7A-EA706663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1CD4-5A18-49D4-93C2-FF0215B1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25CF-3A0B-4FEC-973A-10A184DD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8058-989E-4A25-A29E-8AD3CE61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5422-C04F-4DB5-8E9E-BC44D4B0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A53A-CA11-4F30-9A2F-E2CECC59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A455-498C-46E9-A34B-930332D5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688E-DAA7-4893-887A-0D58F10E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9DCB-1B77-49E3-8254-DE093C80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69A6-A1AF-4213-84D8-566CEE9D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5661-042B-410E-9051-53EB057B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3A0B-2A36-49BC-ACC4-57BF40F4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EB93-586A-4A06-8F74-0C363AEC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98E6-771D-4395-9AE4-56C0AA93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B98D-7593-490A-9A0E-F03321FB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9452-2EB0-4B62-A629-67B15D11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503A-A843-4913-A325-FEF5A81B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1D4-CBB2-4397-A6F0-EA11F276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BB34-EB40-4082-891B-3EE19AEE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2B51-AEE1-4340-8AC8-2ED9CA7D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2504-2CED-4D3C-8F1C-FE7A61B2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F156-B9A3-4AD7-8BD6-8CDB1545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38C-A7F0-4AE2-8F6F-211EBA58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0378-D080-47A6-9882-93A9F1A1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A124-79E3-4756-87A0-DD8E5C13910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E315-0A53-484D-9EDB-2382C9108C7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285"/>
          <p:cNvGraphicFramePr/>
          <p:nvPr/>
        </p:nvGraphicFramePr>
        <p:xfrm>
          <a:off x="1179360" y="1197000"/>
          <a:ext cx="680724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22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9360" y="1197000"/>
                    <a:ext cx="680724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Freeform 1893"/>
          <p:cNvSpPr/>
          <p:nvPr/>
        </p:nvSpPr>
        <p:spPr>
          <a:xfrm>
            <a:off x="611280" y="1341360"/>
            <a:ext cx="8137440" cy="4608720"/>
          </a:xfrm>
          <a:custGeom>
            <a:avLst/>
            <a:gdLst>
              <a:gd name="textAreaLeft" fmla="*/ 0 w 8137440"/>
              <a:gd name="textAreaRight" fmla="*/ 8137800 w 8137440"/>
              <a:gd name="textAreaTop" fmla="*/ 0 h 4608720"/>
              <a:gd name="textAreaBottom" fmla="*/ 4609080 h 4608720"/>
            </a:gdLst>
            <a:ahLst/>
            <a:rect l="textAreaLeft" t="textAreaTop" r="textAreaRight" b="textAreaBottom"/>
            <a:pathLst>
              <a:path w="3957" h="3231">
                <a:moveTo>
                  <a:pt x="26" y="39"/>
                </a:moveTo>
                <a:lnTo>
                  <a:pt x="26" y="218"/>
                </a:lnTo>
                <a:cubicBezTo>
                  <a:pt x="26" y="225"/>
                  <a:pt x="20" y="231"/>
                  <a:pt x="13" y="231"/>
                </a:cubicBezTo>
                <a:cubicBezTo>
                  <a:pt x="6" y="231"/>
                  <a:pt x="0" y="225"/>
                  <a:pt x="0" y="218"/>
                </a:cubicBezTo>
                <a:lnTo>
                  <a:pt x="0" y="39"/>
                </a:lnTo>
                <a:cubicBezTo>
                  <a:pt x="0" y="32"/>
                  <a:pt x="6" y="26"/>
                  <a:pt x="13" y="26"/>
                </a:cubicBezTo>
                <a:cubicBezTo>
                  <a:pt x="20" y="26"/>
                  <a:pt x="26" y="32"/>
                  <a:pt x="26" y="39"/>
                </a:cubicBezTo>
                <a:close/>
                <a:moveTo>
                  <a:pt x="26" y="346"/>
                </a:moveTo>
                <a:lnTo>
                  <a:pt x="26" y="525"/>
                </a:lnTo>
                <a:cubicBezTo>
                  <a:pt x="26" y="532"/>
                  <a:pt x="20" y="538"/>
                  <a:pt x="13" y="538"/>
                </a:cubicBezTo>
                <a:cubicBezTo>
                  <a:pt x="6" y="538"/>
                  <a:pt x="0" y="532"/>
                  <a:pt x="0" y="525"/>
                </a:cubicBezTo>
                <a:lnTo>
                  <a:pt x="0" y="346"/>
                </a:lnTo>
                <a:cubicBezTo>
                  <a:pt x="0" y="339"/>
                  <a:pt x="6" y="333"/>
                  <a:pt x="13" y="333"/>
                </a:cubicBezTo>
                <a:cubicBezTo>
                  <a:pt x="20" y="333"/>
                  <a:pt x="26" y="339"/>
                  <a:pt x="26" y="346"/>
                </a:cubicBezTo>
                <a:close/>
                <a:moveTo>
                  <a:pt x="26" y="653"/>
                </a:moveTo>
                <a:lnTo>
                  <a:pt x="26" y="832"/>
                </a:lnTo>
                <a:cubicBezTo>
                  <a:pt x="26" y="840"/>
                  <a:pt x="20" y="845"/>
                  <a:pt x="13" y="845"/>
                </a:cubicBezTo>
                <a:cubicBezTo>
                  <a:pt x="6" y="845"/>
                  <a:pt x="0" y="840"/>
                  <a:pt x="0" y="832"/>
                </a:cubicBezTo>
                <a:lnTo>
                  <a:pt x="0" y="653"/>
                </a:lnTo>
                <a:cubicBezTo>
                  <a:pt x="0" y="646"/>
                  <a:pt x="6" y="640"/>
                  <a:pt x="13" y="640"/>
                </a:cubicBezTo>
                <a:cubicBezTo>
                  <a:pt x="20" y="640"/>
                  <a:pt x="26" y="646"/>
                  <a:pt x="26" y="653"/>
                </a:cubicBezTo>
                <a:close/>
                <a:moveTo>
                  <a:pt x="26" y="960"/>
                </a:moveTo>
                <a:lnTo>
                  <a:pt x="26" y="1140"/>
                </a:lnTo>
                <a:cubicBezTo>
                  <a:pt x="26" y="1147"/>
                  <a:pt x="20" y="1152"/>
                  <a:pt x="13" y="1152"/>
                </a:cubicBezTo>
                <a:cubicBezTo>
                  <a:pt x="6" y="1152"/>
                  <a:pt x="0" y="1147"/>
                  <a:pt x="0" y="1140"/>
                </a:cubicBezTo>
                <a:lnTo>
                  <a:pt x="0" y="960"/>
                </a:lnTo>
                <a:cubicBezTo>
                  <a:pt x="0" y="953"/>
                  <a:pt x="6" y="948"/>
                  <a:pt x="13" y="948"/>
                </a:cubicBezTo>
                <a:cubicBezTo>
                  <a:pt x="20" y="948"/>
                  <a:pt x="26" y="953"/>
                  <a:pt x="26" y="960"/>
                </a:cubicBezTo>
                <a:close/>
                <a:moveTo>
                  <a:pt x="26" y="1268"/>
                </a:moveTo>
                <a:lnTo>
                  <a:pt x="26" y="1447"/>
                </a:lnTo>
                <a:cubicBezTo>
                  <a:pt x="26" y="1454"/>
                  <a:pt x="20" y="1460"/>
                  <a:pt x="13" y="1460"/>
                </a:cubicBezTo>
                <a:cubicBezTo>
                  <a:pt x="6" y="1460"/>
                  <a:pt x="0" y="1454"/>
                  <a:pt x="0" y="1447"/>
                </a:cubicBezTo>
                <a:lnTo>
                  <a:pt x="0" y="1268"/>
                </a:lnTo>
                <a:cubicBezTo>
                  <a:pt x="0" y="1261"/>
                  <a:pt x="6" y="1255"/>
                  <a:pt x="13" y="1255"/>
                </a:cubicBezTo>
                <a:cubicBezTo>
                  <a:pt x="20" y="1255"/>
                  <a:pt x="26" y="1261"/>
                  <a:pt x="26" y="1268"/>
                </a:cubicBezTo>
                <a:close/>
                <a:moveTo>
                  <a:pt x="26" y="1575"/>
                </a:moveTo>
                <a:lnTo>
                  <a:pt x="26" y="1754"/>
                </a:lnTo>
                <a:cubicBezTo>
                  <a:pt x="26" y="1761"/>
                  <a:pt x="20" y="1767"/>
                  <a:pt x="13" y="1767"/>
                </a:cubicBezTo>
                <a:cubicBezTo>
                  <a:pt x="6" y="1767"/>
                  <a:pt x="0" y="1761"/>
                  <a:pt x="0" y="1754"/>
                </a:cubicBezTo>
                <a:lnTo>
                  <a:pt x="0" y="1575"/>
                </a:lnTo>
                <a:cubicBezTo>
                  <a:pt x="0" y="1568"/>
                  <a:pt x="6" y="1562"/>
                  <a:pt x="13" y="1562"/>
                </a:cubicBezTo>
                <a:cubicBezTo>
                  <a:pt x="20" y="1562"/>
                  <a:pt x="26" y="1568"/>
                  <a:pt x="26" y="1575"/>
                </a:cubicBezTo>
                <a:close/>
                <a:moveTo>
                  <a:pt x="26" y="1882"/>
                </a:moveTo>
                <a:lnTo>
                  <a:pt x="26" y="2061"/>
                </a:lnTo>
                <a:cubicBezTo>
                  <a:pt x="26" y="2068"/>
                  <a:pt x="20" y="2074"/>
                  <a:pt x="13" y="2074"/>
                </a:cubicBezTo>
                <a:cubicBezTo>
                  <a:pt x="6" y="2074"/>
                  <a:pt x="0" y="2068"/>
                  <a:pt x="0" y="2061"/>
                </a:cubicBezTo>
                <a:lnTo>
                  <a:pt x="0" y="1882"/>
                </a:lnTo>
                <a:cubicBezTo>
                  <a:pt x="0" y="1875"/>
                  <a:pt x="6" y="1869"/>
                  <a:pt x="13" y="1869"/>
                </a:cubicBezTo>
                <a:cubicBezTo>
                  <a:pt x="20" y="1869"/>
                  <a:pt x="26" y="1875"/>
                  <a:pt x="26" y="1882"/>
                </a:cubicBezTo>
                <a:close/>
                <a:moveTo>
                  <a:pt x="26" y="2189"/>
                </a:moveTo>
                <a:lnTo>
                  <a:pt x="26" y="2368"/>
                </a:lnTo>
                <a:cubicBezTo>
                  <a:pt x="26" y="2376"/>
                  <a:pt x="20" y="2381"/>
                  <a:pt x="13" y="2381"/>
                </a:cubicBezTo>
                <a:cubicBezTo>
                  <a:pt x="6" y="2381"/>
                  <a:pt x="0" y="2376"/>
                  <a:pt x="0" y="2368"/>
                </a:cubicBezTo>
                <a:lnTo>
                  <a:pt x="0" y="2189"/>
                </a:lnTo>
                <a:cubicBezTo>
                  <a:pt x="0" y="2182"/>
                  <a:pt x="6" y="2176"/>
                  <a:pt x="13" y="2176"/>
                </a:cubicBezTo>
                <a:cubicBezTo>
                  <a:pt x="20" y="2176"/>
                  <a:pt x="26" y="2182"/>
                  <a:pt x="26" y="2189"/>
                </a:cubicBezTo>
                <a:close/>
                <a:moveTo>
                  <a:pt x="26" y="2496"/>
                </a:moveTo>
                <a:lnTo>
                  <a:pt x="26" y="2676"/>
                </a:lnTo>
                <a:cubicBezTo>
                  <a:pt x="26" y="2683"/>
                  <a:pt x="20" y="2688"/>
                  <a:pt x="13" y="2688"/>
                </a:cubicBezTo>
                <a:cubicBezTo>
                  <a:pt x="6" y="2688"/>
                  <a:pt x="0" y="2683"/>
                  <a:pt x="0" y="2676"/>
                </a:cubicBezTo>
                <a:lnTo>
                  <a:pt x="0" y="2496"/>
                </a:lnTo>
                <a:cubicBezTo>
                  <a:pt x="0" y="2489"/>
                  <a:pt x="6" y="2484"/>
                  <a:pt x="13" y="2484"/>
                </a:cubicBezTo>
                <a:cubicBezTo>
                  <a:pt x="20" y="2484"/>
                  <a:pt x="26" y="2489"/>
                  <a:pt x="26" y="2496"/>
                </a:cubicBezTo>
                <a:close/>
                <a:moveTo>
                  <a:pt x="26" y="2804"/>
                </a:moveTo>
                <a:lnTo>
                  <a:pt x="26" y="2983"/>
                </a:lnTo>
                <a:cubicBezTo>
                  <a:pt x="26" y="2990"/>
                  <a:pt x="20" y="2996"/>
                  <a:pt x="13" y="2996"/>
                </a:cubicBezTo>
                <a:cubicBezTo>
                  <a:pt x="6" y="2996"/>
                  <a:pt x="0" y="2990"/>
                  <a:pt x="0" y="2983"/>
                </a:cubicBezTo>
                <a:lnTo>
                  <a:pt x="0" y="2804"/>
                </a:lnTo>
                <a:cubicBezTo>
                  <a:pt x="0" y="2797"/>
                  <a:pt x="6" y="2791"/>
                  <a:pt x="13" y="2791"/>
                </a:cubicBezTo>
                <a:cubicBezTo>
                  <a:pt x="20" y="2791"/>
                  <a:pt x="26" y="2797"/>
                  <a:pt x="26" y="2804"/>
                </a:cubicBezTo>
                <a:close/>
                <a:moveTo>
                  <a:pt x="26" y="3111"/>
                </a:moveTo>
                <a:lnTo>
                  <a:pt x="26" y="3218"/>
                </a:lnTo>
                <a:lnTo>
                  <a:pt x="13" y="3206"/>
                </a:lnTo>
                <a:lnTo>
                  <a:pt x="85" y="3206"/>
                </a:lnTo>
                <a:cubicBezTo>
                  <a:pt x="92" y="3206"/>
                  <a:pt x="98" y="3211"/>
                  <a:pt x="98" y="3218"/>
                </a:cubicBezTo>
                <a:cubicBezTo>
                  <a:pt x="98" y="3225"/>
                  <a:pt x="92" y="3231"/>
                  <a:pt x="85" y="3231"/>
                </a:cubicBezTo>
                <a:lnTo>
                  <a:pt x="13" y="3231"/>
                </a:lnTo>
                <a:cubicBezTo>
                  <a:pt x="6" y="3231"/>
                  <a:pt x="0" y="3225"/>
                  <a:pt x="0" y="3218"/>
                </a:cubicBezTo>
                <a:lnTo>
                  <a:pt x="0" y="3111"/>
                </a:lnTo>
                <a:cubicBezTo>
                  <a:pt x="0" y="3104"/>
                  <a:pt x="6" y="3098"/>
                  <a:pt x="13" y="3098"/>
                </a:cubicBezTo>
                <a:cubicBezTo>
                  <a:pt x="20" y="3098"/>
                  <a:pt x="26" y="3104"/>
                  <a:pt x="26" y="3111"/>
                </a:cubicBezTo>
                <a:close/>
                <a:moveTo>
                  <a:pt x="213" y="3206"/>
                </a:moveTo>
                <a:lnTo>
                  <a:pt x="392" y="3206"/>
                </a:lnTo>
                <a:cubicBezTo>
                  <a:pt x="399" y="3206"/>
                  <a:pt x="405" y="3211"/>
                  <a:pt x="405" y="3218"/>
                </a:cubicBezTo>
                <a:cubicBezTo>
                  <a:pt x="405" y="3225"/>
                  <a:pt x="399" y="3231"/>
                  <a:pt x="392" y="3231"/>
                </a:cubicBezTo>
                <a:lnTo>
                  <a:pt x="213" y="3231"/>
                </a:lnTo>
                <a:cubicBezTo>
                  <a:pt x="206" y="3231"/>
                  <a:pt x="200" y="3225"/>
                  <a:pt x="200" y="3218"/>
                </a:cubicBezTo>
                <a:cubicBezTo>
                  <a:pt x="200" y="3211"/>
                  <a:pt x="206" y="3206"/>
                  <a:pt x="213" y="3206"/>
                </a:cubicBezTo>
                <a:close/>
                <a:moveTo>
                  <a:pt x="520" y="3206"/>
                </a:moveTo>
                <a:lnTo>
                  <a:pt x="699" y="3206"/>
                </a:lnTo>
                <a:cubicBezTo>
                  <a:pt x="706" y="3206"/>
                  <a:pt x="712" y="3211"/>
                  <a:pt x="712" y="3218"/>
                </a:cubicBezTo>
                <a:cubicBezTo>
                  <a:pt x="712" y="3225"/>
                  <a:pt x="706" y="3231"/>
                  <a:pt x="699" y="3231"/>
                </a:cubicBezTo>
                <a:lnTo>
                  <a:pt x="520" y="3231"/>
                </a:lnTo>
                <a:cubicBezTo>
                  <a:pt x="513" y="3231"/>
                  <a:pt x="507" y="3225"/>
                  <a:pt x="507" y="3218"/>
                </a:cubicBezTo>
                <a:cubicBezTo>
                  <a:pt x="507" y="3211"/>
                  <a:pt x="513" y="3206"/>
                  <a:pt x="520" y="3206"/>
                </a:cubicBezTo>
                <a:close/>
                <a:moveTo>
                  <a:pt x="827" y="3206"/>
                </a:moveTo>
                <a:lnTo>
                  <a:pt x="1007" y="3206"/>
                </a:lnTo>
                <a:cubicBezTo>
                  <a:pt x="1014" y="3206"/>
                  <a:pt x="1019" y="3211"/>
                  <a:pt x="1019" y="3218"/>
                </a:cubicBezTo>
                <a:cubicBezTo>
                  <a:pt x="1019" y="3225"/>
                  <a:pt x="1014" y="3231"/>
                  <a:pt x="1007" y="3231"/>
                </a:cubicBezTo>
                <a:lnTo>
                  <a:pt x="827" y="3231"/>
                </a:lnTo>
                <a:cubicBezTo>
                  <a:pt x="820" y="3231"/>
                  <a:pt x="815" y="3225"/>
                  <a:pt x="815" y="3218"/>
                </a:cubicBezTo>
                <a:cubicBezTo>
                  <a:pt x="815" y="3211"/>
                  <a:pt x="820" y="3206"/>
                  <a:pt x="827" y="3206"/>
                </a:cubicBezTo>
                <a:close/>
                <a:moveTo>
                  <a:pt x="1135" y="3206"/>
                </a:moveTo>
                <a:lnTo>
                  <a:pt x="1314" y="3206"/>
                </a:lnTo>
                <a:cubicBezTo>
                  <a:pt x="1321" y="3206"/>
                  <a:pt x="1327" y="3211"/>
                  <a:pt x="1327" y="3218"/>
                </a:cubicBezTo>
                <a:cubicBezTo>
                  <a:pt x="1327" y="3225"/>
                  <a:pt x="1321" y="3231"/>
                  <a:pt x="1314" y="3231"/>
                </a:cubicBezTo>
                <a:lnTo>
                  <a:pt x="1135" y="3231"/>
                </a:lnTo>
                <a:cubicBezTo>
                  <a:pt x="1128" y="3231"/>
                  <a:pt x="1122" y="3225"/>
                  <a:pt x="1122" y="3218"/>
                </a:cubicBezTo>
                <a:cubicBezTo>
                  <a:pt x="1122" y="3211"/>
                  <a:pt x="1128" y="3206"/>
                  <a:pt x="1135" y="3206"/>
                </a:cubicBezTo>
                <a:close/>
                <a:moveTo>
                  <a:pt x="1442" y="3206"/>
                </a:moveTo>
                <a:lnTo>
                  <a:pt x="1621" y="3206"/>
                </a:lnTo>
                <a:cubicBezTo>
                  <a:pt x="1628" y="3206"/>
                  <a:pt x="1634" y="3211"/>
                  <a:pt x="1634" y="3218"/>
                </a:cubicBezTo>
                <a:cubicBezTo>
                  <a:pt x="1634" y="3225"/>
                  <a:pt x="1628" y="3231"/>
                  <a:pt x="1621" y="3231"/>
                </a:cubicBezTo>
                <a:lnTo>
                  <a:pt x="1442" y="3231"/>
                </a:lnTo>
                <a:cubicBezTo>
                  <a:pt x="1435" y="3231"/>
                  <a:pt x="1429" y="3225"/>
                  <a:pt x="1429" y="3218"/>
                </a:cubicBezTo>
                <a:cubicBezTo>
                  <a:pt x="1429" y="3211"/>
                  <a:pt x="1435" y="3206"/>
                  <a:pt x="1442" y="3206"/>
                </a:cubicBezTo>
                <a:close/>
                <a:moveTo>
                  <a:pt x="1749" y="3206"/>
                </a:moveTo>
                <a:lnTo>
                  <a:pt x="1928" y="3206"/>
                </a:lnTo>
                <a:cubicBezTo>
                  <a:pt x="1935" y="3206"/>
                  <a:pt x="1941" y="3211"/>
                  <a:pt x="1941" y="3218"/>
                </a:cubicBezTo>
                <a:cubicBezTo>
                  <a:pt x="1941" y="3225"/>
                  <a:pt x="1935" y="3231"/>
                  <a:pt x="1928" y="3231"/>
                </a:cubicBezTo>
                <a:lnTo>
                  <a:pt x="1749" y="3231"/>
                </a:lnTo>
                <a:cubicBezTo>
                  <a:pt x="1742" y="3231"/>
                  <a:pt x="1736" y="3225"/>
                  <a:pt x="1736" y="3218"/>
                </a:cubicBezTo>
                <a:cubicBezTo>
                  <a:pt x="1736" y="3211"/>
                  <a:pt x="1742" y="3206"/>
                  <a:pt x="1749" y="3206"/>
                </a:cubicBezTo>
                <a:close/>
                <a:moveTo>
                  <a:pt x="2056" y="3206"/>
                </a:moveTo>
                <a:lnTo>
                  <a:pt x="2235" y="3206"/>
                </a:lnTo>
                <a:cubicBezTo>
                  <a:pt x="2242" y="3206"/>
                  <a:pt x="2248" y="3211"/>
                  <a:pt x="2248" y="3218"/>
                </a:cubicBezTo>
                <a:cubicBezTo>
                  <a:pt x="2248" y="3225"/>
                  <a:pt x="2242" y="3231"/>
                  <a:pt x="2235" y="3231"/>
                </a:cubicBezTo>
                <a:lnTo>
                  <a:pt x="2056" y="3231"/>
                </a:lnTo>
                <a:cubicBezTo>
                  <a:pt x="2049" y="3231"/>
                  <a:pt x="2043" y="3225"/>
                  <a:pt x="2043" y="3218"/>
                </a:cubicBezTo>
                <a:cubicBezTo>
                  <a:pt x="2043" y="3211"/>
                  <a:pt x="2049" y="3206"/>
                  <a:pt x="2056" y="3206"/>
                </a:cubicBezTo>
                <a:close/>
                <a:moveTo>
                  <a:pt x="2363" y="3206"/>
                </a:moveTo>
                <a:lnTo>
                  <a:pt x="2543" y="3206"/>
                </a:lnTo>
                <a:cubicBezTo>
                  <a:pt x="2550" y="3206"/>
                  <a:pt x="2555" y="3211"/>
                  <a:pt x="2555" y="3218"/>
                </a:cubicBezTo>
                <a:cubicBezTo>
                  <a:pt x="2555" y="3225"/>
                  <a:pt x="2550" y="3231"/>
                  <a:pt x="2543" y="3231"/>
                </a:cubicBezTo>
                <a:lnTo>
                  <a:pt x="2363" y="3231"/>
                </a:lnTo>
                <a:cubicBezTo>
                  <a:pt x="2356" y="3231"/>
                  <a:pt x="2351" y="3225"/>
                  <a:pt x="2351" y="3218"/>
                </a:cubicBezTo>
                <a:cubicBezTo>
                  <a:pt x="2351" y="3211"/>
                  <a:pt x="2356" y="3206"/>
                  <a:pt x="2363" y="3206"/>
                </a:cubicBezTo>
                <a:close/>
                <a:moveTo>
                  <a:pt x="2671" y="3206"/>
                </a:moveTo>
                <a:lnTo>
                  <a:pt x="2850" y="3206"/>
                </a:lnTo>
                <a:cubicBezTo>
                  <a:pt x="2857" y="3206"/>
                  <a:pt x="2863" y="3211"/>
                  <a:pt x="2863" y="3218"/>
                </a:cubicBezTo>
                <a:cubicBezTo>
                  <a:pt x="2863" y="3225"/>
                  <a:pt x="2857" y="3231"/>
                  <a:pt x="2850" y="3231"/>
                </a:cubicBezTo>
                <a:lnTo>
                  <a:pt x="2671" y="3231"/>
                </a:lnTo>
                <a:cubicBezTo>
                  <a:pt x="2664" y="3231"/>
                  <a:pt x="2658" y="3225"/>
                  <a:pt x="2658" y="3218"/>
                </a:cubicBezTo>
                <a:cubicBezTo>
                  <a:pt x="2658" y="3211"/>
                  <a:pt x="2664" y="3206"/>
                  <a:pt x="2671" y="3206"/>
                </a:cubicBezTo>
                <a:close/>
                <a:moveTo>
                  <a:pt x="2978" y="3206"/>
                </a:moveTo>
                <a:lnTo>
                  <a:pt x="3157" y="3206"/>
                </a:lnTo>
                <a:cubicBezTo>
                  <a:pt x="3164" y="3206"/>
                  <a:pt x="3170" y="3211"/>
                  <a:pt x="3170" y="3218"/>
                </a:cubicBezTo>
                <a:cubicBezTo>
                  <a:pt x="3170" y="3225"/>
                  <a:pt x="3164" y="3231"/>
                  <a:pt x="3157" y="3231"/>
                </a:cubicBezTo>
                <a:lnTo>
                  <a:pt x="2978" y="3231"/>
                </a:lnTo>
                <a:cubicBezTo>
                  <a:pt x="2971" y="3231"/>
                  <a:pt x="2965" y="3225"/>
                  <a:pt x="2965" y="3218"/>
                </a:cubicBezTo>
                <a:cubicBezTo>
                  <a:pt x="2965" y="3211"/>
                  <a:pt x="2971" y="3206"/>
                  <a:pt x="2978" y="3206"/>
                </a:cubicBezTo>
                <a:close/>
                <a:moveTo>
                  <a:pt x="3285" y="3206"/>
                </a:moveTo>
                <a:lnTo>
                  <a:pt x="3464" y="3206"/>
                </a:lnTo>
                <a:cubicBezTo>
                  <a:pt x="3471" y="3206"/>
                  <a:pt x="3477" y="3211"/>
                  <a:pt x="3477" y="3218"/>
                </a:cubicBezTo>
                <a:cubicBezTo>
                  <a:pt x="3477" y="3225"/>
                  <a:pt x="3471" y="3231"/>
                  <a:pt x="3464" y="3231"/>
                </a:cubicBezTo>
                <a:lnTo>
                  <a:pt x="3285" y="3231"/>
                </a:lnTo>
                <a:cubicBezTo>
                  <a:pt x="3278" y="3231"/>
                  <a:pt x="3272" y="3225"/>
                  <a:pt x="3272" y="3218"/>
                </a:cubicBezTo>
                <a:cubicBezTo>
                  <a:pt x="3272" y="3211"/>
                  <a:pt x="3278" y="3206"/>
                  <a:pt x="3285" y="3206"/>
                </a:cubicBezTo>
                <a:close/>
                <a:moveTo>
                  <a:pt x="3592" y="3206"/>
                </a:moveTo>
                <a:lnTo>
                  <a:pt x="3771" y="3206"/>
                </a:lnTo>
                <a:cubicBezTo>
                  <a:pt x="3778" y="3206"/>
                  <a:pt x="3784" y="3211"/>
                  <a:pt x="3784" y="3218"/>
                </a:cubicBezTo>
                <a:cubicBezTo>
                  <a:pt x="3784" y="3225"/>
                  <a:pt x="3778" y="3231"/>
                  <a:pt x="3771" y="3231"/>
                </a:cubicBezTo>
                <a:lnTo>
                  <a:pt x="3592" y="3231"/>
                </a:lnTo>
                <a:cubicBezTo>
                  <a:pt x="3585" y="3231"/>
                  <a:pt x="3579" y="3225"/>
                  <a:pt x="3579" y="3218"/>
                </a:cubicBezTo>
                <a:cubicBezTo>
                  <a:pt x="3579" y="3211"/>
                  <a:pt x="3585" y="3206"/>
                  <a:pt x="3592" y="3206"/>
                </a:cubicBezTo>
                <a:close/>
                <a:moveTo>
                  <a:pt x="3899" y="3206"/>
                </a:moveTo>
                <a:lnTo>
                  <a:pt x="3944" y="3206"/>
                </a:lnTo>
                <a:lnTo>
                  <a:pt x="3931" y="3218"/>
                </a:lnTo>
                <a:lnTo>
                  <a:pt x="3931" y="3084"/>
                </a:lnTo>
                <a:cubicBezTo>
                  <a:pt x="3931" y="3077"/>
                  <a:pt x="3937" y="3071"/>
                  <a:pt x="3944" y="3071"/>
                </a:cubicBezTo>
                <a:cubicBezTo>
                  <a:pt x="3951" y="3071"/>
                  <a:pt x="3957" y="3077"/>
                  <a:pt x="3957" y="3084"/>
                </a:cubicBezTo>
                <a:lnTo>
                  <a:pt x="3957" y="3218"/>
                </a:lnTo>
                <a:cubicBezTo>
                  <a:pt x="3957" y="3225"/>
                  <a:pt x="3951" y="3231"/>
                  <a:pt x="3944" y="3231"/>
                </a:cubicBezTo>
                <a:lnTo>
                  <a:pt x="3899" y="3231"/>
                </a:lnTo>
                <a:cubicBezTo>
                  <a:pt x="3892" y="3231"/>
                  <a:pt x="3887" y="3225"/>
                  <a:pt x="3887" y="3218"/>
                </a:cubicBezTo>
                <a:cubicBezTo>
                  <a:pt x="3887" y="3211"/>
                  <a:pt x="3892" y="3206"/>
                  <a:pt x="3899" y="3206"/>
                </a:cubicBezTo>
                <a:close/>
                <a:moveTo>
                  <a:pt x="3931" y="2956"/>
                </a:moveTo>
                <a:lnTo>
                  <a:pt x="3931" y="2776"/>
                </a:lnTo>
                <a:cubicBezTo>
                  <a:pt x="3931" y="2769"/>
                  <a:pt x="3937" y="2764"/>
                  <a:pt x="3944" y="2764"/>
                </a:cubicBezTo>
                <a:cubicBezTo>
                  <a:pt x="3951" y="2764"/>
                  <a:pt x="3957" y="2769"/>
                  <a:pt x="3957" y="2776"/>
                </a:cubicBezTo>
                <a:lnTo>
                  <a:pt x="3957" y="2956"/>
                </a:lnTo>
                <a:cubicBezTo>
                  <a:pt x="3957" y="2963"/>
                  <a:pt x="3951" y="2968"/>
                  <a:pt x="3944" y="2968"/>
                </a:cubicBezTo>
                <a:cubicBezTo>
                  <a:pt x="3937" y="2968"/>
                  <a:pt x="3931" y="2963"/>
                  <a:pt x="3931" y="2956"/>
                </a:cubicBezTo>
                <a:close/>
                <a:moveTo>
                  <a:pt x="3931" y="2648"/>
                </a:moveTo>
                <a:lnTo>
                  <a:pt x="3931" y="2469"/>
                </a:lnTo>
                <a:cubicBezTo>
                  <a:pt x="3931" y="2462"/>
                  <a:pt x="3937" y="2456"/>
                  <a:pt x="3944" y="2456"/>
                </a:cubicBezTo>
                <a:cubicBezTo>
                  <a:pt x="3951" y="2456"/>
                  <a:pt x="3957" y="2462"/>
                  <a:pt x="3957" y="2469"/>
                </a:cubicBezTo>
                <a:lnTo>
                  <a:pt x="3957" y="2648"/>
                </a:lnTo>
                <a:cubicBezTo>
                  <a:pt x="3957" y="2656"/>
                  <a:pt x="3951" y="2661"/>
                  <a:pt x="3944" y="2661"/>
                </a:cubicBezTo>
                <a:cubicBezTo>
                  <a:pt x="3937" y="2661"/>
                  <a:pt x="3931" y="2656"/>
                  <a:pt x="3931" y="2648"/>
                </a:cubicBezTo>
                <a:close/>
                <a:moveTo>
                  <a:pt x="3931" y="2341"/>
                </a:moveTo>
                <a:lnTo>
                  <a:pt x="3931" y="2162"/>
                </a:lnTo>
                <a:cubicBezTo>
                  <a:pt x="3931" y="2155"/>
                  <a:pt x="3937" y="2149"/>
                  <a:pt x="3944" y="2149"/>
                </a:cubicBezTo>
                <a:cubicBezTo>
                  <a:pt x="3951" y="2149"/>
                  <a:pt x="3957" y="2155"/>
                  <a:pt x="3957" y="2162"/>
                </a:cubicBezTo>
                <a:lnTo>
                  <a:pt x="3957" y="2341"/>
                </a:lnTo>
                <a:cubicBezTo>
                  <a:pt x="3957" y="2348"/>
                  <a:pt x="3951" y="2354"/>
                  <a:pt x="3944" y="2354"/>
                </a:cubicBezTo>
                <a:cubicBezTo>
                  <a:pt x="3937" y="2354"/>
                  <a:pt x="3931" y="2348"/>
                  <a:pt x="3931" y="2341"/>
                </a:cubicBezTo>
                <a:close/>
                <a:moveTo>
                  <a:pt x="3931" y="2034"/>
                </a:moveTo>
                <a:lnTo>
                  <a:pt x="3931" y="1855"/>
                </a:lnTo>
                <a:cubicBezTo>
                  <a:pt x="3931" y="1848"/>
                  <a:pt x="3937" y="1842"/>
                  <a:pt x="3944" y="1842"/>
                </a:cubicBezTo>
                <a:cubicBezTo>
                  <a:pt x="3951" y="1842"/>
                  <a:pt x="3957" y="1848"/>
                  <a:pt x="3957" y="1855"/>
                </a:cubicBezTo>
                <a:lnTo>
                  <a:pt x="3957" y="2034"/>
                </a:lnTo>
                <a:cubicBezTo>
                  <a:pt x="3957" y="2041"/>
                  <a:pt x="3951" y="2047"/>
                  <a:pt x="3944" y="2047"/>
                </a:cubicBezTo>
                <a:cubicBezTo>
                  <a:pt x="3937" y="2047"/>
                  <a:pt x="3931" y="2041"/>
                  <a:pt x="3931" y="2034"/>
                </a:cubicBezTo>
                <a:close/>
                <a:moveTo>
                  <a:pt x="3931" y="1727"/>
                </a:moveTo>
                <a:lnTo>
                  <a:pt x="3931" y="1548"/>
                </a:lnTo>
                <a:cubicBezTo>
                  <a:pt x="3931" y="1541"/>
                  <a:pt x="3937" y="1535"/>
                  <a:pt x="3944" y="1535"/>
                </a:cubicBezTo>
                <a:cubicBezTo>
                  <a:pt x="3951" y="1535"/>
                  <a:pt x="3957" y="1541"/>
                  <a:pt x="3957" y="1548"/>
                </a:cubicBezTo>
                <a:lnTo>
                  <a:pt x="3957" y="1727"/>
                </a:lnTo>
                <a:cubicBezTo>
                  <a:pt x="3957" y="1734"/>
                  <a:pt x="3951" y="1740"/>
                  <a:pt x="3944" y="1740"/>
                </a:cubicBezTo>
                <a:cubicBezTo>
                  <a:pt x="3937" y="1740"/>
                  <a:pt x="3931" y="1734"/>
                  <a:pt x="3931" y="1727"/>
                </a:cubicBezTo>
                <a:close/>
                <a:moveTo>
                  <a:pt x="3931" y="1420"/>
                </a:moveTo>
                <a:lnTo>
                  <a:pt x="3931" y="1240"/>
                </a:lnTo>
                <a:cubicBezTo>
                  <a:pt x="3931" y="1233"/>
                  <a:pt x="3937" y="1228"/>
                  <a:pt x="3944" y="1228"/>
                </a:cubicBezTo>
                <a:cubicBezTo>
                  <a:pt x="3951" y="1228"/>
                  <a:pt x="3957" y="1233"/>
                  <a:pt x="3957" y="1240"/>
                </a:cubicBezTo>
                <a:lnTo>
                  <a:pt x="3957" y="1420"/>
                </a:lnTo>
                <a:cubicBezTo>
                  <a:pt x="3957" y="1427"/>
                  <a:pt x="3951" y="1432"/>
                  <a:pt x="3944" y="1432"/>
                </a:cubicBezTo>
                <a:cubicBezTo>
                  <a:pt x="3937" y="1432"/>
                  <a:pt x="3931" y="1427"/>
                  <a:pt x="3931" y="1420"/>
                </a:cubicBezTo>
                <a:close/>
                <a:moveTo>
                  <a:pt x="3931" y="1112"/>
                </a:moveTo>
                <a:lnTo>
                  <a:pt x="3931" y="933"/>
                </a:lnTo>
                <a:cubicBezTo>
                  <a:pt x="3931" y="926"/>
                  <a:pt x="3937" y="920"/>
                  <a:pt x="3944" y="920"/>
                </a:cubicBezTo>
                <a:cubicBezTo>
                  <a:pt x="3951" y="920"/>
                  <a:pt x="3957" y="926"/>
                  <a:pt x="3957" y="933"/>
                </a:cubicBezTo>
                <a:lnTo>
                  <a:pt x="3957" y="1112"/>
                </a:lnTo>
                <a:cubicBezTo>
                  <a:pt x="3957" y="1120"/>
                  <a:pt x="3951" y="1125"/>
                  <a:pt x="3944" y="1125"/>
                </a:cubicBezTo>
                <a:cubicBezTo>
                  <a:pt x="3937" y="1125"/>
                  <a:pt x="3931" y="1120"/>
                  <a:pt x="3931" y="1112"/>
                </a:cubicBezTo>
                <a:close/>
                <a:moveTo>
                  <a:pt x="3931" y="805"/>
                </a:moveTo>
                <a:lnTo>
                  <a:pt x="3931" y="626"/>
                </a:lnTo>
                <a:cubicBezTo>
                  <a:pt x="3931" y="619"/>
                  <a:pt x="3937" y="613"/>
                  <a:pt x="3944" y="613"/>
                </a:cubicBezTo>
                <a:cubicBezTo>
                  <a:pt x="3951" y="613"/>
                  <a:pt x="3957" y="619"/>
                  <a:pt x="3957" y="626"/>
                </a:cubicBezTo>
                <a:lnTo>
                  <a:pt x="3957" y="805"/>
                </a:lnTo>
                <a:cubicBezTo>
                  <a:pt x="3957" y="812"/>
                  <a:pt x="3951" y="818"/>
                  <a:pt x="3944" y="818"/>
                </a:cubicBezTo>
                <a:cubicBezTo>
                  <a:pt x="3937" y="818"/>
                  <a:pt x="3931" y="812"/>
                  <a:pt x="3931" y="805"/>
                </a:cubicBezTo>
                <a:close/>
                <a:moveTo>
                  <a:pt x="3931" y="498"/>
                </a:moveTo>
                <a:lnTo>
                  <a:pt x="3931" y="319"/>
                </a:lnTo>
                <a:cubicBezTo>
                  <a:pt x="3931" y="312"/>
                  <a:pt x="3937" y="306"/>
                  <a:pt x="3944" y="306"/>
                </a:cubicBezTo>
                <a:cubicBezTo>
                  <a:pt x="3951" y="306"/>
                  <a:pt x="3957" y="312"/>
                  <a:pt x="3957" y="319"/>
                </a:cubicBezTo>
                <a:lnTo>
                  <a:pt x="3957" y="498"/>
                </a:lnTo>
                <a:cubicBezTo>
                  <a:pt x="3957" y="505"/>
                  <a:pt x="3951" y="511"/>
                  <a:pt x="3944" y="511"/>
                </a:cubicBezTo>
                <a:cubicBezTo>
                  <a:pt x="3937" y="511"/>
                  <a:pt x="3931" y="505"/>
                  <a:pt x="3931" y="498"/>
                </a:cubicBezTo>
                <a:close/>
                <a:moveTo>
                  <a:pt x="3931" y="191"/>
                </a:moveTo>
                <a:lnTo>
                  <a:pt x="3931" y="13"/>
                </a:lnTo>
                <a:lnTo>
                  <a:pt x="3944" y="26"/>
                </a:lnTo>
                <a:lnTo>
                  <a:pt x="3942" y="26"/>
                </a:lnTo>
                <a:cubicBezTo>
                  <a:pt x="3935" y="26"/>
                  <a:pt x="3930" y="20"/>
                  <a:pt x="3930" y="13"/>
                </a:cubicBezTo>
                <a:cubicBezTo>
                  <a:pt x="3930" y="6"/>
                  <a:pt x="3935" y="0"/>
                  <a:pt x="3942" y="0"/>
                </a:cubicBezTo>
                <a:lnTo>
                  <a:pt x="3944" y="0"/>
                </a:lnTo>
                <a:cubicBezTo>
                  <a:pt x="3951" y="0"/>
                  <a:pt x="3957" y="6"/>
                  <a:pt x="3957" y="13"/>
                </a:cubicBezTo>
                <a:lnTo>
                  <a:pt x="3957" y="191"/>
                </a:lnTo>
                <a:cubicBezTo>
                  <a:pt x="3957" y="198"/>
                  <a:pt x="3951" y="204"/>
                  <a:pt x="3944" y="204"/>
                </a:cubicBezTo>
                <a:cubicBezTo>
                  <a:pt x="3937" y="204"/>
                  <a:pt x="3931" y="198"/>
                  <a:pt x="3931" y="191"/>
                </a:cubicBezTo>
                <a:close/>
                <a:moveTo>
                  <a:pt x="3814" y="26"/>
                </a:moveTo>
                <a:lnTo>
                  <a:pt x="3635" y="26"/>
                </a:lnTo>
                <a:cubicBezTo>
                  <a:pt x="3628" y="26"/>
                  <a:pt x="3622" y="20"/>
                  <a:pt x="3622" y="13"/>
                </a:cubicBezTo>
                <a:cubicBezTo>
                  <a:pt x="3622" y="6"/>
                  <a:pt x="3628" y="0"/>
                  <a:pt x="3635" y="0"/>
                </a:cubicBezTo>
                <a:lnTo>
                  <a:pt x="3814" y="0"/>
                </a:lnTo>
                <a:cubicBezTo>
                  <a:pt x="3821" y="0"/>
                  <a:pt x="3827" y="6"/>
                  <a:pt x="3827" y="13"/>
                </a:cubicBezTo>
                <a:cubicBezTo>
                  <a:pt x="3827" y="20"/>
                  <a:pt x="3821" y="26"/>
                  <a:pt x="3814" y="26"/>
                </a:cubicBezTo>
                <a:close/>
                <a:moveTo>
                  <a:pt x="3507" y="26"/>
                </a:moveTo>
                <a:lnTo>
                  <a:pt x="3328" y="26"/>
                </a:lnTo>
                <a:cubicBezTo>
                  <a:pt x="3321" y="26"/>
                  <a:pt x="3315" y="20"/>
                  <a:pt x="3315" y="13"/>
                </a:cubicBezTo>
                <a:cubicBezTo>
                  <a:pt x="3315" y="6"/>
                  <a:pt x="3321" y="0"/>
                  <a:pt x="3328" y="0"/>
                </a:cubicBezTo>
                <a:lnTo>
                  <a:pt x="3507" y="0"/>
                </a:lnTo>
                <a:cubicBezTo>
                  <a:pt x="3514" y="0"/>
                  <a:pt x="3520" y="6"/>
                  <a:pt x="3520" y="13"/>
                </a:cubicBezTo>
                <a:cubicBezTo>
                  <a:pt x="3520" y="20"/>
                  <a:pt x="3514" y="26"/>
                  <a:pt x="3507" y="26"/>
                </a:cubicBezTo>
                <a:close/>
                <a:moveTo>
                  <a:pt x="3200" y="26"/>
                </a:moveTo>
                <a:lnTo>
                  <a:pt x="3021" y="26"/>
                </a:lnTo>
                <a:cubicBezTo>
                  <a:pt x="3014" y="26"/>
                  <a:pt x="3008" y="20"/>
                  <a:pt x="3008" y="13"/>
                </a:cubicBezTo>
                <a:cubicBezTo>
                  <a:pt x="3008" y="6"/>
                  <a:pt x="3014" y="0"/>
                  <a:pt x="3021" y="0"/>
                </a:cubicBezTo>
                <a:lnTo>
                  <a:pt x="3200" y="0"/>
                </a:lnTo>
                <a:cubicBezTo>
                  <a:pt x="3207" y="0"/>
                  <a:pt x="3213" y="6"/>
                  <a:pt x="3213" y="13"/>
                </a:cubicBezTo>
                <a:cubicBezTo>
                  <a:pt x="3213" y="20"/>
                  <a:pt x="3207" y="26"/>
                  <a:pt x="3200" y="26"/>
                </a:cubicBezTo>
                <a:close/>
                <a:moveTo>
                  <a:pt x="2893" y="26"/>
                </a:moveTo>
                <a:lnTo>
                  <a:pt x="2714" y="26"/>
                </a:lnTo>
                <a:cubicBezTo>
                  <a:pt x="2706" y="26"/>
                  <a:pt x="2701" y="20"/>
                  <a:pt x="2701" y="13"/>
                </a:cubicBezTo>
                <a:cubicBezTo>
                  <a:pt x="2701" y="6"/>
                  <a:pt x="2706" y="0"/>
                  <a:pt x="2714" y="0"/>
                </a:cubicBezTo>
                <a:lnTo>
                  <a:pt x="2893" y="0"/>
                </a:lnTo>
                <a:cubicBezTo>
                  <a:pt x="2900" y="0"/>
                  <a:pt x="2906" y="6"/>
                  <a:pt x="2906" y="13"/>
                </a:cubicBezTo>
                <a:cubicBezTo>
                  <a:pt x="2906" y="20"/>
                  <a:pt x="2900" y="26"/>
                  <a:pt x="2893" y="26"/>
                </a:cubicBezTo>
                <a:close/>
                <a:moveTo>
                  <a:pt x="2586" y="26"/>
                </a:moveTo>
                <a:lnTo>
                  <a:pt x="2406" y="26"/>
                </a:lnTo>
                <a:cubicBezTo>
                  <a:pt x="2399" y="26"/>
                  <a:pt x="2394" y="20"/>
                  <a:pt x="2394" y="13"/>
                </a:cubicBezTo>
                <a:cubicBezTo>
                  <a:pt x="2394" y="6"/>
                  <a:pt x="2399" y="0"/>
                  <a:pt x="2406" y="0"/>
                </a:cubicBezTo>
                <a:lnTo>
                  <a:pt x="2586" y="0"/>
                </a:lnTo>
                <a:cubicBezTo>
                  <a:pt x="2593" y="0"/>
                  <a:pt x="2598" y="6"/>
                  <a:pt x="2598" y="13"/>
                </a:cubicBezTo>
                <a:cubicBezTo>
                  <a:pt x="2598" y="20"/>
                  <a:pt x="2593" y="26"/>
                  <a:pt x="2586" y="26"/>
                </a:cubicBezTo>
                <a:close/>
                <a:moveTo>
                  <a:pt x="2278" y="26"/>
                </a:moveTo>
                <a:lnTo>
                  <a:pt x="2099" y="26"/>
                </a:lnTo>
                <a:cubicBezTo>
                  <a:pt x="2092" y="26"/>
                  <a:pt x="2086" y="20"/>
                  <a:pt x="2086" y="13"/>
                </a:cubicBezTo>
                <a:cubicBezTo>
                  <a:pt x="2086" y="6"/>
                  <a:pt x="2092" y="0"/>
                  <a:pt x="2099" y="0"/>
                </a:cubicBezTo>
                <a:lnTo>
                  <a:pt x="2278" y="0"/>
                </a:lnTo>
                <a:cubicBezTo>
                  <a:pt x="2285" y="0"/>
                  <a:pt x="2291" y="6"/>
                  <a:pt x="2291" y="13"/>
                </a:cubicBezTo>
                <a:cubicBezTo>
                  <a:pt x="2291" y="20"/>
                  <a:pt x="2285" y="26"/>
                  <a:pt x="2278" y="26"/>
                </a:cubicBezTo>
                <a:close/>
                <a:moveTo>
                  <a:pt x="1971" y="26"/>
                </a:moveTo>
                <a:lnTo>
                  <a:pt x="1792" y="26"/>
                </a:lnTo>
                <a:cubicBezTo>
                  <a:pt x="1785" y="26"/>
                  <a:pt x="1779" y="20"/>
                  <a:pt x="1779" y="13"/>
                </a:cubicBezTo>
                <a:cubicBezTo>
                  <a:pt x="1779" y="6"/>
                  <a:pt x="1785" y="0"/>
                  <a:pt x="1792" y="0"/>
                </a:cubicBezTo>
                <a:lnTo>
                  <a:pt x="1971" y="0"/>
                </a:lnTo>
                <a:cubicBezTo>
                  <a:pt x="1978" y="0"/>
                  <a:pt x="1984" y="6"/>
                  <a:pt x="1984" y="13"/>
                </a:cubicBezTo>
                <a:cubicBezTo>
                  <a:pt x="1984" y="20"/>
                  <a:pt x="1978" y="26"/>
                  <a:pt x="1971" y="26"/>
                </a:cubicBezTo>
                <a:close/>
                <a:moveTo>
                  <a:pt x="1664" y="26"/>
                </a:moveTo>
                <a:lnTo>
                  <a:pt x="1485" y="26"/>
                </a:lnTo>
                <a:cubicBezTo>
                  <a:pt x="1478" y="26"/>
                  <a:pt x="1472" y="20"/>
                  <a:pt x="1472" y="13"/>
                </a:cubicBezTo>
                <a:cubicBezTo>
                  <a:pt x="1472" y="6"/>
                  <a:pt x="1478" y="0"/>
                  <a:pt x="1485" y="0"/>
                </a:cubicBezTo>
                <a:lnTo>
                  <a:pt x="1664" y="0"/>
                </a:lnTo>
                <a:cubicBezTo>
                  <a:pt x="1671" y="0"/>
                  <a:pt x="1677" y="6"/>
                  <a:pt x="1677" y="13"/>
                </a:cubicBezTo>
                <a:cubicBezTo>
                  <a:pt x="1677" y="20"/>
                  <a:pt x="1671" y="26"/>
                  <a:pt x="1664" y="26"/>
                </a:cubicBezTo>
                <a:close/>
                <a:moveTo>
                  <a:pt x="1357" y="26"/>
                </a:moveTo>
                <a:lnTo>
                  <a:pt x="1178" y="26"/>
                </a:lnTo>
                <a:cubicBezTo>
                  <a:pt x="1170" y="26"/>
                  <a:pt x="1165" y="20"/>
                  <a:pt x="1165" y="13"/>
                </a:cubicBezTo>
                <a:cubicBezTo>
                  <a:pt x="1165" y="6"/>
                  <a:pt x="1170" y="0"/>
                  <a:pt x="1178" y="0"/>
                </a:cubicBezTo>
                <a:lnTo>
                  <a:pt x="1357" y="0"/>
                </a:lnTo>
                <a:cubicBezTo>
                  <a:pt x="1364" y="0"/>
                  <a:pt x="1370" y="6"/>
                  <a:pt x="1370" y="13"/>
                </a:cubicBezTo>
                <a:cubicBezTo>
                  <a:pt x="1370" y="20"/>
                  <a:pt x="1364" y="26"/>
                  <a:pt x="1357" y="26"/>
                </a:cubicBezTo>
                <a:close/>
                <a:moveTo>
                  <a:pt x="1050" y="26"/>
                </a:moveTo>
                <a:lnTo>
                  <a:pt x="870" y="26"/>
                </a:lnTo>
                <a:cubicBezTo>
                  <a:pt x="863" y="26"/>
                  <a:pt x="858" y="20"/>
                  <a:pt x="858" y="13"/>
                </a:cubicBezTo>
                <a:cubicBezTo>
                  <a:pt x="858" y="6"/>
                  <a:pt x="863" y="0"/>
                  <a:pt x="870" y="0"/>
                </a:cubicBezTo>
                <a:lnTo>
                  <a:pt x="1050" y="0"/>
                </a:lnTo>
                <a:cubicBezTo>
                  <a:pt x="1057" y="0"/>
                  <a:pt x="1062" y="6"/>
                  <a:pt x="1062" y="13"/>
                </a:cubicBezTo>
                <a:cubicBezTo>
                  <a:pt x="1062" y="20"/>
                  <a:pt x="1057" y="26"/>
                  <a:pt x="1050" y="26"/>
                </a:cubicBezTo>
                <a:close/>
                <a:moveTo>
                  <a:pt x="742" y="26"/>
                </a:moveTo>
                <a:lnTo>
                  <a:pt x="563" y="26"/>
                </a:lnTo>
                <a:cubicBezTo>
                  <a:pt x="556" y="26"/>
                  <a:pt x="550" y="20"/>
                  <a:pt x="550" y="13"/>
                </a:cubicBezTo>
                <a:cubicBezTo>
                  <a:pt x="550" y="6"/>
                  <a:pt x="556" y="0"/>
                  <a:pt x="563" y="0"/>
                </a:cubicBezTo>
                <a:lnTo>
                  <a:pt x="742" y="0"/>
                </a:lnTo>
                <a:cubicBezTo>
                  <a:pt x="749" y="0"/>
                  <a:pt x="755" y="6"/>
                  <a:pt x="755" y="13"/>
                </a:cubicBezTo>
                <a:cubicBezTo>
                  <a:pt x="755" y="20"/>
                  <a:pt x="749" y="26"/>
                  <a:pt x="742" y="26"/>
                </a:cubicBezTo>
                <a:close/>
                <a:moveTo>
                  <a:pt x="435" y="26"/>
                </a:moveTo>
                <a:lnTo>
                  <a:pt x="256" y="26"/>
                </a:lnTo>
                <a:cubicBezTo>
                  <a:pt x="249" y="26"/>
                  <a:pt x="243" y="20"/>
                  <a:pt x="243" y="13"/>
                </a:cubicBezTo>
                <a:cubicBezTo>
                  <a:pt x="243" y="6"/>
                  <a:pt x="249" y="0"/>
                  <a:pt x="256" y="0"/>
                </a:cubicBezTo>
                <a:lnTo>
                  <a:pt x="435" y="0"/>
                </a:lnTo>
                <a:cubicBezTo>
                  <a:pt x="442" y="0"/>
                  <a:pt x="448" y="6"/>
                  <a:pt x="448" y="13"/>
                </a:cubicBezTo>
                <a:cubicBezTo>
                  <a:pt x="448" y="20"/>
                  <a:pt x="442" y="26"/>
                  <a:pt x="435" y="26"/>
                </a:cubicBezTo>
                <a:close/>
                <a:moveTo>
                  <a:pt x="128" y="26"/>
                </a:moveTo>
                <a:lnTo>
                  <a:pt x="13" y="26"/>
                </a:lnTo>
                <a:cubicBezTo>
                  <a:pt x="6" y="26"/>
                  <a:pt x="0" y="20"/>
                  <a:pt x="0" y="13"/>
                </a:cubicBezTo>
                <a:cubicBezTo>
                  <a:pt x="0" y="6"/>
                  <a:pt x="6" y="0"/>
                  <a:pt x="13" y="0"/>
                </a:cubicBezTo>
                <a:lnTo>
                  <a:pt x="128" y="0"/>
                </a:lnTo>
                <a:cubicBezTo>
                  <a:pt x="135" y="0"/>
                  <a:pt x="141" y="6"/>
                  <a:pt x="141" y="13"/>
                </a:cubicBezTo>
                <a:cubicBezTo>
                  <a:pt x="141" y="20"/>
                  <a:pt x="135" y="26"/>
                  <a:pt x="128" y="26"/>
                </a:cubicBezTo>
                <a:close/>
              </a:path>
            </a:pathLst>
          </a:custGeom>
          <a:solidFill>
            <a:srgbClr val="3475cd"/>
          </a:solidFill>
          <a:ln w="7920">
            <a:solidFill>
              <a:srgbClr val="3475c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1898"/>
          <p:cNvSpPr/>
          <p:nvPr/>
        </p:nvSpPr>
        <p:spPr>
          <a:xfrm>
            <a:off x="1063800" y="3951360"/>
            <a:ext cx="488880" cy="973080"/>
          </a:xfrm>
          <a:custGeom>
            <a:avLst/>
            <a:gdLst>
              <a:gd name="textAreaLeft" fmla="*/ 0 w 488880"/>
              <a:gd name="textAreaRight" fmla="*/ 489240 w 48888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308" h="613">
                <a:moveTo>
                  <a:pt x="242" y="396"/>
                </a:moveTo>
                <a:lnTo>
                  <a:pt x="184" y="507"/>
                </a:lnTo>
                <a:lnTo>
                  <a:pt x="162" y="543"/>
                </a:lnTo>
                <a:lnTo>
                  <a:pt x="138" y="577"/>
                </a:lnTo>
                <a:lnTo>
                  <a:pt x="126" y="592"/>
                </a:lnTo>
                <a:lnTo>
                  <a:pt x="115" y="604"/>
                </a:lnTo>
                <a:lnTo>
                  <a:pt x="110" y="608"/>
                </a:lnTo>
                <a:lnTo>
                  <a:pt x="105" y="610"/>
                </a:lnTo>
                <a:lnTo>
                  <a:pt x="100" y="613"/>
                </a:lnTo>
                <a:lnTo>
                  <a:pt x="94" y="613"/>
                </a:lnTo>
                <a:lnTo>
                  <a:pt x="87" y="613"/>
                </a:lnTo>
                <a:lnTo>
                  <a:pt x="80" y="610"/>
                </a:lnTo>
                <a:lnTo>
                  <a:pt x="73" y="608"/>
                </a:lnTo>
                <a:lnTo>
                  <a:pt x="67" y="604"/>
                </a:lnTo>
                <a:lnTo>
                  <a:pt x="55" y="592"/>
                </a:lnTo>
                <a:lnTo>
                  <a:pt x="43" y="577"/>
                </a:lnTo>
                <a:lnTo>
                  <a:pt x="21" y="546"/>
                </a:lnTo>
                <a:lnTo>
                  <a:pt x="0" y="517"/>
                </a:lnTo>
                <a:lnTo>
                  <a:pt x="0" y="516"/>
                </a:lnTo>
                <a:lnTo>
                  <a:pt x="87" y="242"/>
                </a:lnTo>
                <a:lnTo>
                  <a:pt x="92" y="226"/>
                </a:lnTo>
                <a:lnTo>
                  <a:pt x="97" y="212"/>
                </a:lnTo>
                <a:lnTo>
                  <a:pt x="102" y="197"/>
                </a:lnTo>
                <a:lnTo>
                  <a:pt x="109" y="183"/>
                </a:lnTo>
                <a:lnTo>
                  <a:pt x="159" y="88"/>
                </a:lnTo>
                <a:lnTo>
                  <a:pt x="170" y="70"/>
                </a:lnTo>
                <a:lnTo>
                  <a:pt x="180" y="54"/>
                </a:lnTo>
                <a:lnTo>
                  <a:pt x="191" y="39"/>
                </a:lnTo>
                <a:lnTo>
                  <a:pt x="200" y="28"/>
                </a:lnTo>
                <a:lnTo>
                  <a:pt x="210" y="17"/>
                </a:lnTo>
                <a:lnTo>
                  <a:pt x="221" y="11"/>
                </a:lnTo>
                <a:lnTo>
                  <a:pt x="231" y="4"/>
                </a:lnTo>
                <a:lnTo>
                  <a:pt x="241" y="1"/>
                </a:lnTo>
                <a:lnTo>
                  <a:pt x="250" y="0"/>
                </a:lnTo>
                <a:lnTo>
                  <a:pt x="259" y="1"/>
                </a:lnTo>
                <a:lnTo>
                  <a:pt x="267" y="4"/>
                </a:lnTo>
                <a:lnTo>
                  <a:pt x="275" y="9"/>
                </a:lnTo>
                <a:lnTo>
                  <a:pt x="281" y="17"/>
                </a:lnTo>
                <a:lnTo>
                  <a:pt x="288" y="28"/>
                </a:lnTo>
                <a:lnTo>
                  <a:pt x="294" y="41"/>
                </a:lnTo>
                <a:lnTo>
                  <a:pt x="299" y="55"/>
                </a:lnTo>
                <a:lnTo>
                  <a:pt x="302" y="71"/>
                </a:lnTo>
                <a:lnTo>
                  <a:pt x="305" y="90"/>
                </a:lnTo>
                <a:lnTo>
                  <a:pt x="306" y="109"/>
                </a:lnTo>
                <a:lnTo>
                  <a:pt x="308" y="129"/>
                </a:lnTo>
                <a:lnTo>
                  <a:pt x="306" y="151"/>
                </a:lnTo>
                <a:lnTo>
                  <a:pt x="305" y="173"/>
                </a:lnTo>
                <a:lnTo>
                  <a:pt x="302" y="195"/>
                </a:lnTo>
                <a:lnTo>
                  <a:pt x="300" y="219"/>
                </a:lnTo>
                <a:lnTo>
                  <a:pt x="294" y="242"/>
                </a:lnTo>
                <a:lnTo>
                  <a:pt x="290" y="265"/>
                </a:lnTo>
                <a:lnTo>
                  <a:pt x="284" y="288"/>
                </a:lnTo>
                <a:lnTo>
                  <a:pt x="277" y="311"/>
                </a:lnTo>
                <a:lnTo>
                  <a:pt x="269" y="333"/>
                </a:lnTo>
                <a:lnTo>
                  <a:pt x="262" y="355"/>
                </a:lnTo>
                <a:lnTo>
                  <a:pt x="252" y="375"/>
                </a:lnTo>
                <a:lnTo>
                  <a:pt x="242" y="396"/>
                </a:lnTo>
                <a:close/>
              </a:path>
            </a:pathLst>
          </a:custGeom>
          <a:solidFill>
            <a:srgbClr val="75c5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1899"/>
          <p:cNvSpPr/>
          <p:nvPr/>
        </p:nvSpPr>
        <p:spPr>
          <a:xfrm>
            <a:off x="1063800" y="3951360"/>
            <a:ext cx="488880" cy="973080"/>
          </a:xfrm>
          <a:custGeom>
            <a:avLst/>
            <a:gdLst>
              <a:gd name="textAreaLeft" fmla="*/ 0 w 488880"/>
              <a:gd name="textAreaRight" fmla="*/ 489240 w 48888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308" h="613">
                <a:moveTo>
                  <a:pt x="242" y="396"/>
                </a:moveTo>
                <a:lnTo>
                  <a:pt x="184" y="507"/>
                </a:lnTo>
                <a:lnTo>
                  <a:pt x="162" y="543"/>
                </a:lnTo>
                <a:lnTo>
                  <a:pt x="138" y="577"/>
                </a:lnTo>
                <a:lnTo>
                  <a:pt x="126" y="592"/>
                </a:lnTo>
                <a:lnTo>
                  <a:pt x="115" y="604"/>
                </a:lnTo>
                <a:lnTo>
                  <a:pt x="110" y="608"/>
                </a:lnTo>
                <a:lnTo>
                  <a:pt x="105" y="610"/>
                </a:lnTo>
                <a:lnTo>
                  <a:pt x="100" y="613"/>
                </a:lnTo>
                <a:lnTo>
                  <a:pt x="94" y="613"/>
                </a:lnTo>
                <a:lnTo>
                  <a:pt x="87" y="613"/>
                </a:lnTo>
                <a:lnTo>
                  <a:pt x="80" y="610"/>
                </a:lnTo>
                <a:lnTo>
                  <a:pt x="73" y="608"/>
                </a:lnTo>
                <a:lnTo>
                  <a:pt x="67" y="604"/>
                </a:lnTo>
                <a:lnTo>
                  <a:pt x="55" y="592"/>
                </a:lnTo>
                <a:lnTo>
                  <a:pt x="43" y="577"/>
                </a:lnTo>
                <a:lnTo>
                  <a:pt x="21" y="546"/>
                </a:lnTo>
                <a:lnTo>
                  <a:pt x="0" y="517"/>
                </a:lnTo>
                <a:lnTo>
                  <a:pt x="0" y="516"/>
                </a:lnTo>
                <a:lnTo>
                  <a:pt x="87" y="242"/>
                </a:lnTo>
                <a:lnTo>
                  <a:pt x="92" y="226"/>
                </a:lnTo>
                <a:lnTo>
                  <a:pt x="97" y="212"/>
                </a:lnTo>
                <a:lnTo>
                  <a:pt x="102" y="197"/>
                </a:lnTo>
                <a:lnTo>
                  <a:pt x="109" y="183"/>
                </a:lnTo>
                <a:lnTo>
                  <a:pt x="159" y="88"/>
                </a:lnTo>
                <a:lnTo>
                  <a:pt x="170" y="70"/>
                </a:lnTo>
                <a:lnTo>
                  <a:pt x="180" y="54"/>
                </a:lnTo>
                <a:lnTo>
                  <a:pt x="191" y="39"/>
                </a:lnTo>
                <a:lnTo>
                  <a:pt x="200" y="28"/>
                </a:lnTo>
                <a:lnTo>
                  <a:pt x="210" y="17"/>
                </a:lnTo>
                <a:lnTo>
                  <a:pt x="221" y="11"/>
                </a:lnTo>
                <a:lnTo>
                  <a:pt x="231" y="4"/>
                </a:lnTo>
                <a:lnTo>
                  <a:pt x="241" y="1"/>
                </a:lnTo>
                <a:lnTo>
                  <a:pt x="250" y="0"/>
                </a:lnTo>
                <a:lnTo>
                  <a:pt x="259" y="1"/>
                </a:lnTo>
                <a:lnTo>
                  <a:pt x="267" y="4"/>
                </a:lnTo>
                <a:lnTo>
                  <a:pt x="275" y="9"/>
                </a:lnTo>
                <a:lnTo>
                  <a:pt x="281" y="17"/>
                </a:lnTo>
                <a:lnTo>
                  <a:pt x="288" y="28"/>
                </a:lnTo>
                <a:lnTo>
                  <a:pt x="294" y="41"/>
                </a:lnTo>
                <a:lnTo>
                  <a:pt x="299" y="55"/>
                </a:lnTo>
                <a:lnTo>
                  <a:pt x="302" y="71"/>
                </a:lnTo>
                <a:lnTo>
                  <a:pt x="305" y="90"/>
                </a:lnTo>
                <a:lnTo>
                  <a:pt x="306" y="109"/>
                </a:lnTo>
                <a:lnTo>
                  <a:pt x="308" y="129"/>
                </a:lnTo>
                <a:lnTo>
                  <a:pt x="306" y="151"/>
                </a:lnTo>
                <a:lnTo>
                  <a:pt x="305" y="173"/>
                </a:lnTo>
                <a:lnTo>
                  <a:pt x="302" y="195"/>
                </a:lnTo>
                <a:lnTo>
                  <a:pt x="300" y="219"/>
                </a:lnTo>
                <a:lnTo>
                  <a:pt x="294" y="242"/>
                </a:lnTo>
                <a:lnTo>
                  <a:pt x="290" y="265"/>
                </a:lnTo>
                <a:lnTo>
                  <a:pt x="284" y="288"/>
                </a:lnTo>
                <a:lnTo>
                  <a:pt x="277" y="311"/>
                </a:lnTo>
                <a:lnTo>
                  <a:pt x="269" y="333"/>
                </a:lnTo>
                <a:lnTo>
                  <a:pt x="262" y="355"/>
                </a:lnTo>
                <a:lnTo>
                  <a:pt x="252" y="375"/>
                </a:lnTo>
                <a:lnTo>
                  <a:pt x="242" y="396"/>
                </a:lnTo>
                <a:close/>
              </a:path>
            </a:pathLst>
          </a:custGeom>
          <a:noFill/>
          <a:ln cap="rnd"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900"/>
          <p:cNvSpPr/>
          <p:nvPr/>
        </p:nvSpPr>
        <p:spPr>
          <a:xfrm>
            <a:off x="4716360" y="2060640"/>
            <a:ext cx="416160" cy="322200"/>
          </a:xfrm>
          <a:prstGeom prst="rect">
            <a:avLst/>
          </a:pr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1984"/>
          <p:cNvSpPr/>
          <p:nvPr/>
        </p:nvSpPr>
        <p:spPr>
          <a:xfrm>
            <a:off x="534960" y="4051440"/>
            <a:ext cx="120600" cy="123840"/>
          </a:xfrm>
          <a:custGeom>
            <a:avLst/>
            <a:gdLst>
              <a:gd name="textAreaLeft" fmla="*/ 0 w 120600"/>
              <a:gd name="textAreaRight" fmla="*/ 120960 w 12060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6" h="78">
                <a:moveTo>
                  <a:pt x="4" y="0"/>
                </a:moveTo>
                <a:lnTo>
                  <a:pt x="76" y="4"/>
                </a:lnTo>
                <a:lnTo>
                  <a:pt x="72" y="78"/>
                </a:lnTo>
                <a:lnTo>
                  <a:pt x="0" y="74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1985"/>
          <p:cNvSpPr/>
          <p:nvPr/>
        </p:nvSpPr>
        <p:spPr>
          <a:xfrm>
            <a:off x="534960" y="4051440"/>
            <a:ext cx="120600" cy="123840"/>
          </a:xfrm>
          <a:custGeom>
            <a:avLst/>
            <a:gdLst>
              <a:gd name="textAreaLeft" fmla="*/ 0 w 120600"/>
              <a:gd name="textAreaRight" fmla="*/ 120960 w 12060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6" h="78">
                <a:moveTo>
                  <a:pt x="4" y="0"/>
                </a:moveTo>
                <a:lnTo>
                  <a:pt x="76" y="4"/>
                </a:lnTo>
                <a:lnTo>
                  <a:pt x="72" y="78"/>
                </a:lnTo>
                <a:lnTo>
                  <a:pt x="0" y="74"/>
                </a:lnTo>
                <a:lnTo>
                  <a:pt x="4" y="0"/>
                </a:lnTo>
                <a:close/>
              </a:path>
            </a:pathLst>
          </a:custGeom>
          <a:noFill/>
          <a:ln cap="rnd" w="1440">
            <a:solidFill>
              <a:srgbClr val="da25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986"/>
          <p:cNvSpPr/>
          <p:nvPr/>
        </p:nvSpPr>
        <p:spPr>
          <a:xfrm rot="180000">
            <a:off x="573480" y="40654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1f1a17"/>
                </a:solidFill>
                <a:latin typeface="Calibri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987"/>
          <p:cNvSpPr/>
          <p:nvPr/>
        </p:nvSpPr>
        <p:spPr>
          <a:xfrm rot="180000">
            <a:off x="618120" y="40654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1f1a17"/>
                </a:solidFill>
                <a:latin typeface="Calibri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992"/>
          <p:cNvSpPr/>
          <p:nvPr/>
        </p:nvSpPr>
        <p:spPr>
          <a:xfrm>
            <a:off x="4730760" y="2133720"/>
            <a:ext cx="32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f1a17"/>
                </a:solidFill>
                <a:latin typeface="Calibri"/>
              </a:rPr>
              <a:t>Ферм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993"/>
          <p:cNvSpPr/>
          <p:nvPr/>
        </p:nvSpPr>
        <p:spPr>
          <a:xfrm>
            <a:off x="1213200" y="4359240"/>
            <a:ext cx="27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f1a17"/>
                </a:solidFill>
                <a:latin typeface="Calibri"/>
              </a:rPr>
              <a:t>ПРУД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1994"/>
          <p:cNvSpPr/>
          <p:nvPr/>
        </p:nvSpPr>
        <p:spPr>
          <a:xfrm>
            <a:off x="1457280" y="2639880"/>
            <a:ext cx="546120" cy="1303560"/>
          </a:xfrm>
          <a:custGeom>
            <a:avLst/>
            <a:gdLst>
              <a:gd name="textAreaLeft" fmla="*/ 0 w 546120"/>
              <a:gd name="textAreaRight" fmla="*/ 546480 w 546120"/>
              <a:gd name="textAreaTop" fmla="*/ 0 h 1303560"/>
              <a:gd name="textAreaBottom" fmla="*/ 1303560 h 1303560"/>
            </a:gdLst>
            <a:ahLst/>
            <a:rect l="textAreaLeft" t="textAreaTop" r="textAreaRight" b="textAreaBottom"/>
            <a:pathLst>
              <a:path w="344" h="821">
                <a:moveTo>
                  <a:pt x="189" y="380"/>
                </a:moveTo>
                <a:lnTo>
                  <a:pt x="189" y="391"/>
                </a:lnTo>
                <a:lnTo>
                  <a:pt x="185" y="391"/>
                </a:lnTo>
                <a:lnTo>
                  <a:pt x="181" y="391"/>
                </a:lnTo>
                <a:lnTo>
                  <a:pt x="177" y="392"/>
                </a:lnTo>
                <a:lnTo>
                  <a:pt x="173" y="392"/>
                </a:lnTo>
                <a:lnTo>
                  <a:pt x="170" y="392"/>
                </a:lnTo>
                <a:lnTo>
                  <a:pt x="166" y="393"/>
                </a:lnTo>
                <a:lnTo>
                  <a:pt x="162" y="393"/>
                </a:lnTo>
                <a:lnTo>
                  <a:pt x="160" y="395"/>
                </a:lnTo>
                <a:lnTo>
                  <a:pt x="156" y="395"/>
                </a:lnTo>
                <a:lnTo>
                  <a:pt x="153" y="396"/>
                </a:lnTo>
                <a:lnTo>
                  <a:pt x="149" y="397"/>
                </a:lnTo>
                <a:lnTo>
                  <a:pt x="147" y="399"/>
                </a:lnTo>
                <a:lnTo>
                  <a:pt x="144" y="400"/>
                </a:lnTo>
                <a:lnTo>
                  <a:pt x="141" y="400"/>
                </a:lnTo>
                <a:lnTo>
                  <a:pt x="137" y="401"/>
                </a:lnTo>
                <a:lnTo>
                  <a:pt x="135" y="404"/>
                </a:lnTo>
                <a:lnTo>
                  <a:pt x="132" y="405"/>
                </a:lnTo>
                <a:lnTo>
                  <a:pt x="129" y="406"/>
                </a:lnTo>
                <a:lnTo>
                  <a:pt x="127" y="408"/>
                </a:lnTo>
                <a:lnTo>
                  <a:pt x="125" y="411"/>
                </a:lnTo>
                <a:lnTo>
                  <a:pt x="120" y="413"/>
                </a:lnTo>
                <a:lnTo>
                  <a:pt x="116" y="417"/>
                </a:lnTo>
                <a:lnTo>
                  <a:pt x="112" y="423"/>
                </a:lnTo>
                <a:lnTo>
                  <a:pt x="108" y="426"/>
                </a:lnTo>
                <a:lnTo>
                  <a:pt x="104" y="432"/>
                </a:lnTo>
                <a:lnTo>
                  <a:pt x="100" y="437"/>
                </a:lnTo>
                <a:lnTo>
                  <a:pt x="98" y="442"/>
                </a:lnTo>
                <a:lnTo>
                  <a:pt x="94" y="449"/>
                </a:lnTo>
                <a:lnTo>
                  <a:pt x="91" y="454"/>
                </a:lnTo>
                <a:lnTo>
                  <a:pt x="89" y="461"/>
                </a:lnTo>
                <a:lnTo>
                  <a:pt x="86" y="467"/>
                </a:lnTo>
                <a:lnTo>
                  <a:pt x="85" y="474"/>
                </a:lnTo>
                <a:lnTo>
                  <a:pt x="82" y="480"/>
                </a:lnTo>
                <a:lnTo>
                  <a:pt x="81" y="488"/>
                </a:lnTo>
                <a:lnTo>
                  <a:pt x="78" y="495"/>
                </a:lnTo>
                <a:lnTo>
                  <a:pt x="77" y="503"/>
                </a:lnTo>
                <a:lnTo>
                  <a:pt x="75" y="510"/>
                </a:lnTo>
                <a:lnTo>
                  <a:pt x="74" y="518"/>
                </a:lnTo>
                <a:lnTo>
                  <a:pt x="70" y="534"/>
                </a:lnTo>
                <a:lnTo>
                  <a:pt x="69" y="551"/>
                </a:lnTo>
                <a:lnTo>
                  <a:pt x="66" y="568"/>
                </a:lnTo>
                <a:lnTo>
                  <a:pt x="65" y="586"/>
                </a:lnTo>
                <a:lnTo>
                  <a:pt x="62" y="604"/>
                </a:lnTo>
                <a:lnTo>
                  <a:pt x="61" y="621"/>
                </a:lnTo>
                <a:lnTo>
                  <a:pt x="60" y="639"/>
                </a:lnTo>
                <a:lnTo>
                  <a:pt x="57" y="658"/>
                </a:lnTo>
                <a:lnTo>
                  <a:pt x="56" y="675"/>
                </a:lnTo>
                <a:lnTo>
                  <a:pt x="53" y="693"/>
                </a:lnTo>
                <a:lnTo>
                  <a:pt x="51" y="702"/>
                </a:lnTo>
                <a:lnTo>
                  <a:pt x="49" y="711"/>
                </a:lnTo>
                <a:lnTo>
                  <a:pt x="48" y="720"/>
                </a:lnTo>
                <a:lnTo>
                  <a:pt x="46" y="727"/>
                </a:lnTo>
                <a:lnTo>
                  <a:pt x="44" y="737"/>
                </a:lnTo>
                <a:lnTo>
                  <a:pt x="42" y="745"/>
                </a:lnTo>
                <a:lnTo>
                  <a:pt x="40" y="754"/>
                </a:lnTo>
                <a:lnTo>
                  <a:pt x="37" y="762"/>
                </a:lnTo>
                <a:lnTo>
                  <a:pt x="35" y="770"/>
                </a:lnTo>
                <a:lnTo>
                  <a:pt x="32" y="777"/>
                </a:lnTo>
                <a:lnTo>
                  <a:pt x="28" y="785"/>
                </a:lnTo>
                <a:lnTo>
                  <a:pt x="26" y="792"/>
                </a:lnTo>
                <a:lnTo>
                  <a:pt x="21" y="800"/>
                </a:lnTo>
                <a:lnTo>
                  <a:pt x="18" y="806"/>
                </a:lnTo>
                <a:lnTo>
                  <a:pt x="14" y="814"/>
                </a:lnTo>
                <a:lnTo>
                  <a:pt x="9" y="821"/>
                </a:lnTo>
                <a:lnTo>
                  <a:pt x="0" y="814"/>
                </a:lnTo>
                <a:lnTo>
                  <a:pt x="4" y="808"/>
                </a:lnTo>
                <a:lnTo>
                  <a:pt x="8" y="801"/>
                </a:lnTo>
                <a:lnTo>
                  <a:pt x="12" y="795"/>
                </a:lnTo>
                <a:lnTo>
                  <a:pt x="15" y="788"/>
                </a:lnTo>
                <a:lnTo>
                  <a:pt x="19" y="780"/>
                </a:lnTo>
                <a:lnTo>
                  <a:pt x="21" y="773"/>
                </a:lnTo>
                <a:lnTo>
                  <a:pt x="24" y="766"/>
                </a:lnTo>
                <a:lnTo>
                  <a:pt x="27" y="758"/>
                </a:lnTo>
                <a:lnTo>
                  <a:pt x="29" y="750"/>
                </a:lnTo>
                <a:lnTo>
                  <a:pt x="32" y="742"/>
                </a:lnTo>
                <a:lnTo>
                  <a:pt x="33" y="734"/>
                </a:lnTo>
                <a:lnTo>
                  <a:pt x="36" y="726"/>
                </a:lnTo>
                <a:lnTo>
                  <a:pt x="37" y="717"/>
                </a:lnTo>
                <a:lnTo>
                  <a:pt x="39" y="709"/>
                </a:lnTo>
                <a:lnTo>
                  <a:pt x="40" y="700"/>
                </a:lnTo>
                <a:lnTo>
                  <a:pt x="41" y="692"/>
                </a:lnTo>
                <a:lnTo>
                  <a:pt x="44" y="674"/>
                </a:lnTo>
                <a:lnTo>
                  <a:pt x="46" y="656"/>
                </a:lnTo>
                <a:lnTo>
                  <a:pt x="48" y="638"/>
                </a:lnTo>
                <a:lnTo>
                  <a:pt x="51" y="621"/>
                </a:lnTo>
                <a:lnTo>
                  <a:pt x="52" y="602"/>
                </a:lnTo>
                <a:lnTo>
                  <a:pt x="54" y="584"/>
                </a:lnTo>
                <a:lnTo>
                  <a:pt x="56" y="567"/>
                </a:lnTo>
                <a:lnTo>
                  <a:pt x="57" y="550"/>
                </a:lnTo>
                <a:lnTo>
                  <a:pt x="60" y="533"/>
                </a:lnTo>
                <a:lnTo>
                  <a:pt x="62" y="516"/>
                </a:lnTo>
                <a:lnTo>
                  <a:pt x="64" y="508"/>
                </a:lnTo>
                <a:lnTo>
                  <a:pt x="66" y="500"/>
                </a:lnTo>
                <a:lnTo>
                  <a:pt x="67" y="492"/>
                </a:lnTo>
                <a:lnTo>
                  <a:pt x="69" y="485"/>
                </a:lnTo>
                <a:lnTo>
                  <a:pt x="72" y="478"/>
                </a:lnTo>
                <a:lnTo>
                  <a:pt x="74" y="470"/>
                </a:lnTo>
                <a:lnTo>
                  <a:pt x="77" y="463"/>
                </a:lnTo>
                <a:lnTo>
                  <a:pt x="79" y="457"/>
                </a:lnTo>
                <a:lnTo>
                  <a:pt x="82" y="450"/>
                </a:lnTo>
                <a:lnTo>
                  <a:pt x="85" y="443"/>
                </a:lnTo>
                <a:lnTo>
                  <a:pt x="89" y="437"/>
                </a:lnTo>
                <a:lnTo>
                  <a:pt x="91" y="432"/>
                </a:lnTo>
                <a:lnTo>
                  <a:pt x="95" y="425"/>
                </a:lnTo>
                <a:lnTo>
                  <a:pt x="99" y="420"/>
                </a:lnTo>
                <a:lnTo>
                  <a:pt x="103" y="414"/>
                </a:lnTo>
                <a:lnTo>
                  <a:pt x="108" y="411"/>
                </a:lnTo>
                <a:lnTo>
                  <a:pt x="114" y="405"/>
                </a:lnTo>
                <a:lnTo>
                  <a:pt x="119" y="401"/>
                </a:lnTo>
                <a:lnTo>
                  <a:pt x="122" y="399"/>
                </a:lnTo>
                <a:lnTo>
                  <a:pt x="124" y="397"/>
                </a:lnTo>
                <a:lnTo>
                  <a:pt x="127" y="396"/>
                </a:lnTo>
                <a:lnTo>
                  <a:pt x="129" y="393"/>
                </a:lnTo>
                <a:lnTo>
                  <a:pt x="133" y="392"/>
                </a:lnTo>
                <a:lnTo>
                  <a:pt x="136" y="391"/>
                </a:lnTo>
                <a:lnTo>
                  <a:pt x="140" y="390"/>
                </a:lnTo>
                <a:lnTo>
                  <a:pt x="143" y="388"/>
                </a:lnTo>
                <a:lnTo>
                  <a:pt x="147" y="387"/>
                </a:lnTo>
                <a:lnTo>
                  <a:pt x="149" y="386"/>
                </a:lnTo>
                <a:lnTo>
                  <a:pt x="153" y="384"/>
                </a:lnTo>
                <a:lnTo>
                  <a:pt x="157" y="384"/>
                </a:lnTo>
                <a:lnTo>
                  <a:pt x="161" y="383"/>
                </a:lnTo>
                <a:lnTo>
                  <a:pt x="165" y="382"/>
                </a:lnTo>
                <a:lnTo>
                  <a:pt x="169" y="382"/>
                </a:lnTo>
                <a:lnTo>
                  <a:pt x="173" y="382"/>
                </a:lnTo>
                <a:lnTo>
                  <a:pt x="177" y="380"/>
                </a:lnTo>
                <a:lnTo>
                  <a:pt x="181" y="380"/>
                </a:lnTo>
                <a:lnTo>
                  <a:pt x="185" y="380"/>
                </a:lnTo>
                <a:lnTo>
                  <a:pt x="189" y="380"/>
                </a:lnTo>
                <a:close/>
                <a:moveTo>
                  <a:pt x="332" y="0"/>
                </a:moveTo>
                <a:lnTo>
                  <a:pt x="343" y="0"/>
                </a:lnTo>
                <a:lnTo>
                  <a:pt x="344" y="23"/>
                </a:lnTo>
                <a:lnTo>
                  <a:pt x="343" y="50"/>
                </a:lnTo>
                <a:lnTo>
                  <a:pt x="343" y="63"/>
                </a:lnTo>
                <a:lnTo>
                  <a:pt x="343" y="79"/>
                </a:lnTo>
                <a:lnTo>
                  <a:pt x="343" y="94"/>
                </a:lnTo>
                <a:lnTo>
                  <a:pt x="341" y="109"/>
                </a:lnTo>
                <a:lnTo>
                  <a:pt x="341" y="125"/>
                </a:lnTo>
                <a:lnTo>
                  <a:pt x="340" y="141"/>
                </a:lnTo>
                <a:lnTo>
                  <a:pt x="339" y="157"/>
                </a:lnTo>
                <a:lnTo>
                  <a:pt x="337" y="174"/>
                </a:lnTo>
                <a:lnTo>
                  <a:pt x="335" y="190"/>
                </a:lnTo>
                <a:lnTo>
                  <a:pt x="333" y="205"/>
                </a:lnTo>
                <a:lnTo>
                  <a:pt x="332" y="213"/>
                </a:lnTo>
                <a:lnTo>
                  <a:pt x="331" y="221"/>
                </a:lnTo>
                <a:lnTo>
                  <a:pt x="328" y="229"/>
                </a:lnTo>
                <a:lnTo>
                  <a:pt x="327" y="237"/>
                </a:lnTo>
                <a:lnTo>
                  <a:pt x="325" y="245"/>
                </a:lnTo>
                <a:lnTo>
                  <a:pt x="323" y="253"/>
                </a:lnTo>
                <a:lnTo>
                  <a:pt x="322" y="261"/>
                </a:lnTo>
                <a:lnTo>
                  <a:pt x="319" y="267"/>
                </a:lnTo>
                <a:lnTo>
                  <a:pt x="318" y="275"/>
                </a:lnTo>
                <a:lnTo>
                  <a:pt x="315" y="282"/>
                </a:lnTo>
                <a:lnTo>
                  <a:pt x="312" y="289"/>
                </a:lnTo>
                <a:lnTo>
                  <a:pt x="310" y="296"/>
                </a:lnTo>
                <a:lnTo>
                  <a:pt x="307" y="303"/>
                </a:lnTo>
                <a:lnTo>
                  <a:pt x="303" y="309"/>
                </a:lnTo>
                <a:lnTo>
                  <a:pt x="300" y="316"/>
                </a:lnTo>
                <a:lnTo>
                  <a:pt x="298" y="322"/>
                </a:lnTo>
                <a:lnTo>
                  <a:pt x="294" y="328"/>
                </a:lnTo>
                <a:lnTo>
                  <a:pt x="290" y="334"/>
                </a:lnTo>
                <a:lnTo>
                  <a:pt x="286" y="340"/>
                </a:lnTo>
                <a:lnTo>
                  <a:pt x="282" y="345"/>
                </a:lnTo>
                <a:lnTo>
                  <a:pt x="278" y="350"/>
                </a:lnTo>
                <a:lnTo>
                  <a:pt x="274" y="355"/>
                </a:lnTo>
                <a:lnTo>
                  <a:pt x="269" y="359"/>
                </a:lnTo>
                <a:lnTo>
                  <a:pt x="264" y="365"/>
                </a:lnTo>
                <a:lnTo>
                  <a:pt x="260" y="368"/>
                </a:lnTo>
                <a:lnTo>
                  <a:pt x="254" y="372"/>
                </a:lnTo>
                <a:lnTo>
                  <a:pt x="248" y="375"/>
                </a:lnTo>
                <a:lnTo>
                  <a:pt x="242" y="379"/>
                </a:lnTo>
                <a:lnTo>
                  <a:pt x="237" y="382"/>
                </a:lnTo>
                <a:lnTo>
                  <a:pt x="231" y="384"/>
                </a:lnTo>
                <a:lnTo>
                  <a:pt x="224" y="386"/>
                </a:lnTo>
                <a:lnTo>
                  <a:pt x="218" y="388"/>
                </a:lnTo>
                <a:lnTo>
                  <a:pt x="211" y="390"/>
                </a:lnTo>
                <a:lnTo>
                  <a:pt x="204" y="391"/>
                </a:lnTo>
                <a:lnTo>
                  <a:pt x="196" y="391"/>
                </a:lnTo>
                <a:lnTo>
                  <a:pt x="189" y="391"/>
                </a:lnTo>
                <a:lnTo>
                  <a:pt x="189" y="380"/>
                </a:lnTo>
                <a:lnTo>
                  <a:pt x="196" y="380"/>
                </a:lnTo>
                <a:lnTo>
                  <a:pt x="203" y="379"/>
                </a:lnTo>
                <a:lnTo>
                  <a:pt x="210" y="379"/>
                </a:lnTo>
                <a:lnTo>
                  <a:pt x="215" y="378"/>
                </a:lnTo>
                <a:lnTo>
                  <a:pt x="221" y="375"/>
                </a:lnTo>
                <a:lnTo>
                  <a:pt x="227" y="374"/>
                </a:lnTo>
                <a:lnTo>
                  <a:pt x="232" y="371"/>
                </a:lnTo>
                <a:lnTo>
                  <a:pt x="237" y="368"/>
                </a:lnTo>
                <a:lnTo>
                  <a:pt x="242" y="366"/>
                </a:lnTo>
                <a:lnTo>
                  <a:pt x="248" y="363"/>
                </a:lnTo>
                <a:lnTo>
                  <a:pt x="253" y="359"/>
                </a:lnTo>
                <a:lnTo>
                  <a:pt x="257" y="355"/>
                </a:lnTo>
                <a:lnTo>
                  <a:pt x="261" y="351"/>
                </a:lnTo>
                <a:lnTo>
                  <a:pt x="266" y="347"/>
                </a:lnTo>
                <a:lnTo>
                  <a:pt x="270" y="344"/>
                </a:lnTo>
                <a:lnTo>
                  <a:pt x="274" y="338"/>
                </a:lnTo>
                <a:lnTo>
                  <a:pt x="277" y="333"/>
                </a:lnTo>
                <a:lnTo>
                  <a:pt x="281" y="328"/>
                </a:lnTo>
                <a:lnTo>
                  <a:pt x="285" y="322"/>
                </a:lnTo>
                <a:lnTo>
                  <a:pt x="287" y="317"/>
                </a:lnTo>
                <a:lnTo>
                  <a:pt x="291" y="311"/>
                </a:lnTo>
                <a:lnTo>
                  <a:pt x="294" y="305"/>
                </a:lnTo>
                <a:lnTo>
                  <a:pt x="297" y="299"/>
                </a:lnTo>
                <a:lnTo>
                  <a:pt x="299" y="292"/>
                </a:lnTo>
                <a:lnTo>
                  <a:pt x="302" y="286"/>
                </a:lnTo>
                <a:lnTo>
                  <a:pt x="304" y="279"/>
                </a:lnTo>
                <a:lnTo>
                  <a:pt x="307" y="271"/>
                </a:lnTo>
                <a:lnTo>
                  <a:pt x="308" y="265"/>
                </a:lnTo>
                <a:lnTo>
                  <a:pt x="311" y="258"/>
                </a:lnTo>
                <a:lnTo>
                  <a:pt x="312" y="250"/>
                </a:lnTo>
                <a:lnTo>
                  <a:pt x="315" y="242"/>
                </a:lnTo>
                <a:lnTo>
                  <a:pt x="316" y="236"/>
                </a:lnTo>
                <a:lnTo>
                  <a:pt x="318" y="228"/>
                </a:lnTo>
                <a:lnTo>
                  <a:pt x="319" y="220"/>
                </a:lnTo>
                <a:lnTo>
                  <a:pt x="320" y="212"/>
                </a:lnTo>
                <a:lnTo>
                  <a:pt x="322" y="204"/>
                </a:lnTo>
                <a:lnTo>
                  <a:pt x="324" y="188"/>
                </a:lnTo>
                <a:lnTo>
                  <a:pt x="327" y="173"/>
                </a:lnTo>
                <a:lnTo>
                  <a:pt x="328" y="157"/>
                </a:lnTo>
                <a:lnTo>
                  <a:pt x="330" y="141"/>
                </a:lnTo>
                <a:lnTo>
                  <a:pt x="331" y="125"/>
                </a:lnTo>
                <a:lnTo>
                  <a:pt x="331" y="109"/>
                </a:lnTo>
                <a:lnTo>
                  <a:pt x="332" y="94"/>
                </a:lnTo>
                <a:lnTo>
                  <a:pt x="332" y="78"/>
                </a:lnTo>
                <a:lnTo>
                  <a:pt x="332" y="63"/>
                </a:lnTo>
                <a:lnTo>
                  <a:pt x="332" y="50"/>
                </a:lnTo>
                <a:lnTo>
                  <a:pt x="332" y="23"/>
                </a:lnTo>
                <a:lnTo>
                  <a:pt x="332" y="0"/>
                </a:lnTo>
                <a:close/>
              </a:path>
            </a:pathLst>
          </a:custGeom>
          <a:solidFill>
            <a:srgbClr val="75c5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995"/>
          <p:cNvSpPr/>
          <p:nvPr/>
        </p:nvSpPr>
        <p:spPr>
          <a:xfrm>
            <a:off x="900000" y="3860640"/>
            <a:ext cx="1008000" cy="2718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776" h="171">
                <a:moveTo>
                  <a:pt x="464" y="4"/>
                </a:moveTo>
                <a:lnTo>
                  <a:pt x="464" y="92"/>
                </a:lnTo>
                <a:lnTo>
                  <a:pt x="435" y="91"/>
                </a:lnTo>
                <a:lnTo>
                  <a:pt x="407" y="91"/>
                </a:lnTo>
                <a:lnTo>
                  <a:pt x="378" y="91"/>
                </a:lnTo>
                <a:lnTo>
                  <a:pt x="349" y="89"/>
                </a:lnTo>
                <a:lnTo>
                  <a:pt x="320" y="89"/>
                </a:lnTo>
                <a:lnTo>
                  <a:pt x="293" y="88"/>
                </a:lnTo>
                <a:lnTo>
                  <a:pt x="264" y="88"/>
                </a:lnTo>
                <a:lnTo>
                  <a:pt x="235" y="88"/>
                </a:lnTo>
                <a:lnTo>
                  <a:pt x="207" y="88"/>
                </a:lnTo>
                <a:lnTo>
                  <a:pt x="178" y="88"/>
                </a:lnTo>
                <a:lnTo>
                  <a:pt x="165" y="89"/>
                </a:lnTo>
                <a:lnTo>
                  <a:pt x="151" y="89"/>
                </a:lnTo>
                <a:lnTo>
                  <a:pt x="137" y="91"/>
                </a:lnTo>
                <a:lnTo>
                  <a:pt x="123" y="91"/>
                </a:lnTo>
                <a:lnTo>
                  <a:pt x="110" y="92"/>
                </a:lnTo>
                <a:lnTo>
                  <a:pt x="96" y="93"/>
                </a:lnTo>
                <a:lnTo>
                  <a:pt x="82" y="94"/>
                </a:lnTo>
                <a:lnTo>
                  <a:pt x="69" y="96"/>
                </a:lnTo>
                <a:lnTo>
                  <a:pt x="56" y="97"/>
                </a:lnTo>
                <a:lnTo>
                  <a:pt x="43" y="100"/>
                </a:lnTo>
                <a:lnTo>
                  <a:pt x="30" y="101"/>
                </a:lnTo>
                <a:lnTo>
                  <a:pt x="18" y="104"/>
                </a:lnTo>
                <a:lnTo>
                  <a:pt x="0" y="18"/>
                </a:lnTo>
                <a:lnTo>
                  <a:pt x="15" y="16"/>
                </a:lnTo>
                <a:lnTo>
                  <a:pt x="30" y="13"/>
                </a:lnTo>
                <a:lnTo>
                  <a:pt x="44" y="10"/>
                </a:lnTo>
                <a:lnTo>
                  <a:pt x="58" y="9"/>
                </a:lnTo>
                <a:lnTo>
                  <a:pt x="73" y="8"/>
                </a:lnTo>
                <a:lnTo>
                  <a:pt x="89" y="6"/>
                </a:lnTo>
                <a:lnTo>
                  <a:pt x="103" y="5"/>
                </a:lnTo>
                <a:lnTo>
                  <a:pt x="118" y="4"/>
                </a:lnTo>
                <a:lnTo>
                  <a:pt x="132" y="2"/>
                </a:lnTo>
                <a:lnTo>
                  <a:pt x="147" y="2"/>
                </a:lnTo>
                <a:lnTo>
                  <a:pt x="161" y="1"/>
                </a:lnTo>
                <a:lnTo>
                  <a:pt x="177" y="1"/>
                </a:lnTo>
                <a:lnTo>
                  <a:pt x="206" y="0"/>
                </a:lnTo>
                <a:lnTo>
                  <a:pt x="235" y="0"/>
                </a:lnTo>
                <a:lnTo>
                  <a:pt x="264" y="0"/>
                </a:lnTo>
                <a:lnTo>
                  <a:pt x="294" y="1"/>
                </a:lnTo>
                <a:lnTo>
                  <a:pt x="323" y="1"/>
                </a:lnTo>
                <a:lnTo>
                  <a:pt x="351" y="2"/>
                </a:lnTo>
                <a:lnTo>
                  <a:pt x="380" y="2"/>
                </a:lnTo>
                <a:lnTo>
                  <a:pt x="408" y="4"/>
                </a:lnTo>
                <a:lnTo>
                  <a:pt x="436" y="4"/>
                </a:lnTo>
                <a:lnTo>
                  <a:pt x="464" y="4"/>
                </a:lnTo>
                <a:close/>
                <a:moveTo>
                  <a:pt x="776" y="84"/>
                </a:moveTo>
                <a:lnTo>
                  <a:pt x="776" y="171"/>
                </a:lnTo>
                <a:lnTo>
                  <a:pt x="769" y="171"/>
                </a:lnTo>
                <a:lnTo>
                  <a:pt x="763" y="171"/>
                </a:lnTo>
                <a:lnTo>
                  <a:pt x="757" y="171"/>
                </a:lnTo>
                <a:lnTo>
                  <a:pt x="751" y="170"/>
                </a:lnTo>
                <a:lnTo>
                  <a:pt x="739" y="168"/>
                </a:lnTo>
                <a:lnTo>
                  <a:pt x="727" y="167"/>
                </a:lnTo>
                <a:lnTo>
                  <a:pt x="715" y="165"/>
                </a:lnTo>
                <a:lnTo>
                  <a:pt x="703" y="163"/>
                </a:lnTo>
                <a:lnTo>
                  <a:pt x="693" y="160"/>
                </a:lnTo>
                <a:lnTo>
                  <a:pt x="682" y="156"/>
                </a:lnTo>
                <a:lnTo>
                  <a:pt x="672" y="154"/>
                </a:lnTo>
                <a:lnTo>
                  <a:pt x="661" y="150"/>
                </a:lnTo>
                <a:lnTo>
                  <a:pt x="652" y="146"/>
                </a:lnTo>
                <a:lnTo>
                  <a:pt x="643" y="143"/>
                </a:lnTo>
                <a:lnTo>
                  <a:pt x="624" y="135"/>
                </a:lnTo>
                <a:lnTo>
                  <a:pt x="606" y="127"/>
                </a:lnTo>
                <a:lnTo>
                  <a:pt x="589" y="121"/>
                </a:lnTo>
                <a:lnTo>
                  <a:pt x="570" y="113"/>
                </a:lnTo>
                <a:lnTo>
                  <a:pt x="562" y="110"/>
                </a:lnTo>
                <a:lnTo>
                  <a:pt x="555" y="108"/>
                </a:lnTo>
                <a:lnTo>
                  <a:pt x="546" y="105"/>
                </a:lnTo>
                <a:lnTo>
                  <a:pt x="537" y="103"/>
                </a:lnTo>
                <a:lnTo>
                  <a:pt x="528" y="100"/>
                </a:lnTo>
                <a:lnTo>
                  <a:pt x="521" y="97"/>
                </a:lnTo>
                <a:lnTo>
                  <a:pt x="511" y="96"/>
                </a:lnTo>
                <a:lnTo>
                  <a:pt x="502" y="94"/>
                </a:lnTo>
                <a:lnTo>
                  <a:pt x="493" y="93"/>
                </a:lnTo>
                <a:lnTo>
                  <a:pt x="484" y="92"/>
                </a:lnTo>
                <a:lnTo>
                  <a:pt x="478" y="92"/>
                </a:lnTo>
                <a:lnTo>
                  <a:pt x="474" y="92"/>
                </a:lnTo>
                <a:lnTo>
                  <a:pt x="469" y="92"/>
                </a:lnTo>
                <a:lnTo>
                  <a:pt x="464" y="92"/>
                </a:lnTo>
                <a:lnTo>
                  <a:pt x="464" y="4"/>
                </a:lnTo>
                <a:lnTo>
                  <a:pt x="470" y="4"/>
                </a:lnTo>
                <a:lnTo>
                  <a:pt x="477" y="4"/>
                </a:lnTo>
                <a:lnTo>
                  <a:pt x="484" y="4"/>
                </a:lnTo>
                <a:lnTo>
                  <a:pt x="490" y="5"/>
                </a:lnTo>
                <a:lnTo>
                  <a:pt x="503" y="6"/>
                </a:lnTo>
                <a:lnTo>
                  <a:pt x="515" y="8"/>
                </a:lnTo>
                <a:lnTo>
                  <a:pt x="527" y="10"/>
                </a:lnTo>
                <a:lnTo>
                  <a:pt x="539" y="12"/>
                </a:lnTo>
                <a:lnTo>
                  <a:pt x="551" y="16"/>
                </a:lnTo>
                <a:lnTo>
                  <a:pt x="561" y="18"/>
                </a:lnTo>
                <a:lnTo>
                  <a:pt x="572" y="21"/>
                </a:lnTo>
                <a:lnTo>
                  <a:pt x="582" y="25"/>
                </a:lnTo>
                <a:lnTo>
                  <a:pt x="593" y="29"/>
                </a:lnTo>
                <a:lnTo>
                  <a:pt x="603" y="32"/>
                </a:lnTo>
                <a:lnTo>
                  <a:pt x="622" y="39"/>
                </a:lnTo>
                <a:lnTo>
                  <a:pt x="640" y="47"/>
                </a:lnTo>
                <a:lnTo>
                  <a:pt x="657" y="55"/>
                </a:lnTo>
                <a:lnTo>
                  <a:pt x="674" y="62"/>
                </a:lnTo>
                <a:lnTo>
                  <a:pt x="682" y="64"/>
                </a:lnTo>
                <a:lnTo>
                  <a:pt x="691" y="67"/>
                </a:lnTo>
                <a:lnTo>
                  <a:pt x="699" y="71"/>
                </a:lnTo>
                <a:lnTo>
                  <a:pt x="707" y="73"/>
                </a:lnTo>
                <a:lnTo>
                  <a:pt x="715" y="75"/>
                </a:lnTo>
                <a:lnTo>
                  <a:pt x="723" y="78"/>
                </a:lnTo>
                <a:lnTo>
                  <a:pt x="732" y="79"/>
                </a:lnTo>
                <a:lnTo>
                  <a:pt x="740" y="80"/>
                </a:lnTo>
                <a:lnTo>
                  <a:pt x="749" y="81"/>
                </a:lnTo>
                <a:lnTo>
                  <a:pt x="759" y="83"/>
                </a:lnTo>
                <a:lnTo>
                  <a:pt x="763" y="83"/>
                </a:lnTo>
                <a:lnTo>
                  <a:pt x="767" y="84"/>
                </a:lnTo>
                <a:lnTo>
                  <a:pt x="772" y="84"/>
                </a:lnTo>
                <a:lnTo>
                  <a:pt x="776" y="84"/>
                </a:lnTo>
                <a:close/>
              </a:path>
            </a:pathLst>
          </a:cu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002"/>
          <p:cNvSpPr/>
          <p:nvPr/>
        </p:nvSpPr>
        <p:spPr>
          <a:xfrm>
            <a:off x="1713600" y="333360"/>
            <a:ext cx="3752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хема закрепления секторов оповещения и информировани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003"/>
          <p:cNvSpPr/>
          <p:nvPr/>
        </p:nvSpPr>
        <p:spPr>
          <a:xfrm>
            <a:off x="2281320" y="549360"/>
            <a:ext cx="1887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селения населенного пункта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004"/>
          <p:cNvSpPr/>
          <p:nvPr/>
        </p:nvSpPr>
        <p:spPr>
          <a:xfrm>
            <a:off x="4304520" y="549360"/>
            <a:ext cx="556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.Понин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156"/>
          <p:cNvSpPr/>
          <p:nvPr/>
        </p:nvSpPr>
        <p:spPr>
          <a:xfrm>
            <a:off x="4859280" y="2708280"/>
            <a:ext cx="100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торож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ел.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168"/>
          <p:cNvSpPr/>
          <p:nvPr/>
        </p:nvSpPr>
        <p:spPr>
          <a:xfrm>
            <a:off x="-2319840" y="6070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172"/>
          <p:cNvSpPr/>
          <p:nvPr/>
        </p:nvSpPr>
        <p:spPr>
          <a:xfrm>
            <a:off x="-4720320" y="6234120"/>
            <a:ext cx="67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174"/>
          <p:cNvSpPr/>
          <p:nvPr/>
        </p:nvSpPr>
        <p:spPr>
          <a:xfrm>
            <a:off x="8016120" y="620640"/>
            <a:ext cx="62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ТВЕРЖДАЮ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175"/>
          <p:cNvSpPr/>
          <p:nvPr/>
        </p:nvSpPr>
        <p:spPr>
          <a:xfrm>
            <a:off x="7484760" y="836640"/>
            <a:ext cx="49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лава М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177"/>
          <p:cNvSpPr/>
          <p:nvPr/>
        </p:nvSpPr>
        <p:spPr>
          <a:xfrm>
            <a:off x="8029080" y="836640"/>
            <a:ext cx="65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«Понинское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182"/>
          <p:cNvSpPr/>
          <p:nvPr/>
        </p:nvSpPr>
        <p:spPr>
          <a:xfrm>
            <a:off x="2366280" y="1892160"/>
            <a:ext cx="5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183"/>
          <p:cNvSpPr/>
          <p:nvPr/>
        </p:nvSpPr>
        <p:spPr>
          <a:xfrm>
            <a:off x="7929720" y="1000080"/>
            <a:ext cx="10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Е.Л.салтыкова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184"/>
          <p:cNvSpPr/>
          <p:nvPr/>
        </p:nvSpPr>
        <p:spPr>
          <a:xfrm>
            <a:off x="1355760" y="20397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185"/>
          <p:cNvSpPr/>
          <p:nvPr/>
        </p:nvSpPr>
        <p:spPr>
          <a:xfrm>
            <a:off x="7358040" y="1143000"/>
            <a:ext cx="71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«22»  сентябр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186"/>
          <p:cNvSpPr/>
          <p:nvPr/>
        </p:nvSpPr>
        <p:spPr>
          <a:xfrm>
            <a:off x="1558440" y="2039760"/>
            <a:ext cx="2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188"/>
          <p:cNvSpPr/>
          <p:nvPr/>
        </p:nvSpPr>
        <p:spPr>
          <a:xfrm>
            <a:off x="8072280" y="1143000"/>
            <a:ext cx="50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2015 г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191"/>
          <p:cNvSpPr/>
          <p:nvPr/>
        </p:nvSpPr>
        <p:spPr>
          <a:xfrm>
            <a:off x="8605440" y="134136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192"/>
          <p:cNvSpPr/>
          <p:nvPr/>
        </p:nvSpPr>
        <p:spPr>
          <a:xfrm>
            <a:off x="7327800" y="4724280"/>
            <a:ext cx="18162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193"/>
          <p:cNvSpPr/>
          <p:nvPr/>
        </p:nvSpPr>
        <p:spPr>
          <a:xfrm>
            <a:off x="7327800" y="4869000"/>
            <a:ext cx="1816200" cy="198900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2194"/>
          <p:cNvSpPr/>
          <p:nvPr/>
        </p:nvSpPr>
        <p:spPr>
          <a:xfrm>
            <a:off x="7380360" y="5300640"/>
            <a:ext cx="279360" cy="112680"/>
          </a:xfrm>
          <a:custGeom>
            <a:avLst/>
            <a:gdLst>
              <a:gd name="textAreaLeft" fmla="*/ 0 w 279360"/>
              <a:gd name="textAreaRight" fmla="*/ 279720 w 27936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76" h="71">
                <a:moveTo>
                  <a:pt x="0" y="35"/>
                </a:moveTo>
                <a:cubicBezTo>
                  <a:pt x="7" y="11"/>
                  <a:pt x="26" y="8"/>
                  <a:pt x="44" y="9"/>
                </a:cubicBezTo>
                <a:cubicBezTo>
                  <a:pt x="105" y="12"/>
                  <a:pt x="147" y="71"/>
                  <a:pt x="176" y="0"/>
                </a:cubicBezTo>
              </a:path>
            </a:pathLst>
          </a:custGeom>
          <a:noFill/>
          <a:ln cap="rnd" w="20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195"/>
          <p:cNvSpPr/>
          <p:nvPr/>
        </p:nvSpPr>
        <p:spPr>
          <a:xfrm>
            <a:off x="1868040" y="507996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196"/>
          <p:cNvSpPr/>
          <p:nvPr/>
        </p:nvSpPr>
        <p:spPr>
          <a:xfrm>
            <a:off x="7694280" y="5229360"/>
            <a:ext cx="586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аница на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2197"/>
          <p:cNvSpPr/>
          <p:nvPr/>
        </p:nvSpPr>
        <p:spPr>
          <a:xfrm>
            <a:off x="2610720" y="5079960"/>
            <a:ext cx="5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198"/>
          <p:cNvSpPr/>
          <p:nvPr/>
        </p:nvSpPr>
        <p:spPr>
          <a:xfrm>
            <a:off x="8400240" y="522936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ункт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2199"/>
          <p:cNvSpPr/>
          <p:nvPr/>
        </p:nvSpPr>
        <p:spPr>
          <a:xfrm>
            <a:off x="7451640" y="5516640"/>
            <a:ext cx="258840" cy="7920"/>
          </a:xfrm>
          <a:custGeom>
            <a:avLst/>
            <a:gdLst>
              <a:gd name="textAreaLeft" fmla="*/ 0 w 258840"/>
              <a:gd name="textAreaRight" fmla="*/ 259200 w 258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0" h="16">
                <a:moveTo>
                  <a:pt x="8" y="0"/>
                </a:moveTo>
                <a:lnTo>
                  <a:pt x="248" y="0"/>
                </a:lnTo>
                <a:cubicBezTo>
                  <a:pt x="252" y="0"/>
                  <a:pt x="256" y="4"/>
                  <a:pt x="256" y="8"/>
                </a:cubicBezTo>
                <a:cubicBezTo>
                  <a:pt x="256" y="13"/>
                  <a:pt x="252" y="16"/>
                  <a:pt x="248" y="16"/>
                </a:cubicBezTo>
                <a:lnTo>
                  <a:pt x="8" y="16"/>
                </a:lnTo>
                <a:cubicBezTo>
                  <a:pt x="4" y="16"/>
                  <a:pt x="0" y="13"/>
                  <a:pt x="0" y="8"/>
                </a:cubicBezTo>
                <a:cubicBezTo>
                  <a:pt x="0" y="4"/>
                  <a:pt x="4" y="0"/>
                  <a:pt x="8" y="0"/>
                </a:cubicBezTo>
                <a:close/>
                <a:moveTo>
                  <a:pt x="392" y="0"/>
                </a:moveTo>
                <a:lnTo>
                  <a:pt x="552" y="0"/>
                </a:lnTo>
                <a:cubicBezTo>
                  <a:pt x="557" y="0"/>
                  <a:pt x="560" y="4"/>
                  <a:pt x="560" y="8"/>
                </a:cubicBezTo>
                <a:cubicBezTo>
                  <a:pt x="560" y="13"/>
                  <a:pt x="557" y="16"/>
                  <a:pt x="552" y="16"/>
                </a:cubicBezTo>
                <a:lnTo>
                  <a:pt x="392" y="16"/>
                </a:lnTo>
                <a:cubicBezTo>
                  <a:pt x="388" y="16"/>
                  <a:pt x="384" y="13"/>
                  <a:pt x="384" y="8"/>
                </a:cubicBezTo>
                <a:cubicBezTo>
                  <a:pt x="384" y="4"/>
                  <a:pt x="388" y="0"/>
                  <a:pt x="392" y="0"/>
                </a:cubicBezTo>
                <a:close/>
              </a:path>
            </a:pathLst>
          </a:custGeom>
          <a:solidFill>
            <a:srgbClr val="00b0f0"/>
          </a:solidFill>
          <a:ln w="792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2200"/>
          <p:cNvSpPr/>
          <p:nvPr/>
        </p:nvSpPr>
        <p:spPr>
          <a:xfrm>
            <a:off x="1874160" y="528804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2201"/>
          <p:cNvSpPr/>
          <p:nvPr/>
        </p:nvSpPr>
        <p:spPr>
          <a:xfrm>
            <a:off x="7854480" y="5445000"/>
            <a:ext cx="98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оповещ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202"/>
          <p:cNvSpPr/>
          <p:nvPr/>
        </p:nvSpPr>
        <p:spPr>
          <a:xfrm>
            <a:off x="7839000" y="55897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ос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2203"/>
          <p:cNvSpPr/>
          <p:nvPr/>
        </p:nvSpPr>
        <p:spPr>
          <a:xfrm>
            <a:off x="7451640" y="5805360"/>
            <a:ext cx="258840" cy="7920"/>
          </a:xfrm>
          <a:custGeom>
            <a:avLst/>
            <a:gdLst>
              <a:gd name="textAreaLeft" fmla="*/ 0 w 258840"/>
              <a:gd name="textAreaRight" fmla="*/ 259200 w 258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0" h="16">
                <a:moveTo>
                  <a:pt x="8" y="0"/>
                </a:moveTo>
                <a:lnTo>
                  <a:pt x="248" y="0"/>
                </a:lnTo>
                <a:cubicBezTo>
                  <a:pt x="252" y="0"/>
                  <a:pt x="256" y="3"/>
                  <a:pt x="256" y="8"/>
                </a:cubicBezTo>
                <a:cubicBezTo>
                  <a:pt x="256" y="12"/>
                  <a:pt x="252" y="16"/>
                  <a:pt x="248" y="16"/>
                </a:cubicBezTo>
                <a:lnTo>
                  <a:pt x="8" y="16"/>
                </a:lnTo>
                <a:cubicBezTo>
                  <a:pt x="4" y="16"/>
                  <a:pt x="0" y="12"/>
                  <a:pt x="0" y="8"/>
                </a:cubicBezTo>
                <a:cubicBezTo>
                  <a:pt x="0" y="3"/>
                  <a:pt x="4" y="0"/>
                  <a:pt x="8" y="0"/>
                </a:cubicBezTo>
                <a:close/>
                <a:moveTo>
                  <a:pt x="392" y="0"/>
                </a:moveTo>
                <a:lnTo>
                  <a:pt x="552" y="0"/>
                </a:lnTo>
                <a:cubicBezTo>
                  <a:pt x="557" y="0"/>
                  <a:pt x="560" y="3"/>
                  <a:pt x="560" y="8"/>
                </a:cubicBezTo>
                <a:cubicBezTo>
                  <a:pt x="560" y="12"/>
                  <a:pt x="557" y="16"/>
                  <a:pt x="552" y="16"/>
                </a:cubicBezTo>
                <a:lnTo>
                  <a:pt x="392" y="16"/>
                </a:lnTo>
                <a:cubicBezTo>
                  <a:pt x="388" y="16"/>
                  <a:pt x="384" y="12"/>
                  <a:pt x="384" y="8"/>
                </a:cubicBezTo>
                <a:cubicBezTo>
                  <a:pt x="384" y="3"/>
                  <a:pt x="388" y="0"/>
                  <a:pt x="392" y="0"/>
                </a:cubicBezTo>
                <a:close/>
              </a:path>
            </a:pathLst>
          </a:custGeom>
          <a:solidFill>
            <a:srgbClr val="92d050"/>
          </a:solidFill>
          <a:ln w="7920">
            <a:solidFill>
              <a:srgbClr val="92d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205"/>
          <p:cNvSpPr/>
          <p:nvPr/>
        </p:nvSpPr>
        <p:spPr>
          <a:xfrm>
            <a:off x="7927560" y="5734080"/>
            <a:ext cx="98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оповещ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206"/>
          <p:cNvSpPr/>
          <p:nvPr/>
        </p:nvSpPr>
        <p:spPr>
          <a:xfrm>
            <a:off x="7905240" y="5877000"/>
            <a:ext cx="34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фер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2207"/>
          <p:cNvSpPr/>
          <p:nvPr/>
        </p:nvSpPr>
        <p:spPr>
          <a:xfrm>
            <a:off x="7451640" y="6093000"/>
            <a:ext cx="258840" cy="7920"/>
          </a:xfrm>
          <a:custGeom>
            <a:avLst/>
            <a:gdLst>
              <a:gd name="textAreaLeft" fmla="*/ 0 w 258840"/>
              <a:gd name="textAreaRight" fmla="*/ 259200 w 258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0" h="16">
                <a:moveTo>
                  <a:pt x="8" y="0"/>
                </a:moveTo>
                <a:lnTo>
                  <a:pt x="248" y="0"/>
                </a:lnTo>
                <a:cubicBezTo>
                  <a:pt x="252" y="0"/>
                  <a:pt x="256" y="4"/>
                  <a:pt x="256" y="8"/>
                </a:cubicBezTo>
                <a:cubicBezTo>
                  <a:pt x="256" y="13"/>
                  <a:pt x="252" y="16"/>
                  <a:pt x="248" y="16"/>
                </a:cubicBezTo>
                <a:lnTo>
                  <a:pt x="8" y="16"/>
                </a:lnTo>
                <a:cubicBezTo>
                  <a:pt x="3" y="16"/>
                  <a:pt x="0" y="13"/>
                  <a:pt x="0" y="8"/>
                </a:cubicBezTo>
                <a:cubicBezTo>
                  <a:pt x="0" y="4"/>
                  <a:pt x="3" y="0"/>
                  <a:pt x="8" y="0"/>
                </a:cubicBezTo>
                <a:close/>
                <a:moveTo>
                  <a:pt x="392" y="0"/>
                </a:moveTo>
                <a:lnTo>
                  <a:pt x="552" y="0"/>
                </a:lnTo>
                <a:cubicBezTo>
                  <a:pt x="557" y="0"/>
                  <a:pt x="560" y="4"/>
                  <a:pt x="560" y="8"/>
                </a:cubicBezTo>
                <a:cubicBezTo>
                  <a:pt x="560" y="13"/>
                  <a:pt x="557" y="16"/>
                  <a:pt x="552" y="16"/>
                </a:cubicBezTo>
                <a:lnTo>
                  <a:pt x="392" y="16"/>
                </a:lnTo>
                <a:cubicBezTo>
                  <a:pt x="387" y="16"/>
                  <a:pt x="384" y="13"/>
                  <a:pt x="384" y="8"/>
                </a:cubicBezTo>
                <a:cubicBezTo>
                  <a:pt x="384" y="4"/>
                  <a:pt x="387" y="0"/>
                  <a:pt x="392" y="0"/>
                </a:cubicBezTo>
                <a:close/>
              </a:path>
            </a:pathLst>
          </a:custGeom>
          <a:solidFill>
            <a:srgbClr val="ffc000"/>
          </a:solidFill>
          <a:ln w="792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208"/>
          <p:cNvSpPr/>
          <p:nvPr/>
        </p:nvSpPr>
        <p:spPr>
          <a:xfrm>
            <a:off x="1852200" y="587844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209"/>
          <p:cNvSpPr/>
          <p:nvPr/>
        </p:nvSpPr>
        <p:spPr>
          <a:xfrm>
            <a:off x="7854480" y="6021360"/>
            <a:ext cx="98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оповещ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210"/>
          <p:cNvSpPr/>
          <p:nvPr/>
        </p:nvSpPr>
        <p:spPr>
          <a:xfrm>
            <a:off x="7820640" y="6165720"/>
            <a:ext cx="34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церкв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2214"/>
          <p:cNvSpPr/>
          <p:nvPr/>
        </p:nvSpPr>
        <p:spPr>
          <a:xfrm>
            <a:off x="7451640" y="6381720"/>
            <a:ext cx="258840" cy="7920"/>
          </a:xfrm>
          <a:custGeom>
            <a:avLst/>
            <a:gdLst>
              <a:gd name="textAreaLeft" fmla="*/ 0 w 258840"/>
              <a:gd name="textAreaRight" fmla="*/ 259200 w 258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0" h="16">
                <a:moveTo>
                  <a:pt x="8" y="0"/>
                </a:moveTo>
                <a:lnTo>
                  <a:pt x="248" y="0"/>
                </a:lnTo>
                <a:cubicBezTo>
                  <a:pt x="252" y="0"/>
                  <a:pt x="256" y="3"/>
                  <a:pt x="256" y="8"/>
                </a:cubicBezTo>
                <a:cubicBezTo>
                  <a:pt x="256" y="12"/>
                  <a:pt x="252" y="16"/>
                  <a:pt x="248" y="16"/>
                </a:cubicBezTo>
                <a:lnTo>
                  <a:pt x="8" y="16"/>
                </a:lnTo>
                <a:cubicBezTo>
                  <a:pt x="4" y="16"/>
                  <a:pt x="0" y="12"/>
                  <a:pt x="0" y="8"/>
                </a:cubicBezTo>
                <a:cubicBezTo>
                  <a:pt x="0" y="3"/>
                  <a:pt x="4" y="0"/>
                  <a:pt x="8" y="0"/>
                </a:cubicBezTo>
                <a:close/>
                <a:moveTo>
                  <a:pt x="392" y="0"/>
                </a:moveTo>
                <a:lnTo>
                  <a:pt x="552" y="0"/>
                </a:lnTo>
                <a:cubicBezTo>
                  <a:pt x="557" y="0"/>
                  <a:pt x="560" y="3"/>
                  <a:pt x="560" y="8"/>
                </a:cubicBezTo>
                <a:cubicBezTo>
                  <a:pt x="560" y="12"/>
                  <a:pt x="557" y="16"/>
                  <a:pt x="552" y="16"/>
                </a:cubicBezTo>
                <a:lnTo>
                  <a:pt x="392" y="16"/>
                </a:lnTo>
                <a:cubicBezTo>
                  <a:pt x="388" y="16"/>
                  <a:pt x="384" y="12"/>
                  <a:pt x="384" y="8"/>
                </a:cubicBezTo>
                <a:cubicBezTo>
                  <a:pt x="384" y="3"/>
                  <a:pt x="388" y="0"/>
                  <a:pt x="392" y="0"/>
                </a:cubicBezTo>
                <a:close/>
              </a:path>
            </a:pathLst>
          </a:custGeom>
          <a:solidFill>
            <a:srgbClr val="ff0000"/>
          </a:solidFill>
          <a:ln w="79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215"/>
          <p:cNvSpPr/>
          <p:nvPr/>
        </p:nvSpPr>
        <p:spPr>
          <a:xfrm>
            <a:off x="1874160" y="618156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216"/>
          <p:cNvSpPr/>
          <p:nvPr/>
        </p:nvSpPr>
        <p:spPr>
          <a:xfrm>
            <a:off x="7854480" y="6308640"/>
            <a:ext cx="98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оповещ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217"/>
          <p:cNvSpPr/>
          <p:nvPr/>
        </p:nvSpPr>
        <p:spPr>
          <a:xfrm>
            <a:off x="7905240" y="6524640"/>
            <a:ext cx="270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ЦСД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218"/>
          <p:cNvSpPr/>
          <p:nvPr/>
        </p:nvSpPr>
        <p:spPr>
          <a:xfrm>
            <a:off x="1874160" y="645624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2219"/>
          <p:cNvSpPr/>
          <p:nvPr/>
        </p:nvSpPr>
        <p:spPr>
          <a:xfrm>
            <a:off x="7985160" y="6721560"/>
            <a:ext cx="90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омкоговорител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2220"/>
          <p:cNvSpPr/>
          <p:nvPr/>
        </p:nvSpPr>
        <p:spPr>
          <a:xfrm>
            <a:off x="7510320" y="4941720"/>
            <a:ext cx="130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СЛОВНЫЕ ОБОЗНАЧЕН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2221"/>
          <p:cNvSpPr/>
          <p:nvPr/>
        </p:nvSpPr>
        <p:spPr>
          <a:xfrm flipH="1">
            <a:off x="1501920" y="6469200"/>
            <a:ext cx="55440" cy="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2225"/>
          <p:cNvSpPr/>
          <p:nvPr/>
        </p:nvSpPr>
        <p:spPr>
          <a:xfrm>
            <a:off x="1515960" y="6519960"/>
            <a:ext cx="2556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2229"/>
          <p:cNvSpPr/>
          <p:nvPr/>
        </p:nvSpPr>
        <p:spPr>
          <a:xfrm>
            <a:off x="5219640" y="3573360"/>
            <a:ext cx="68400" cy="1573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2238"/>
          <p:cNvSpPr/>
          <p:nvPr/>
        </p:nvSpPr>
        <p:spPr>
          <a:xfrm>
            <a:off x="4284720" y="2997360"/>
            <a:ext cx="1800000" cy="14634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463400"/>
              <a:gd name="textAreaBottom" fmla="*/ 1463760 h 1463400"/>
            </a:gdLst>
            <a:ahLst/>
            <a:rect l="textAreaLeft" t="textAreaTop" r="textAreaRight" b="textAreaBottom"/>
            <a:pathLst>
              <a:path w="3668" h="3167">
                <a:moveTo>
                  <a:pt x="3616" y="1696"/>
                </a:moveTo>
                <a:lnTo>
                  <a:pt x="3622" y="1582"/>
                </a:lnTo>
                <a:lnTo>
                  <a:pt x="3613" y="1426"/>
                </a:lnTo>
                <a:lnTo>
                  <a:pt x="3605" y="1380"/>
                </a:lnTo>
                <a:cubicBezTo>
                  <a:pt x="3603" y="1368"/>
                  <a:pt x="3611" y="1356"/>
                  <a:pt x="3624" y="1353"/>
                </a:cubicBezTo>
                <a:cubicBezTo>
                  <a:pt x="3636" y="1351"/>
                  <a:pt x="3648" y="1360"/>
                  <a:pt x="3650" y="1372"/>
                </a:cubicBezTo>
                <a:lnTo>
                  <a:pt x="3659" y="1423"/>
                </a:lnTo>
                <a:lnTo>
                  <a:pt x="3668" y="1585"/>
                </a:lnTo>
                <a:lnTo>
                  <a:pt x="3662" y="1699"/>
                </a:lnTo>
                <a:cubicBezTo>
                  <a:pt x="3661" y="1711"/>
                  <a:pt x="3650" y="1721"/>
                  <a:pt x="3638" y="1720"/>
                </a:cubicBezTo>
                <a:cubicBezTo>
                  <a:pt x="3625" y="1720"/>
                  <a:pt x="3615" y="1709"/>
                  <a:pt x="3616" y="1696"/>
                </a:cubicBezTo>
                <a:close/>
                <a:moveTo>
                  <a:pt x="3551" y="1159"/>
                </a:moveTo>
                <a:lnTo>
                  <a:pt x="3541" y="1126"/>
                </a:lnTo>
                <a:lnTo>
                  <a:pt x="3481" y="986"/>
                </a:lnTo>
                <a:lnTo>
                  <a:pt x="3418" y="872"/>
                </a:lnTo>
                <a:cubicBezTo>
                  <a:pt x="3412" y="861"/>
                  <a:pt x="3415" y="847"/>
                  <a:pt x="3427" y="841"/>
                </a:cubicBezTo>
                <a:cubicBezTo>
                  <a:pt x="3438" y="834"/>
                  <a:pt x="3452" y="838"/>
                  <a:pt x="3458" y="850"/>
                </a:cubicBezTo>
                <a:lnTo>
                  <a:pt x="3524" y="967"/>
                </a:lnTo>
                <a:lnTo>
                  <a:pt x="3586" y="1113"/>
                </a:lnTo>
                <a:lnTo>
                  <a:pt x="3595" y="1146"/>
                </a:lnTo>
                <a:cubicBezTo>
                  <a:pt x="3599" y="1158"/>
                  <a:pt x="3592" y="1171"/>
                  <a:pt x="3580" y="1175"/>
                </a:cubicBezTo>
                <a:cubicBezTo>
                  <a:pt x="3568" y="1178"/>
                  <a:pt x="3555" y="1171"/>
                  <a:pt x="3551" y="1159"/>
                </a:cubicBezTo>
                <a:close/>
                <a:moveTo>
                  <a:pt x="3286" y="689"/>
                </a:moveTo>
                <a:lnTo>
                  <a:pt x="3214" y="607"/>
                </a:lnTo>
                <a:lnTo>
                  <a:pt x="3099" y="497"/>
                </a:lnTo>
                <a:lnTo>
                  <a:pt x="3060" y="467"/>
                </a:lnTo>
                <a:cubicBezTo>
                  <a:pt x="3050" y="459"/>
                  <a:pt x="3048" y="444"/>
                  <a:pt x="3056" y="434"/>
                </a:cubicBezTo>
                <a:cubicBezTo>
                  <a:pt x="3063" y="424"/>
                  <a:pt x="3078" y="423"/>
                  <a:pt x="3088" y="430"/>
                </a:cubicBezTo>
                <a:lnTo>
                  <a:pt x="3130" y="464"/>
                </a:lnTo>
                <a:lnTo>
                  <a:pt x="3249" y="576"/>
                </a:lnTo>
                <a:lnTo>
                  <a:pt x="3321" y="659"/>
                </a:lnTo>
                <a:cubicBezTo>
                  <a:pt x="3329" y="669"/>
                  <a:pt x="3328" y="683"/>
                  <a:pt x="3318" y="692"/>
                </a:cubicBezTo>
                <a:cubicBezTo>
                  <a:pt x="3309" y="700"/>
                  <a:pt x="3294" y="699"/>
                  <a:pt x="3286" y="689"/>
                </a:cubicBezTo>
                <a:close/>
                <a:moveTo>
                  <a:pt x="2873" y="335"/>
                </a:moveTo>
                <a:lnTo>
                  <a:pt x="2833" y="310"/>
                </a:lnTo>
                <a:lnTo>
                  <a:pt x="2686" y="232"/>
                </a:lnTo>
                <a:lnTo>
                  <a:pt x="2589" y="193"/>
                </a:lnTo>
                <a:cubicBezTo>
                  <a:pt x="2578" y="188"/>
                  <a:pt x="2572" y="174"/>
                  <a:pt x="2577" y="163"/>
                </a:cubicBezTo>
                <a:cubicBezTo>
                  <a:pt x="2582" y="151"/>
                  <a:pt x="2595" y="145"/>
                  <a:pt x="2607" y="150"/>
                </a:cubicBezTo>
                <a:lnTo>
                  <a:pt x="2707" y="191"/>
                </a:lnTo>
                <a:lnTo>
                  <a:pt x="2858" y="271"/>
                </a:lnTo>
                <a:lnTo>
                  <a:pt x="2898" y="297"/>
                </a:lnTo>
                <a:cubicBezTo>
                  <a:pt x="2909" y="303"/>
                  <a:pt x="2912" y="318"/>
                  <a:pt x="2905" y="328"/>
                </a:cubicBezTo>
                <a:cubicBezTo>
                  <a:pt x="2898" y="339"/>
                  <a:pt x="2884" y="342"/>
                  <a:pt x="2873" y="335"/>
                </a:cubicBezTo>
                <a:close/>
                <a:moveTo>
                  <a:pt x="2373" y="119"/>
                </a:moveTo>
                <a:lnTo>
                  <a:pt x="2363" y="115"/>
                </a:lnTo>
                <a:lnTo>
                  <a:pt x="2193" y="78"/>
                </a:lnTo>
                <a:lnTo>
                  <a:pt x="2060" y="61"/>
                </a:lnTo>
                <a:cubicBezTo>
                  <a:pt x="2048" y="59"/>
                  <a:pt x="2039" y="47"/>
                  <a:pt x="2041" y="35"/>
                </a:cubicBezTo>
                <a:cubicBezTo>
                  <a:pt x="2042" y="22"/>
                  <a:pt x="2054" y="13"/>
                  <a:pt x="2066" y="15"/>
                </a:cubicBezTo>
                <a:lnTo>
                  <a:pt x="2202" y="33"/>
                </a:lnTo>
                <a:lnTo>
                  <a:pt x="2377" y="72"/>
                </a:lnTo>
                <a:lnTo>
                  <a:pt x="2387" y="75"/>
                </a:lnTo>
                <a:cubicBezTo>
                  <a:pt x="2399" y="78"/>
                  <a:pt x="2406" y="91"/>
                  <a:pt x="2402" y="104"/>
                </a:cubicBezTo>
                <a:cubicBezTo>
                  <a:pt x="2398" y="116"/>
                  <a:pt x="2385" y="122"/>
                  <a:pt x="2373" y="119"/>
                </a:cubicBezTo>
                <a:close/>
                <a:moveTo>
                  <a:pt x="1833" y="47"/>
                </a:moveTo>
                <a:lnTo>
                  <a:pt x="1830" y="46"/>
                </a:lnTo>
                <a:lnTo>
                  <a:pt x="1647" y="54"/>
                </a:lnTo>
                <a:lnTo>
                  <a:pt x="1515" y="72"/>
                </a:lnTo>
                <a:cubicBezTo>
                  <a:pt x="1503" y="74"/>
                  <a:pt x="1491" y="65"/>
                  <a:pt x="1490" y="52"/>
                </a:cubicBezTo>
                <a:cubicBezTo>
                  <a:pt x="1488" y="40"/>
                  <a:pt x="1497" y="28"/>
                  <a:pt x="1509" y="26"/>
                </a:cubicBezTo>
                <a:lnTo>
                  <a:pt x="1645" y="8"/>
                </a:lnTo>
                <a:lnTo>
                  <a:pt x="1832" y="0"/>
                </a:lnTo>
                <a:lnTo>
                  <a:pt x="1835" y="1"/>
                </a:lnTo>
                <a:cubicBezTo>
                  <a:pt x="1847" y="1"/>
                  <a:pt x="1857" y="12"/>
                  <a:pt x="1857" y="25"/>
                </a:cubicBezTo>
                <a:cubicBezTo>
                  <a:pt x="1856" y="37"/>
                  <a:pt x="1845" y="47"/>
                  <a:pt x="1833" y="47"/>
                </a:cubicBezTo>
                <a:close/>
                <a:moveTo>
                  <a:pt x="1294" y="117"/>
                </a:moveTo>
                <a:lnTo>
                  <a:pt x="1132" y="168"/>
                </a:lnTo>
                <a:lnTo>
                  <a:pt x="992" y="226"/>
                </a:lnTo>
                <a:cubicBezTo>
                  <a:pt x="981" y="231"/>
                  <a:pt x="967" y="225"/>
                  <a:pt x="962" y="213"/>
                </a:cubicBezTo>
                <a:cubicBezTo>
                  <a:pt x="957" y="201"/>
                  <a:pt x="963" y="188"/>
                  <a:pt x="975" y="183"/>
                </a:cubicBezTo>
                <a:lnTo>
                  <a:pt x="1118" y="125"/>
                </a:lnTo>
                <a:lnTo>
                  <a:pt x="1280" y="73"/>
                </a:lnTo>
                <a:cubicBezTo>
                  <a:pt x="1292" y="69"/>
                  <a:pt x="1305" y="76"/>
                  <a:pt x="1309" y="88"/>
                </a:cubicBezTo>
                <a:cubicBezTo>
                  <a:pt x="1313" y="100"/>
                  <a:pt x="1306" y="113"/>
                  <a:pt x="1294" y="117"/>
                </a:cubicBezTo>
                <a:close/>
                <a:moveTo>
                  <a:pt x="793" y="333"/>
                </a:moveTo>
                <a:lnTo>
                  <a:pt x="690" y="399"/>
                </a:lnTo>
                <a:lnTo>
                  <a:pt x="563" y="499"/>
                </a:lnTo>
                <a:lnTo>
                  <a:pt x="538" y="522"/>
                </a:lnTo>
                <a:cubicBezTo>
                  <a:pt x="529" y="531"/>
                  <a:pt x="514" y="530"/>
                  <a:pt x="506" y="521"/>
                </a:cubicBezTo>
                <a:cubicBezTo>
                  <a:pt x="497" y="512"/>
                  <a:pt x="497" y="497"/>
                  <a:pt x="506" y="489"/>
                </a:cubicBezTo>
                <a:lnTo>
                  <a:pt x="534" y="462"/>
                </a:lnTo>
                <a:lnTo>
                  <a:pt x="665" y="360"/>
                </a:lnTo>
                <a:lnTo>
                  <a:pt x="769" y="294"/>
                </a:lnTo>
                <a:cubicBezTo>
                  <a:pt x="779" y="287"/>
                  <a:pt x="794" y="291"/>
                  <a:pt x="800" y="301"/>
                </a:cubicBezTo>
                <a:cubicBezTo>
                  <a:pt x="807" y="312"/>
                  <a:pt x="804" y="326"/>
                  <a:pt x="793" y="333"/>
                </a:cubicBezTo>
                <a:close/>
                <a:moveTo>
                  <a:pt x="380" y="686"/>
                </a:moveTo>
                <a:lnTo>
                  <a:pt x="345" y="727"/>
                </a:lnTo>
                <a:lnTo>
                  <a:pt x="255" y="854"/>
                </a:lnTo>
                <a:lnTo>
                  <a:pt x="202" y="949"/>
                </a:lnTo>
                <a:cubicBezTo>
                  <a:pt x="196" y="960"/>
                  <a:pt x="182" y="964"/>
                  <a:pt x="171" y="958"/>
                </a:cubicBezTo>
                <a:cubicBezTo>
                  <a:pt x="160" y="951"/>
                  <a:pt x="156" y="937"/>
                  <a:pt x="162" y="926"/>
                </a:cubicBezTo>
                <a:lnTo>
                  <a:pt x="218" y="827"/>
                </a:lnTo>
                <a:lnTo>
                  <a:pt x="310" y="696"/>
                </a:lnTo>
                <a:lnTo>
                  <a:pt x="345" y="656"/>
                </a:lnTo>
                <a:cubicBezTo>
                  <a:pt x="354" y="646"/>
                  <a:pt x="368" y="645"/>
                  <a:pt x="378" y="654"/>
                </a:cubicBezTo>
                <a:cubicBezTo>
                  <a:pt x="387" y="662"/>
                  <a:pt x="388" y="676"/>
                  <a:pt x="380" y="686"/>
                </a:cubicBezTo>
                <a:close/>
                <a:moveTo>
                  <a:pt x="113" y="1155"/>
                </a:moveTo>
                <a:lnTo>
                  <a:pt x="77" y="1276"/>
                </a:lnTo>
                <a:lnTo>
                  <a:pt x="49" y="1429"/>
                </a:lnTo>
                <a:lnTo>
                  <a:pt x="47" y="1464"/>
                </a:lnTo>
                <a:cubicBezTo>
                  <a:pt x="47" y="1477"/>
                  <a:pt x="36" y="1487"/>
                  <a:pt x="23" y="1486"/>
                </a:cubicBezTo>
                <a:cubicBezTo>
                  <a:pt x="10" y="1485"/>
                  <a:pt x="1" y="1474"/>
                  <a:pt x="1" y="1462"/>
                </a:cubicBezTo>
                <a:lnTo>
                  <a:pt x="4" y="1420"/>
                </a:lnTo>
                <a:lnTo>
                  <a:pt x="32" y="1263"/>
                </a:lnTo>
                <a:lnTo>
                  <a:pt x="69" y="1142"/>
                </a:lnTo>
                <a:cubicBezTo>
                  <a:pt x="72" y="1130"/>
                  <a:pt x="85" y="1123"/>
                  <a:pt x="97" y="1126"/>
                </a:cubicBezTo>
                <a:cubicBezTo>
                  <a:pt x="110" y="1130"/>
                  <a:pt x="117" y="1143"/>
                  <a:pt x="113" y="1155"/>
                </a:cubicBezTo>
                <a:close/>
                <a:moveTo>
                  <a:pt x="47" y="1692"/>
                </a:moveTo>
                <a:lnTo>
                  <a:pt x="49" y="1742"/>
                </a:lnTo>
                <a:lnTo>
                  <a:pt x="77" y="1894"/>
                </a:lnTo>
                <a:lnTo>
                  <a:pt x="110" y="2002"/>
                </a:lnTo>
                <a:cubicBezTo>
                  <a:pt x="113" y="2014"/>
                  <a:pt x="106" y="2027"/>
                  <a:pt x="94" y="2030"/>
                </a:cubicBezTo>
                <a:cubicBezTo>
                  <a:pt x="82" y="2034"/>
                  <a:pt x="69" y="2027"/>
                  <a:pt x="66" y="2015"/>
                </a:cubicBezTo>
                <a:lnTo>
                  <a:pt x="32" y="1903"/>
                </a:lnTo>
                <a:lnTo>
                  <a:pt x="3" y="1745"/>
                </a:lnTo>
                <a:lnTo>
                  <a:pt x="1" y="1694"/>
                </a:lnTo>
                <a:cubicBezTo>
                  <a:pt x="0" y="1682"/>
                  <a:pt x="10" y="1671"/>
                  <a:pt x="22" y="1670"/>
                </a:cubicBezTo>
                <a:cubicBezTo>
                  <a:pt x="35" y="1669"/>
                  <a:pt x="46" y="1679"/>
                  <a:pt x="47" y="1692"/>
                </a:cubicBezTo>
                <a:close/>
                <a:moveTo>
                  <a:pt x="197" y="2209"/>
                </a:moveTo>
                <a:lnTo>
                  <a:pt x="257" y="2316"/>
                </a:lnTo>
                <a:lnTo>
                  <a:pt x="346" y="2442"/>
                </a:lnTo>
                <a:lnTo>
                  <a:pt x="373" y="2473"/>
                </a:lnTo>
                <a:cubicBezTo>
                  <a:pt x="381" y="2482"/>
                  <a:pt x="380" y="2497"/>
                  <a:pt x="371" y="2505"/>
                </a:cubicBezTo>
                <a:cubicBezTo>
                  <a:pt x="361" y="2514"/>
                  <a:pt x="346" y="2512"/>
                  <a:pt x="338" y="2503"/>
                </a:cubicBezTo>
                <a:lnTo>
                  <a:pt x="309" y="2469"/>
                </a:lnTo>
                <a:lnTo>
                  <a:pt x="216" y="2339"/>
                </a:lnTo>
                <a:lnTo>
                  <a:pt x="157" y="2231"/>
                </a:lnTo>
                <a:cubicBezTo>
                  <a:pt x="151" y="2220"/>
                  <a:pt x="155" y="2206"/>
                  <a:pt x="166" y="2200"/>
                </a:cubicBezTo>
                <a:cubicBezTo>
                  <a:pt x="177" y="2194"/>
                  <a:pt x="191" y="2198"/>
                  <a:pt x="197" y="2209"/>
                </a:cubicBezTo>
                <a:close/>
                <a:moveTo>
                  <a:pt x="530" y="2637"/>
                </a:moveTo>
                <a:lnTo>
                  <a:pt x="564" y="2670"/>
                </a:lnTo>
                <a:lnTo>
                  <a:pt x="692" y="2769"/>
                </a:lnTo>
                <a:lnTo>
                  <a:pt x="784" y="2829"/>
                </a:lnTo>
                <a:cubicBezTo>
                  <a:pt x="795" y="2835"/>
                  <a:pt x="798" y="2850"/>
                  <a:pt x="791" y="2860"/>
                </a:cubicBezTo>
                <a:cubicBezTo>
                  <a:pt x="784" y="2871"/>
                  <a:pt x="770" y="2874"/>
                  <a:pt x="759" y="2867"/>
                </a:cubicBezTo>
                <a:lnTo>
                  <a:pt x="663" y="2806"/>
                </a:lnTo>
                <a:lnTo>
                  <a:pt x="533" y="2703"/>
                </a:lnTo>
                <a:lnTo>
                  <a:pt x="499" y="2671"/>
                </a:lnTo>
                <a:cubicBezTo>
                  <a:pt x="489" y="2662"/>
                  <a:pt x="489" y="2648"/>
                  <a:pt x="498" y="2638"/>
                </a:cubicBezTo>
                <a:cubicBezTo>
                  <a:pt x="506" y="2629"/>
                  <a:pt x="521" y="2629"/>
                  <a:pt x="530" y="2637"/>
                </a:cubicBezTo>
                <a:close/>
                <a:moveTo>
                  <a:pt x="982" y="2937"/>
                </a:moveTo>
                <a:lnTo>
                  <a:pt x="1134" y="2999"/>
                </a:lnTo>
                <a:lnTo>
                  <a:pt x="1283" y="3046"/>
                </a:lnTo>
                <a:cubicBezTo>
                  <a:pt x="1296" y="3050"/>
                  <a:pt x="1302" y="3063"/>
                  <a:pt x="1298" y="3075"/>
                </a:cubicBezTo>
                <a:cubicBezTo>
                  <a:pt x="1295" y="3087"/>
                  <a:pt x="1282" y="3094"/>
                  <a:pt x="1269" y="3090"/>
                </a:cubicBezTo>
                <a:lnTo>
                  <a:pt x="1117" y="3042"/>
                </a:lnTo>
                <a:lnTo>
                  <a:pt x="965" y="2980"/>
                </a:lnTo>
                <a:cubicBezTo>
                  <a:pt x="953" y="2975"/>
                  <a:pt x="947" y="2961"/>
                  <a:pt x="952" y="2950"/>
                </a:cubicBezTo>
                <a:cubicBezTo>
                  <a:pt x="957" y="2938"/>
                  <a:pt x="970" y="2932"/>
                  <a:pt x="982" y="2937"/>
                </a:cubicBezTo>
                <a:close/>
                <a:moveTo>
                  <a:pt x="1505" y="3093"/>
                </a:moveTo>
                <a:lnTo>
                  <a:pt x="1649" y="3113"/>
                </a:lnTo>
                <a:lnTo>
                  <a:pt x="1824" y="3120"/>
                </a:lnTo>
                <a:cubicBezTo>
                  <a:pt x="1836" y="3121"/>
                  <a:pt x="1846" y="3131"/>
                  <a:pt x="1846" y="3144"/>
                </a:cubicBezTo>
                <a:cubicBezTo>
                  <a:pt x="1845" y="3157"/>
                  <a:pt x="1834" y="3167"/>
                  <a:pt x="1822" y="3166"/>
                </a:cubicBezTo>
                <a:lnTo>
                  <a:pt x="1642" y="3158"/>
                </a:lnTo>
                <a:lnTo>
                  <a:pt x="1499" y="3139"/>
                </a:lnTo>
                <a:cubicBezTo>
                  <a:pt x="1486" y="3137"/>
                  <a:pt x="1477" y="3126"/>
                  <a:pt x="1479" y="3113"/>
                </a:cubicBezTo>
                <a:cubicBezTo>
                  <a:pt x="1480" y="3101"/>
                  <a:pt x="1492" y="3092"/>
                  <a:pt x="1505" y="3093"/>
                </a:cubicBezTo>
                <a:close/>
                <a:moveTo>
                  <a:pt x="2050" y="3108"/>
                </a:moveTo>
                <a:lnTo>
                  <a:pt x="2194" y="3089"/>
                </a:lnTo>
                <a:lnTo>
                  <a:pt x="2365" y="3051"/>
                </a:lnTo>
                <a:cubicBezTo>
                  <a:pt x="2377" y="3048"/>
                  <a:pt x="2390" y="3056"/>
                  <a:pt x="2392" y="3069"/>
                </a:cubicBezTo>
                <a:cubicBezTo>
                  <a:pt x="2395" y="3081"/>
                  <a:pt x="2387" y="3093"/>
                  <a:pt x="2375" y="3096"/>
                </a:cubicBezTo>
                <a:lnTo>
                  <a:pt x="2200" y="3134"/>
                </a:lnTo>
                <a:lnTo>
                  <a:pt x="2056" y="3154"/>
                </a:lnTo>
                <a:cubicBezTo>
                  <a:pt x="2043" y="3155"/>
                  <a:pt x="2031" y="3146"/>
                  <a:pt x="2030" y="3134"/>
                </a:cubicBezTo>
                <a:cubicBezTo>
                  <a:pt x="2028" y="3121"/>
                  <a:pt x="2037" y="3110"/>
                  <a:pt x="2050" y="3108"/>
                </a:cubicBezTo>
                <a:close/>
                <a:moveTo>
                  <a:pt x="2579" y="2979"/>
                </a:moveTo>
                <a:lnTo>
                  <a:pt x="2688" y="2934"/>
                </a:lnTo>
                <a:lnTo>
                  <a:pt x="2835" y="2857"/>
                </a:lnTo>
                <a:lnTo>
                  <a:pt x="2864" y="2838"/>
                </a:lnTo>
                <a:cubicBezTo>
                  <a:pt x="2875" y="2831"/>
                  <a:pt x="2889" y="2834"/>
                  <a:pt x="2896" y="2845"/>
                </a:cubicBezTo>
                <a:cubicBezTo>
                  <a:pt x="2903" y="2856"/>
                  <a:pt x="2900" y="2870"/>
                  <a:pt x="2889" y="2877"/>
                </a:cubicBezTo>
                <a:lnTo>
                  <a:pt x="2856" y="2898"/>
                </a:lnTo>
                <a:lnTo>
                  <a:pt x="2705" y="2977"/>
                </a:lnTo>
                <a:lnTo>
                  <a:pt x="2597" y="3021"/>
                </a:lnTo>
                <a:cubicBezTo>
                  <a:pt x="2585" y="3026"/>
                  <a:pt x="2571" y="3020"/>
                  <a:pt x="2567" y="3009"/>
                </a:cubicBezTo>
                <a:cubicBezTo>
                  <a:pt x="2562" y="2997"/>
                  <a:pt x="2567" y="2983"/>
                  <a:pt x="2579" y="2979"/>
                </a:cubicBezTo>
                <a:close/>
                <a:moveTo>
                  <a:pt x="3051" y="2707"/>
                </a:moveTo>
                <a:lnTo>
                  <a:pt x="3100" y="2668"/>
                </a:lnTo>
                <a:lnTo>
                  <a:pt x="3216" y="2559"/>
                </a:lnTo>
                <a:lnTo>
                  <a:pt x="3279" y="2486"/>
                </a:lnTo>
                <a:cubicBezTo>
                  <a:pt x="3287" y="2476"/>
                  <a:pt x="3301" y="2475"/>
                  <a:pt x="3311" y="2484"/>
                </a:cubicBezTo>
                <a:cubicBezTo>
                  <a:pt x="3321" y="2492"/>
                  <a:pt x="3322" y="2506"/>
                  <a:pt x="3313" y="2516"/>
                </a:cubicBezTo>
                <a:lnTo>
                  <a:pt x="3247" y="2592"/>
                </a:lnTo>
                <a:lnTo>
                  <a:pt x="3129" y="2705"/>
                </a:lnTo>
                <a:lnTo>
                  <a:pt x="3079" y="2743"/>
                </a:lnTo>
                <a:cubicBezTo>
                  <a:pt x="3069" y="2751"/>
                  <a:pt x="3055" y="2749"/>
                  <a:pt x="3047" y="2739"/>
                </a:cubicBezTo>
                <a:cubicBezTo>
                  <a:pt x="3039" y="2729"/>
                  <a:pt x="3041" y="2715"/>
                  <a:pt x="3051" y="2707"/>
                </a:cubicBezTo>
                <a:close/>
                <a:moveTo>
                  <a:pt x="3413" y="2305"/>
                </a:moveTo>
                <a:lnTo>
                  <a:pt x="3482" y="2179"/>
                </a:lnTo>
                <a:lnTo>
                  <a:pt x="3542" y="2038"/>
                </a:lnTo>
                <a:lnTo>
                  <a:pt x="3548" y="2018"/>
                </a:lnTo>
                <a:cubicBezTo>
                  <a:pt x="3552" y="2006"/>
                  <a:pt x="3565" y="1999"/>
                  <a:pt x="3577" y="2003"/>
                </a:cubicBezTo>
                <a:cubicBezTo>
                  <a:pt x="3589" y="2007"/>
                  <a:pt x="3596" y="2019"/>
                  <a:pt x="3592" y="2032"/>
                </a:cubicBezTo>
                <a:lnTo>
                  <a:pt x="3585" y="2057"/>
                </a:lnTo>
                <a:lnTo>
                  <a:pt x="3523" y="2202"/>
                </a:lnTo>
                <a:lnTo>
                  <a:pt x="3453" y="2327"/>
                </a:lnTo>
                <a:cubicBezTo>
                  <a:pt x="3447" y="2338"/>
                  <a:pt x="3433" y="2342"/>
                  <a:pt x="3422" y="2336"/>
                </a:cubicBezTo>
                <a:cubicBezTo>
                  <a:pt x="3411" y="2330"/>
                  <a:pt x="3406" y="2316"/>
                  <a:pt x="3413" y="2305"/>
                </a:cubicBezTo>
                <a:close/>
                <a:moveTo>
                  <a:pt x="3603" y="1798"/>
                </a:moveTo>
                <a:lnTo>
                  <a:pt x="3614" y="1739"/>
                </a:lnTo>
                <a:cubicBezTo>
                  <a:pt x="3616" y="1727"/>
                  <a:pt x="3628" y="1719"/>
                  <a:pt x="3641" y="1721"/>
                </a:cubicBezTo>
                <a:cubicBezTo>
                  <a:pt x="3653" y="1723"/>
                  <a:pt x="3661" y="1735"/>
                  <a:pt x="3659" y="1748"/>
                </a:cubicBezTo>
                <a:lnTo>
                  <a:pt x="3649" y="1806"/>
                </a:lnTo>
                <a:cubicBezTo>
                  <a:pt x="3646" y="1818"/>
                  <a:pt x="3634" y="1827"/>
                  <a:pt x="3622" y="1824"/>
                </a:cubicBezTo>
                <a:cubicBezTo>
                  <a:pt x="3609" y="1822"/>
                  <a:pt x="3601" y="1810"/>
                  <a:pt x="3603" y="1798"/>
                </a:cubicBezTo>
                <a:close/>
              </a:path>
            </a:pathLst>
          </a:custGeom>
          <a:solidFill>
            <a:srgbClr val="ff0000"/>
          </a:solidFill>
          <a:ln w="79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2245"/>
          <p:cNvSpPr/>
          <p:nvPr/>
        </p:nvSpPr>
        <p:spPr>
          <a:xfrm>
            <a:off x="5651640" y="1700280"/>
            <a:ext cx="2089080" cy="136836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1368360"/>
              <a:gd name="textAreaBottom" fmla="*/ 1368360 h 1368360"/>
            </a:gdLst>
            <a:ahLst/>
            <a:rect l="textAreaLeft" t="textAreaTop" r="textAreaRight" b="textAreaBottom"/>
            <a:pathLst>
              <a:path w="3669" h="3168">
                <a:moveTo>
                  <a:pt x="3617" y="1696"/>
                </a:moveTo>
                <a:lnTo>
                  <a:pt x="3623" y="1582"/>
                </a:lnTo>
                <a:lnTo>
                  <a:pt x="3614" y="1426"/>
                </a:lnTo>
                <a:lnTo>
                  <a:pt x="3606" y="1380"/>
                </a:lnTo>
                <a:cubicBezTo>
                  <a:pt x="3604" y="1368"/>
                  <a:pt x="3612" y="1356"/>
                  <a:pt x="3625" y="1353"/>
                </a:cubicBezTo>
                <a:cubicBezTo>
                  <a:pt x="3637" y="1351"/>
                  <a:pt x="3649" y="1360"/>
                  <a:pt x="3651" y="1372"/>
                </a:cubicBezTo>
                <a:lnTo>
                  <a:pt x="3660" y="1423"/>
                </a:lnTo>
                <a:lnTo>
                  <a:pt x="3669" y="1585"/>
                </a:lnTo>
                <a:lnTo>
                  <a:pt x="3663" y="1699"/>
                </a:lnTo>
                <a:cubicBezTo>
                  <a:pt x="3662" y="1711"/>
                  <a:pt x="3651" y="1721"/>
                  <a:pt x="3639" y="1720"/>
                </a:cubicBezTo>
                <a:cubicBezTo>
                  <a:pt x="3626" y="1720"/>
                  <a:pt x="3616" y="1709"/>
                  <a:pt x="3617" y="1696"/>
                </a:cubicBezTo>
                <a:close/>
                <a:moveTo>
                  <a:pt x="3552" y="1159"/>
                </a:moveTo>
                <a:lnTo>
                  <a:pt x="3542" y="1126"/>
                </a:lnTo>
                <a:lnTo>
                  <a:pt x="3482" y="986"/>
                </a:lnTo>
                <a:lnTo>
                  <a:pt x="3419" y="872"/>
                </a:lnTo>
                <a:cubicBezTo>
                  <a:pt x="3413" y="861"/>
                  <a:pt x="3416" y="847"/>
                  <a:pt x="3428" y="841"/>
                </a:cubicBezTo>
                <a:cubicBezTo>
                  <a:pt x="3439" y="834"/>
                  <a:pt x="3453" y="838"/>
                  <a:pt x="3459" y="850"/>
                </a:cubicBezTo>
                <a:lnTo>
                  <a:pt x="3525" y="967"/>
                </a:lnTo>
                <a:lnTo>
                  <a:pt x="3587" y="1113"/>
                </a:lnTo>
                <a:lnTo>
                  <a:pt x="3596" y="1146"/>
                </a:lnTo>
                <a:cubicBezTo>
                  <a:pt x="3600" y="1158"/>
                  <a:pt x="3593" y="1171"/>
                  <a:pt x="3581" y="1175"/>
                </a:cubicBezTo>
                <a:cubicBezTo>
                  <a:pt x="3569" y="1178"/>
                  <a:pt x="3556" y="1171"/>
                  <a:pt x="3552" y="1159"/>
                </a:cubicBezTo>
                <a:close/>
                <a:moveTo>
                  <a:pt x="3287" y="689"/>
                </a:moveTo>
                <a:lnTo>
                  <a:pt x="3215" y="607"/>
                </a:lnTo>
                <a:lnTo>
                  <a:pt x="3100" y="497"/>
                </a:lnTo>
                <a:lnTo>
                  <a:pt x="3061" y="467"/>
                </a:lnTo>
                <a:cubicBezTo>
                  <a:pt x="3051" y="459"/>
                  <a:pt x="3049" y="444"/>
                  <a:pt x="3057" y="434"/>
                </a:cubicBezTo>
                <a:cubicBezTo>
                  <a:pt x="3064" y="424"/>
                  <a:pt x="3079" y="423"/>
                  <a:pt x="3089" y="430"/>
                </a:cubicBezTo>
                <a:lnTo>
                  <a:pt x="3131" y="464"/>
                </a:lnTo>
                <a:lnTo>
                  <a:pt x="3250" y="576"/>
                </a:lnTo>
                <a:lnTo>
                  <a:pt x="3322" y="659"/>
                </a:lnTo>
                <a:cubicBezTo>
                  <a:pt x="3330" y="669"/>
                  <a:pt x="3329" y="683"/>
                  <a:pt x="3319" y="692"/>
                </a:cubicBezTo>
                <a:cubicBezTo>
                  <a:pt x="3310" y="700"/>
                  <a:pt x="3295" y="699"/>
                  <a:pt x="3287" y="689"/>
                </a:cubicBezTo>
                <a:close/>
                <a:moveTo>
                  <a:pt x="2874" y="335"/>
                </a:moveTo>
                <a:lnTo>
                  <a:pt x="2834" y="310"/>
                </a:lnTo>
                <a:lnTo>
                  <a:pt x="2687" y="232"/>
                </a:lnTo>
                <a:lnTo>
                  <a:pt x="2590" y="193"/>
                </a:lnTo>
                <a:cubicBezTo>
                  <a:pt x="2579" y="188"/>
                  <a:pt x="2573" y="174"/>
                  <a:pt x="2578" y="163"/>
                </a:cubicBezTo>
                <a:cubicBezTo>
                  <a:pt x="2583" y="151"/>
                  <a:pt x="2596" y="145"/>
                  <a:pt x="2608" y="150"/>
                </a:cubicBezTo>
                <a:lnTo>
                  <a:pt x="2708" y="191"/>
                </a:lnTo>
                <a:lnTo>
                  <a:pt x="2859" y="271"/>
                </a:lnTo>
                <a:lnTo>
                  <a:pt x="2899" y="297"/>
                </a:lnTo>
                <a:cubicBezTo>
                  <a:pt x="2910" y="303"/>
                  <a:pt x="2913" y="318"/>
                  <a:pt x="2906" y="328"/>
                </a:cubicBezTo>
                <a:cubicBezTo>
                  <a:pt x="2899" y="339"/>
                  <a:pt x="2885" y="342"/>
                  <a:pt x="2874" y="335"/>
                </a:cubicBezTo>
                <a:close/>
                <a:moveTo>
                  <a:pt x="2374" y="119"/>
                </a:moveTo>
                <a:lnTo>
                  <a:pt x="2364" y="115"/>
                </a:lnTo>
                <a:lnTo>
                  <a:pt x="2194" y="78"/>
                </a:lnTo>
                <a:lnTo>
                  <a:pt x="2061" y="61"/>
                </a:lnTo>
                <a:cubicBezTo>
                  <a:pt x="2049" y="59"/>
                  <a:pt x="2040" y="47"/>
                  <a:pt x="2042" y="35"/>
                </a:cubicBezTo>
                <a:cubicBezTo>
                  <a:pt x="2043" y="22"/>
                  <a:pt x="2055" y="13"/>
                  <a:pt x="2067" y="15"/>
                </a:cubicBezTo>
                <a:lnTo>
                  <a:pt x="2203" y="33"/>
                </a:lnTo>
                <a:lnTo>
                  <a:pt x="2378" y="72"/>
                </a:lnTo>
                <a:lnTo>
                  <a:pt x="2388" y="75"/>
                </a:lnTo>
                <a:cubicBezTo>
                  <a:pt x="2400" y="78"/>
                  <a:pt x="2407" y="91"/>
                  <a:pt x="2403" y="104"/>
                </a:cubicBezTo>
                <a:cubicBezTo>
                  <a:pt x="2399" y="116"/>
                  <a:pt x="2386" y="122"/>
                  <a:pt x="2374" y="119"/>
                </a:cubicBezTo>
                <a:close/>
                <a:moveTo>
                  <a:pt x="1834" y="47"/>
                </a:moveTo>
                <a:lnTo>
                  <a:pt x="1831" y="46"/>
                </a:lnTo>
                <a:lnTo>
                  <a:pt x="1647" y="54"/>
                </a:lnTo>
                <a:lnTo>
                  <a:pt x="1516" y="72"/>
                </a:lnTo>
                <a:cubicBezTo>
                  <a:pt x="1504" y="74"/>
                  <a:pt x="1492" y="65"/>
                  <a:pt x="1491" y="52"/>
                </a:cubicBezTo>
                <a:cubicBezTo>
                  <a:pt x="1489" y="40"/>
                  <a:pt x="1498" y="28"/>
                  <a:pt x="1510" y="26"/>
                </a:cubicBezTo>
                <a:lnTo>
                  <a:pt x="1645" y="8"/>
                </a:lnTo>
                <a:lnTo>
                  <a:pt x="1833" y="0"/>
                </a:lnTo>
                <a:lnTo>
                  <a:pt x="1836" y="1"/>
                </a:lnTo>
                <a:cubicBezTo>
                  <a:pt x="1848" y="1"/>
                  <a:pt x="1858" y="12"/>
                  <a:pt x="1858" y="25"/>
                </a:cubicBezTo>
                <a:cubicBezTo>
                  <a:pt x="1857" y="37"/>
                  <a:pt x="1846" y="47"/>
                  <a:pt x="1834" y="47"/>
                </a:cubicBezTo>
                <a:close/>
                <a:moveTo>
                  <a:pt x="1295" y="117"/>
                </a:moveTo>
                <a:lnTo>
                  <a:pt x="1133" y="168"/>
                </a:lnTo>
                <a:lnTo>
                  <a:pt x="993" y="226"/>
                </a:lnTo>
                <a:cubicBezTo>
                  <a:pt x="982" y="231"/>
                  <a:pt x="968" y="225"/>
                  <a:pt x="963" y="213"/>
                </a:cubicBezTo>
                <a:cubicBezTo>
                  <a:pt x="959" y="201"/>
                  <a:pt x="964" y="188"/>
                  <a:pt x="976" y="183"/>
                </a:cubicBezTo>
                <a:lnTo>
                  <a:pt x="1119" y="125"/>
                </a:lnTo>
                <a:lnTo>
                  <a:pt x="1281" y="73"/>
                </a:lnTo>
                <a:cubicBezTo>
                  <a:pt x="1293" y="69"/>
                  <a:pt x="1306" y="76"/>
                  <a:pt x="1310" y="88"/>
                </a:cubicBezTo>
                <a:cubicBezTo>
                  <a:pt x="1314" y="100"/>
                  <a:pt x="1307" y="113"/>
                  <a:pt x="1295" y="117"/>
                </a:cubicBezTo>
                <a:close/>
                <a:moveTo>
                  <a:pt x="794" y="333"/>
                </a:moveTo>
                <a:lnTo>
                  <a:pt x="691" y="399"/>
                </a:lnTo>
                <a:lnTo>
                  <a:pt x="564" y="499"/>
                </a:lnTo>
                <a:lnTo>
                  <a:pt x="539" y="522"/>
                </a:lnTo>
                <a:cubicBezTo>
                  <a:pt x="530" y="531"/>
                  <a:pt x="515" y="530"/>
                  <a:pt x="507" y="521"/>
                </a:cubicBezTo>
                <a:cubicBezTo>
                  <a:pt x="498" y="512"/>
                  <a:pt x="498" y="497"/>
                  <a:pt x="508" y="489"/>
                </a:cubicBezTo>
                <a:lnTo>
                  <a:pt x="535" y="462"/>
                </a:lnTo>
                <a:lnTo>
                  <a:pt x="666" y="360"/>
                </a:lnTo>
                <a:lnTo>
                  <a:pt x="769" y="294"/>
                </a:lnTo>
                <a:cubicBezTo>
                  <a:pt x="780" y="287"/>
                  <a:pt x="794" y="290"/>
                  <a:pt x="801" y="301"/>
                </a:cubicBezTo>
                <a:cubicBezTo>
                  <a:pt x="808" y="312"/>
                  <a:pt x="805" y="326"/>
                  <a:pt x="794" y="333"/>
                </a:cubicBezTo>
                <a:close/>
                <a:moveTo>
                  <a:pt x="381" y="686"/>
                </a:moveTo>
                <a:lnTo>
                  <a:pt x="345" y="727"/>
                </a:lnTo>
                <a:lnTo>
                  <a:pt x="255" y="854"/>
                </a:lnTo>
                <a:lnTo>
                  <a:pt x="203" y="948"/>
                </a:lnTo>
                <a:cubicBezTo>
                  <a:pt x="197" y="959"/>
                  <a:pt x="183" y="963"/>
                  <a:pt x="171" y="957"/>
                </a:cubicBezTo>
                <a:cubicBezTo>
                  <a:pt x="160" y="951"/>
                  <a:pt x="156" y="937"/>
                  <a:pt x="163" y="926"/>
                </a:cubicBezTo>
                <a:lnTo>
                  <a:pt x="218" y="827"/>
                </a:lnTo>
                <a:lnTo>
                  <a:pt x="310" y="696"/>
                </a:lnTo>
                <a:lnTo>
                  <a:pt x="346" y="655"/>
                </a:lnTo>
                <a:cubicBezTo>
                  <a:pt x="354" y="646"/>
                  <a:pt x="369" y="645"/>
                  <a:pt x="378" y="653"/>
                </a:cubicBezTo>
                <a:cubicBezTo>
                  <a:pt x="388" y="662"/>
                  <a:pt x="389" y="676"/>
                  <a:pt x="381" y="686"/>
                </a:cubicBezTo>
                <a:close/>
                <a:moveTo>
                  <a:pt x="113" y="1154"/>
                </a:moveTo>
                <a:lnTo>
                  <a:pt x="77" y="1276"/>
                </a:lnTo>
                <a:lnTo>
                  <a:pt x="49" y="1429"/>
                </a:lnTo>
                <a:lnTo>
                  <a:pt x="47" y="1464"/>
                </a:lnTo>
                <a:cubicBezTo>
                  <a:pt x="47" y="1476"/>
                  <a:pt x="36" y="1486"/>
                  <a:pt x="23" y="1485"/>
                </a:cubicBezTo>
                <a:cubicBezTo>
                  <a:pt x="10" y="1485"/>
                  <a:pt x="1" y="1474"/>
                  <a:pt x="1" y="1461"/>
                </a:cubicBezTo>
                <a:lnTo>
                  <a:pt x="4" y="1420"/>
                </a:lnTo>
                <a:lnTo>
                  <a:pt x="32" y="1263"/>
                </a:lnTo>
                <a:lnTo>
                  <a:pt x="69" y="1141"/>
                </a:lnTo>
                <a:cubicBezTo>
                  <a:pt x="73" y="1129"/>
                  <a:pt x="85" y="1122"/>
                  <a:pt x="98" y="1126"/>
                </a:cubicBezTo>
                <a:cubicBezTo>
                  <a:pt x="110" y="1129"/>
                  <a:pt x="117" y="1142"/>
                  <a:pt x="113" y="1154"/>
                </a:cubicBezTo>
                <a:close/>
                <a:moveTo>
                  <a:pt x="47" y="1691"/>
                </a:moveTo>
                <a:lnTo>
                  <a:pt x="49" y="1742"/>
                </a:lnTo>
                <a:lnTo>
                  <a:pt x="77" y="1894"/>
                </a:lnTo>
                <a:lnTo>
                  <a:pt x="109" y="2001"/>
                </a:lnTo>
                <a:cubicBezTo>
                  <a:pt x="113" y="2013"/>
                  <a:pt x="106" y="2026"/>
                  <a:pt x="94" y="2030"/>
                </a:cubicBezTo>
                <a:cubicBezTo>
                  <a:pt x="82" y="2033"/>
                  <a:pt x="69" y="2026"/>
                  <a:pt x="65" y="2014"/>
                </a:cubicBezTo>
                <a:lnTo>
                  <a:pt x="32" y="1903"/>
                </a:lnTo>
                <a:lnTo>
                  <a:pt x="3" y="1745"/>
                </a:lnTo>
                <a:lnTo>
                  <a:pt x="1" y="1694"/>
                </a:lnTo>
                <a:cubicBezTo>
                  <a:pt x="0" y="1681"/>
                  <a:pt x="10" y="1670"/>
                  <a:pt x="22" y="1669"/>
                </a:cubicBezTo>
                <a:cubicBezTo>
                  <a:pt x="35" y="1669"/>
                  <a:pt x="46" y="1678"/>
                  <a:pt x="47" y="1691"/>
                </a:cubicBezTo>
                <a:close/>
                <a:moveTo>
                  <a:pt x="196" y="2208"/>
                </a:moveTo>
                <a:lnTo>
                  <a:pt x="257" y="2316"/>
                </a:lnTo>
                <a:lnTo>
                  <a:pt x="346" y="2443"/>
                </a:lnTo>
                <a:lnTo>
                  <a:pt x="372" y="2472"/>
                </a:lnTo>
                <a:cubicBezTo>
                  <a:pt x="380" y="2482"/>
                  <a:pt x="379" y="2496"/>
                  <a:pt x="370" y="2505"/>
                </a:cubicBezTo>
                <a:cubicBezTo>
                  <a:pt x="360" y="2513"/>
                  <a:pt x="346" y="2512"/>
                  <a:pt x="337" y="2503"/>
                </a:cubicBezTo>
                <a:lnTo>
                  <a:pt x="309" y="2470"/>
                </a:lnTo>
                <a:lnTo>
                  <a:pt x="216" y="2339"/>
                </a:lnTo>
                <a:lnTo>
                  <a:pt x="156" y="2231"/>
                </a:lnTo>
                <a:cubicBezTo>
                  <a:pt x="150" y="2220"/>
                  <a:pt x="154" y="2206"/>
                  <a:pt x="165" y="2200"/>
                </a:cubicBezTo>
                <a:cubicBezTo>
                  <a:pt x="176" y="2193"/>
                  <a:pt x="190" y="2197"/>
                  <a:pt x="196" y="2208"/>
                </a:cubicBezTo>
                <a:close/>
                <a:moveTo>
                  <a:pt x="530" y="2637"/>
                </a:moveTo>
                <a:lnTo>
                  <a:pt x="565" y="2671"/>
                </a:lnTo>
                <a:lnTo>
                  <a:pt x="693" y="2770"/>
                </a:lnTo>
                <a:lnTo>
                  <a:pt x="783" y="2828"/>
                </a:lnTo>
                <a:cubicBezTo>
                  <a:pt x="794" y="2835"/>
                  <a:pt x="797" y="2849"/>
                  <a:pt x="790" y="2860"/>
                </a:cubicBezTo>
                <a:cubicBezTo>
                  <a:pt x="783" y="2871"/>
                  <a:pt x="769" y="2874"/>
                  <a:pt x="758" y="2867"/>
                </a:cubicBezTo>
                <a:lnTo>
                  <a:pt x="664" y="2807"/>
                </a:lnTo>
                <a:lnTo>
                  <a:pt x="534" y="2704"/>
                </a:lnTo>
                <a:lnTo>
                  <a:pt x="498" y="2670"/>
                </a:lnTo>
                <a:cubicBezTo>
                  <a:pt x="489" y="2662"/>
                  <a:pt x="488" y="2647"/>
                  <a:pt x="497" y="2638"/>
                </a:cubicBezTo>
                <a:cubicBezTo>
                  <a:pt x="506" y="2629"/>
                  <a:pt x="520" y="2628"/>
                  <a:pt x="530" y="2637"/>
                </a:cubicBezTo>
                <a:close/>
                <a:moveTo>
                  <a:pt x="981" y="2937"/>
                </a:moveTo>
                <a:lnTo>
                  <a:pt x="1135" y="3000"/>
                </a:lnTo>
                <a:lnTo>
                  <a:pt x="1282" y="3047"/>
                </a:lnTo>
                <a:cubicBezTo>
                  <a:pt x="1294" y="3051"/>
                  <a:pt x="1301" y="3064"/>
                  <a:pt x="1297" y="3076"/>
                </a:cubicBezTo>
                <a:cubicBezTo>
                  <a:pt x="1293" y="3088"/>
                  <a:pt x="1280" y="3095"/>
                  <a:pt x="1268" y="3091"/>
                </a:cubicBezTo>
                <a:lnTo>
                  <a:pt x="1118" y="3043"/>
                </a:lnTo>
                <a:lnTo>
                  <a:pt x="964" y="2980"/>
                </a:lnTo>
                <a:cubicBezTo>
                  <a:pt x="952" y="2975"/>
                  <a:pt x="946" y="2962"/>
                  <a:pt x="951" y="2950"/>
                </a:cubicBezTo>
                <a:cubicBezTo>
                  <a:pt x="956" y="2938"/>
                  <a:pt x="969" y="2932"/>
                  <a:pt x="981" y="2937"/>
                </a:cubicBezTo>
                <a:close/>
                <a:moveTo>
                  <a:pt x="1503" y="3094"/>
                </a:moveTo>
                <a:lnTo>
                  <a:pt x="1650" y="3114"/>
                </a:lnTo>
                <a:lnTo>
                  <a:pt x="1822" y="3121"/>
                </a:lnTo>
                <a:cubicBezTo>
                  <a:pt x="1835" y="3122"/>
                  <a:pt x="1845" y="3132"/>
                  <a:pt x="1844" y="3145"/>
                </a:cubicBezTo>
                <a:cubicBezTo>
                  <a:pt x="1844" y="3158"/>
                  <a:pt x="1833" y="3168"/>
                  <a:pt x="1820" y="3167"/>
                </a:cubicBezTo>
                <a:lnTo>
                  <a:pt x="1643" y="3159"/>
                </a:lnTo>
                <a:lnTo>
                  <a:pt x="1497" y="3140"/>
                </a:lnTo>
                <a:cubicBezTo>
                  <a:pt x="1485" y="3138"/>
                  <a:pt x="1476" y="3127"/>
                  <a:pt x="1478" y="3114"/>
                </a:cubicBezTo>
                <a:cubicBezTo>
                  <a:pt x="1479" y="3101"/>
                  <a:pt x="1491" y="3092"/>
                  <a:pt x="1503" y="3094"/>
                </a:cubicBezTo>
                <a:close/>
                <a:moveTo>
                  <a:pt x="2048" y="3109"/>
                </a:moveTo>
                <a:lnTo>
                  <a:pt x="2195" y="3090"/>
                </a:lnTo>
                <a:lnTo>
                  <a:pt x="2364" y="3053"/>
                </a:lnTo>
                <a:cubicBezTo>
                  <a:pt x="2376" y="3050"/>
                  <a:pt x="2388" y="3058"/>
                  <a:pt x="2391" y="3070"/>
                </a:cubicBezTo>
                <a:cubicBezTo>
                  <a:pt x="2394" y="3083"/>
                  <a:pt x="2386" y="3095"/>
                  <a:pt x="2374" y="3098"/>
                </a:cubicBezTo>
                <a:lnTo>
                  <a:pt x="2201" y="3135"/>
                </a:lnTo>
                <a:lnTo>
                  <a:pt x="2054" y="3155"/>
                </a:lnTo>
                <a:cubicBezTo>
                  <a:pt x="2042" y="3156"/>
                  <a:pt x="2030" y="3148"/>
                  <a:pt x="2029" y="3135"/>
                </a:cubicBezTo>
                <a:cubicBezTo>
                  <a:pt x="2027" y="3122"/>
                  <a:pt x="2036" y="3111"/>
                  <a:pt x="2048" y="3109"/>
                </a:cubicBezTo>
                <a:close/>
                <a:moveTo>
                  <a:pt x="2578" y="2980"/>
                </a:moveTo>
                <a:lnTo>
                  <a:pt x="2689" y="2935"/>
                </a:lnTo>
                <a:lnTo>
                  <a:pt x="2836" y="2857"/>
                </a:lnTo>
                <a:lnTo>
                  <a:pt x="2863" y="2840"/>
                </a:lnTo>
                <a:cubicBezTo>
                  <a:pt x="2874" y="2833"/>
                  <a:pt x="2888" y="2836"/>
                  <a:pt x="2895" y="2847"/>
                </a:cubicBezTo>
                <a:cubicBezTo>
                  <a:pt x="2902" y="2857"/>
                  <a:pt x="2899" y="2872"/>
                  <a:pt x="2888" y="2878"/>
                </a:cubicBezTo>
                <a:lnTo>
                  <a:pt x="2857" y="2898"/>
                </a:lnTo>
                <a:lnTo>
                  <a:pt x="2706" y="2978"/>
                </a:lnTo>
                <a:lnTo>
                  <a:pt x="2596" y="3023"/>
                </a:lnTo>
                <a:cubicBezTo>
                  <a:pt x="2584" y="3028"/>
                  <a:pt x="2570" y="3022"/>
                  <a:pt x="2566" y="3010"/>
                </a:cubicBezTo>
                <a:cubicBezTo>
                  <a:pt x="2561" y="2999"/>
                  <a:pt x="2566" y="2985"/>
                  <a:pt x="2578" y="2980"/>
                </a:cubicBezTo>
                <a:close/>
                <a:moveTo>
                  <a:pt x="3050" y="2709"/>
                </a:moveTo>
                <a:lnTo>
                  <a:pt x="3101" y="2669"/>
                </a:lnTo>
                <a:lnTo>
                  <a:pt x="3217" y="2560"/>
                </a:lnTo>
                <a:lnTo>
                  <a:pt x="3278" y="2489"/>
                </a:lnTo>
                <a:cubicBezTo>
                  <a:pt x="3286" y="2479"/>
                  <a:pt x="3301" y="2478"/>
                  <a:pt x="3311" y="2486"/>
                </a:cubicBezTo>
                <a:cubicBezTo>
                  <a:pt x="3320" y="2495"/>
                  <a:pt x="3321" y="2509"/>
                  <a:pt x="3313" y="2519"/>
                </a:cubicBezTo>
                <a:lnTo>
                  <a:pt x="3248" y="2593"/>
                </a:lnTo>
                <a:lnTo>
                  <a:pt x="3130" y="2706"/>
                </a:lnTo>
                <a:lnTo>
                  <a:pt x="3079" y="2746"/>
                </a:lnTo>
                <a:cubicBezTo>
                  <a:pt x="3069" y="2753"/>
                  <a:pt x="3054" y="2752"/>
                  <a:pt x="3046" y="2742"/>
                </a:cubicBezTo>
                <a:cubicBezTo>
                  <a:pt x="3038" y="2732"/>
                  <a:pt x="3040" y="2717"/>
                  <a:pt x="3050" y="2709"/>
                </a:cubicBezTo>
                <a:close/>
                <a:moveTo>
                  <a:pt x="3412" y="2307"/>
                </a:moveTo>
                <a:lnTo>
                  <a:pt x="3483" y="2180"/>
                </a:lnTo>
                <a:lnTo>
                  <a:pt x="3543" y="2038"/>
                </a:lnTo>
                <a:lnTo>
                  <a:pt x="3548" y="2021"/>
                </a:lnTo>
                <a:cubicBezTo>
                  <a:pt x="3552" y="2009"/>
                  <a:pt x="3565" y="2002"/>
                  <a:pt x="3577" y="2006"/>
                </a:cubicBezTo>
                <a:cubicBezTo>
                  <a:pt x="3589" y="2010"/>
                  <a:pt x="3596" y="2022"/>
                  <a:pt x="3592" y="2035"/>
                </a:cubicBezTo>
                <a:lnTo>
                  <a:pt x="3586" y="2056"/>
                </a:lnTo>
                <a:lnTo>
                  <a:pt x="3524" y="2203"/>
                </a:lnTo>
                <a:lnTo>
                  <a:pt x="3452" y="2330"/>
                </a:lnTo>
                <a:cubicBezTo>
                  <a:pt x="3446" y="2341"/>
                  <a:pt x="3432" y="2345"/>
                  <a:pt x="3421" y="2339"/>
                </a:cubicBezTo>
                <a:cubicBezTo>
                  <a:pt x="3410" y="2333"/>
                  <a:pt x="3406" y="2319"/>
                  <a:pt x="3412" y="2307"/>
                </a:cubicBezTo>
                <a:close/>
                <a:moveTo>
                  <a:pt x="3604" y="1801"/>
                </a:moveTo>
                <a:lnTo>
                  <a:pt x="3615" y="1739"/>
                </a:lnTo>
                <a:cubicBezTo>
                  <a:pt x="3617" y="1727"/>
                  <a:pt x="3629" y="1719"/>
                  <a:pt x="3642" y="1721"/>
                </a:cubicBezTo>
                <a:cubicBezTo>
                  <a:pt x="3654" y="1723"/>
                  <a:pt x="3662" y="1735"/>
                  <a:pt x="3660" y="1748"/>
                </a:cubicBezTo>
                <a:lnTo>
                  <a:pt x="3649" y="1809"/>
                </a:lnTo>
                <a:cubicBezTo>
                  <a:pt x="3647" y="1821"/>
                  <a:pt x="3635" y="1830"/>
                  <a:pt x="3622" y="1827"/>
                </a:cubicBezTo>
                <a:cubicBezTo>
                  <a:pt x="3610" y="1825"/>
                  <a:pt x="3601" y="1813"/>
                  <a:pt x="3604" y="1801"/>
                </a:cubicBezTo>
                <a:close/>
              </a:path>
            </a:pathLst>
          </a:custGeom>
          <a:solidFill>
            <a:srgbClr val="00b050"/>
          </a:solidFill>
          <a:ln w="792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Group 2249"/>
          <p:cNvGrpSpPr/>
          <p:nvPr/>
        </p:nvGrpSpPr>
        <p:grpSpPr>
          <a:xfrm>
            <a:off x="6217560" y="214200"/>
            <a:ext cx="3051000" cy="232920"/>
            <a:chOff x="6217560" y="214200"/>
            <a:chExt cx="3051000" cy="232920"/>
          </a:xfrm>
        </p:grpSpPr>
        <p:sp>
          <p:nvSpPr>
            <p:cNvPr id="143" name="Rectangle 2246"/>
            <p:cNvSpPr/>
            <p:nvPr/>
          </p:nvSpPr>
          <p:spPr>
            <a:xfrm>
              <a:off x="6488280" y="214200"/>
              <a:ext cx="2780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Times New Roman"/>
                </a:rPr>
                <a:t>Приложение №</a:t>
              </a:r>
              <a:r>
                <a:rPr b="0" lang="ru-RU" sz="600" spc="-1" strike="noStrike">
                  <a:solidFill>
                    <a:srgbClr val="24211d"/>
                  </a:solidFill>
                  <a:latin typeface="Calibri"/>
                </a:rPr>
                <a:t> 1.</a:t>
              </a:r>
              <a:r>
                <a:rPr b="0" lang="ru-RU" sz="600" spc="-1" strike="noStrike">
                  <a:solidFill>
                    <a:srgbClr val="24211d"/>
                  </a:solidFill>
                  <a:latin typeface="Times New Roman"/>
                </a:rPr>
                <a:t> 2  к Положению о своевременном оповещении и информировании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tangle 2247"/>
            <p:cNvSpPr/>
            <p:nvPr/>
          </p:nvSpPr>
          <p:spPr>
            <a:xfrm>
              <a:off x="6474960" y="290880"/>
              <a:ext cx="1866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Times New Roman"/>
                </a:rPr>
                <a:t>населения МО “Понинское”при угрозе и возникновении 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2248"/>
            <p:cNvSpPr/>
            <p:nvPr/>
          </p:nvSpPr>
          <p:spPr>
            <a:xfrm>
              <a:off x="6217560" y="355320"/>
              <a:ext cx="142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Times New Roman"/>
                </a:rPr>
                <a:t>чрезвычайных ситуаций от 22.09.2015 №39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Line 2255"/>
          <p:cNvSpPr/>
          <p:nvPr/>
        </p:nvSpPr>
        <p:spPr>
          <a:xfrm flipH="1">
            <a:off x="4928760" y="2527200"/>
            <a:ext cx="157320" cy="684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2256"/>
          <p:cNvSpPr/>
          <p:nvPr/>
        </p:nvSpPr>
        <p:spPr>
          <a:xfrm>
            <a:off x="4856040" y="2576520"/>
            <a:ext cx="77760" cy="104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2257"/>
          <p:cNvSpPr/>
          <p:nvPr/>
        </p:nvSpPr>
        <p:spPr>
          <a:xfrm flipV="1">
            <a:off x="5076720" y="2492280"/>
            <a:ext cx="0" cy="231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2258"/>
          <p:cNvSpPr/>
          <p:nvPr/>
        </p:nvSpPr>
        <p:spPr>
          <a:xfrm flipH="1" flipV="1">
            <a:off x="4919760" y="2654280"/>
            <a:ext cx="156960" cy="69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268"/>
          <p:cNvSpPr/>
          <p:nvPr/>
        </p:nvSpPr>
        <p:spPr>
          <a:xfrm>
            <a:off x="7451640" y="6738840"/>
            <a:ext cx="77760" cy="104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2269"/>
          <p:cNvSpPr/>
          <p:nvPr/>
        </p:nvSpPr>
        <p:spPr>
          <a:xfrm flipH="1">
            <a:off x="7524360" y="6669000"/>
            <a:ext cx="157320" cy="684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2270"/>
          <p:cNvSpPr/>
          <p:nvPr/>
        </p:nvSpPr>
        <p:spPr>
          <a:xfrm flipV="1">
            <a:off x="7677000" y="6638760"/>
            <a:ext cx="0" cy="231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2271"/>
          <p:cNvSpPr/>
          <p:nvPr/>
        </p:nvSpPr>
        <p:spPr>
          <a:xfrm flipH="1" flipV="1">
            <a:off x="7524360" y="6788160"/>
            <a:ext cx="157320" cy="69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2272"/>
          <p:cNvSpPr/>
          <p:nvPr/>
        </p:nvSpPr>
        <p:spPr>
          <a:xfrm>
            <a:off x="1476360" y="537372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273"/>
          <p:cNvSpPr/>
          <p:nvPr/>
        </p:nvSpPr>
        <p:spPr>
          <a:xfrm>
            <a:off x="684360" y="1413000"/>
            <a:ext cx="2158920" cy="115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тароста Казачук Д. 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ел.___97-15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л. Заводская, Пряженникова, Коммунальная, Новая, Кооперативная, Первомайская, Нагорная, Октябрьская, Садовая,  40 лет побе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2274"/>
          <p:cNvSpPr/>
          <p:nvPr/>
        </p:nvSpPr>
        <p:spPr>
          <a:xfrm>
            <a:off x="539640" y="6093000"/>
            <a:ext cx="37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роста населенного пункта  Казачук Д. 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.___97-1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280"/>
          <p:cNvSpPr/>
          <p:nvPr/>
        </p:nvSpPr>
        <p:spPr>
          <a:xfrm>
            <a:off x="5292720" y="3716280"/>
            <a:ext cx="104760" cy="77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Line 2281"/>
          <p:cNvSpPr/>
          <p:nvPr/>
        </p:nvSpPr>
        <p:spPr>
          <a:xfrm flipH="1">
            <a:off x="5219640" y="3573360"/>
            <a:ext cx="231840" cy="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Line 2282"/>
          <p:cNvSpPr/>
          <p:nvPr/>
        </p:nvSpPr>
        <p:spPr>
          <a:xfrm flipH="1">
            <a:off x="5364000" y="3573360"/>
            <a:ext cx="69840" cy="1573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2283"/>
          <p:cNvSpPr/>
          <p:nvPr/>
        </p:nvSpPr>
        <p:spPr>
          <a:xfrm>
            <a:off x="4427640" y="3141720"/>
            <a:ext cx="27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иректор ЦСДК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ел. 8951218113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6404"/>
          <p:cNvSpPr/>
          <p:nvPr/>
        </p:nvSpPr>
        <p:spPr>
          <a:xfrm>
            <a:off x="6300720" y="2565360"/>
            <a:ext cx="100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торож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ел.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6405"/>
          <p:cNvSpPr/>
          <p:nvPr/>
        </p:nvSpPr>
        <p:spPr>
          <a:xfrm>
            <a:off x="395280" y="5013360"/>
            <a:ext cx="1368360" cy="115236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3669" h="3168">
                <a:moveTo>
                  <a:pt x="3617" y="1696"/>
                </a:moveTo>
                <a:lnTo>
                  <a:pt x="3623" y="1582"/>
                </a:lnTo>
                <a:lnTo>
                  <a:pt x="3614" y="1426"/>
                </a:lnTo>
                <a:lnTo>
                  <a:pt x="3606" y="1380"/>
                </a:lnTo>
                <a:cubicBezTo>
                  <a:pt x="3604" y="1368"/>
                  <a:pt x="3612" y="1356"/>
                  <a:pt x="3625" y="1353"/>
                </a:cubicBezTo>
                <a:cubicBezTo>
                  <a:pt x="3637" y="1351"/>
                  <a:pt x="3649" y="1360"/>
                  <a:pt x="3651" y="1372"/>
                </a:cubicBezTo>
                <a:lnTo>
                  <a:pt x="3660" y="1423"/>
                </a:lnTo>
                <a:lnTo>
                  <a:pt x="3669" y="1585"/>
                </a:lnTo>
                <a:lnTo>
                  <a:pt x="3663" y="1699"/>
                </a:lnTo>
                <a:cubicBezTo>
                  <a:pt x="3662" y="1711"/>
                  <a:pt x="3651" y="1721"/>
                  <a:pt x="3639" y="1720"/>
                </a:cubicBezTo>
                <a:cubicBezTo>
                  <a:pt x="3626" y="1720"/>
                  <a:pt x="3616" y="1709"/>
                  <a:pt x="3617" y="1696"/>
                </a:cubicBezTo>
                <a:close/>
                <a:moveTo>
                  <a:pt x="3552" y="1159"/>
                </a:moveTo>
                <a:lnTo>
                  <a:pt x="3542" y="1126"/>
                </a:lnTo>
                <a:lnTo>
                  <a:pt x="3482" y="986"/>
                </a:lnTo>
                <a:lnTo>
                  <a:pt x="3419" y="872"/>
                </a:lnTo>
                <a:cubicBezTo>
                  <a:pt x="3413" y="861"/>
                  <a:pt x="3416" y="847"/>
                  <a:pt x="3428" y="841"/>
                </a:cubicBezTo>
                <a:cubicBezTo>
                  <a:pt x="3439" y="834"/>
                  <a:pt x="3453" y="838"/>
                  <a:pt x="3459" y="850"/>
                </a:cubicBezTo>
                <a:lnTo>
                  <a:pt x="3525" y="967"/>
                </a:lnTo>
                <a:lnTo>
                  <a:pt x="3587" y="1113"/>
                </a:lnTo>
                <a:lnTo>
                  <a:pt x="3596" y="1146"/>
                </a:lnTo>
                <a:cubicBezTo>
                  <a:pt x="3600" y="1158"/>
                  <a:pt x="3593" y="1171"/>
                  <a:pt x="3581" y="1175"/>
                </a:cubicBezTo>
                <a:cubicBezTo>
                  <a:pt x="3569" y="1178"/>
                  <a:pt x="3556" y="1171"/>
                  <a:pt x="3552" y="1159"/>
                </a:cubicBezTo>
                <a:close/>
                <a:moveTo>
                  <a:pt x="3287" y="689"/>
                </a:moveTo>
                <a:lnTo>
                  <a:pt x="3215" y="607"/>
                </a:lnTo>
                <a:lnTo>
                  <a:pt x="3100" y="497"/>
                </a:lnTo>
                <a:lnTo>
                  <a:pt x="3061" y="467"/>
                </a:lnTo>
                <a:cubicBezTo>
                  <a:pt x="3051" y="459"/>
                  <a:pt x="3049" y="444"/>
                  <a:pt x="3057" y="434"/>
                </a:cubicBezTo>
                <a:cubicBezTo>
                  <a:pt x="3064" y="424"/>
                  <a:pt x="3079" y="423"/>
                  <a:pt x="3089" y="430"/>
                </a:cubicBezTo>
                <a:lnTo>
                  <a:pt x="3131" y="464"/>
                </a:lnTo>
                <a:lnTo>
                  <a:pt x="3250" y="576"/>
                </a:lnTo>
                <a:lnTo>
                  <a:pt x="3322" y="659"/>
                </a:lnTo>
                <a:cubicBezTo>
                  <a:pt x="3330" y="669"/>
                  <a:pt x="3329" y="683"/>
                  <a:pt x="3319" y="692"/>
                </a:cubicBezTo>
                <a:cubicBezTo>
                  <a:pt x="3310" y="700"/>
                  <a:pt x="3295" y="699"/>
                  <a:pt x="3287" y="689"/>
                </a:cubicBezTo>
                <a:close/>
                <a:moveTo>
                  <a:pt x="2874" y="335"/>
                </a:moveTo>
                <a:lnTo>
                  <a:pt x="2834" y="310"/>
                </a:lnTo>
                <a:lnTo>
                  <a:pt x="2687" y="232"/>
                </a:lnTo>
                <a:lnTo>
                  <a:pt x="2590" y="193"/>
                </a:lnTo>
                <a:cubicBezTo>
                  <a:pt x="2579" y="188"/>
                  <a:pt x="2573" y="174"/>
                  <a:pt x="2578" y="163"/>
                </a:cubicBezTo>
                <a:cubicBezTo>
                  <a:pt x="2583" y="151"/>
                  <a:pt x="2596" y="145"/>
                  <a:pt x="2608" y="150"/>
                </a:cubicBezTo>
                <a:lnTo>
                  <a:pt x="2708" y="191"/>
                </a:lnTo>
                <a:lnTo>
                  <a:pt x="2859" y="271"/>
                </a:lnTo>
                <a:lnTo>
                  <a:pt x="2899" y="297"/>
                </a:lnTo>
                <a:cubicBezTo>
                  <a:pt x="2910" y="303"/>
                  <a:pt x="2913" y="318"/>
                  <a:pt x="2906" y="328"/>
                </a:cubicBezTo>
                <a:cubicBezTo>
                  <a:pt x="2899" y="339"/>
                  <a:pt x="2885" y="342"/>
                  <a:pt x="2874" y="335"/>
                </a:cubicBezTo>
                <a:close/>
                <a:moveTo>
                  <a:pt x="2374" y="119"/>
                </a:moveTo>
                <a:lnTo>
                  <a:pt x="2364" y="115"/>
                </a:lnTo>
                <a:lnTo>
                  <a:pt x="2194" y="78"/>
                </a:lnTo>
                <a:lnTo>
                  <a:pt x="2061" y="61"/>
                </a:lnTo>
                <a:cubicBezTo>
                  <a:pt x="2049" y="59"/>
                  <a:pt x="2040" y="47"/>
                  <a:pt x="2042" y="35"/>
                </a:cubicBezTo>
                <a:cubicBezTo>
                  <a:pt x="2043" y="22"/>
                  <a:pt x="2055" y="13"/>
                  <a:pt x="2067" y="15"/>
                </a:cubicBezTo>
                <a:lnTo>
                  <a:pt x="2203" y="33"/>
                </a:lnTo>
                <a:lnTo>
                  <a:pt x="2378" y="72"/>
                </a:lnTo>
                <a:lnTo>
                  <a:pt x="2388" y="75"/>
                </a:lnTo>
                <a:cubicBezTo>
                  <a:pt x="2400" y="78"/>
                  <a:pt x="2407" y="91"/>
                  <a:pt x="2403" y="104"/>
                </a:cubicBezTo>
                <a:cubicBezTo>
                  <a:pt x="2399" y="116"/>
                  <a:pt x="2386" y="122"/>
                  <a:pt x="2374" y="119"/>
                </a:cubicBezTo>
                <a:close/>
                <a:moveTo>
                  <a:pt x="1834" y="47"/>
                </a:moveTo>
                <a:lnTo>
                  <a:pt x="1831" y="46"/>
                </a:lnTo>
                <a:lnTo>
                  <a:pt x="1647" y="54"/>
                </a:lnTo>
                <a:lnTo>
                  <a:pt x="1516" y="72"/>
                </a:lnTo>
                <a:cubicBezTo>
                  <a:pt x="1504" y="74"/>
                  <a:pt x="1492" y="65"/>
                  <a:pt x="1491" y="52"/>
                </a:cubicBezTo>
                <a:cubicBezTo>
                  <a:pt x="1489" y="40"/>
                  <a:pt x="1498" y="28"/>
                  <a:pt x="1510" y="26"/>
                </a:cubicBezTo>
                <a:lnTo>
                  <a:pt x="1645" y="8"/>
                </a:lnTo>
                <a:lnTo>
                  <a:pt x="1833" y="0"/>
                </a:lnTo>
                <a:lnTo>
                  <a:pt x="1836" y="1"/>
                </a:lnTo>
                <a:cubicBezTo>
                  <a:pt x="1848" y="1"/>
                  <a:pt x="1858" y="12"/>
                  <a:pt x="1858" y="25"/>
                </a:cubicBezTo>
                <a:cubicBezTo>
                  <a:pt x="1857" y="37"/>
                  <a:pt x="1846" y="47"/>
                  <a:pt x="1834" y="47"/>
                </a:cubicBezTo>
                <a:close/>
                <a:moveTo>
                  <a:pt x="1295" y="117"/>
                </a:moveTo>
                <a:lnTo>
                  <a:pt x="1133" y="168"/>
                </a:lnTo>
                <a:lnTo>
                  <a:pt x="993" y="226"/>
                </a:lnTo>
                <a:cubicBezTo>
                  <a:pt x="982" y="231"/>
                  <a:pt x="968" y="225"/>
                  <a:pt x="963" y="213"/>
                </a:cubicBezTo>
                <a:cubicBezTo>
                  <a:pt x="959" y="201"/>
                  <a:pt x="964" y="188"/>
                  <a:pt x="976" y="183"/>
                </a:cubicBezTo>
                <a:lnTo>
                  <a:pt x="1119" y="125"/>
                </a:lnTo>
                <a:lnTo>
                  <a:pt x="1281" y="73"/>
                </a:lnTo>
                <a:cubicBezTo>
                  <a:pt x="1293" y="69"/>
                  <a:pt x="1306" y="76"/>
                  <a:pt x="1310" y="88"/>
                </a:cubicBezTo>
                <a:cubicBezTo>
                  <a:pt x="1314" y="100"/>
                  <a:pt x="1307" y="113"/>
                  <a:pt x="1295" y="117"/>
                </a:cubicBezTo>
                <a:close/>
                <a:moveTo>
                  <a:pt x="794" y="333"/>
                </a:moveTo>
                <a:lnTo>
                  <a:pt x="691" y="399"/>
                </a:lnTo>
                <a:lnTo>
                  <a:pt x="564" y="499"/>
                </a:lnTo>
                <a:lnTo>
                  <a:pt x="539" y="522"/>
                </a:lnTo>
                <a:cubicBezTo>
                  <a:pt x="530" y="531"/>
                  <a:pt x="515" y="530"/>
                  <a:pt x="507" y="521"/>
                </a:cubicBezTo>
                <a:cubicBezTo>
                  <a:pt x="498" y="512"/>
                  <a:pt x="498" y="497"/>
                  <a:pt x="508" y="489"/>
                </a:cubicBezTo>
                <a:lnTo>
                  <a:pt x="535" y="462"/>
                </a:lnTo>
                <a:lnTo>
                  <a:pt x="666" y="360"/>
                </a:lnTo>
                <a:lnTo>
                  <a:pt x="769" y="294"/>
                </a:lnTo>
                <a:cubicBezTo>
                  <a:pt x="780" y="287"/>
                  <a:pt x="794" y="290"/>
                  <a:pt x="801" y="301"/>
                </a:cubicBezTo>
                <a:cubicBezTo>
                  <a:pt x="808" y="312"/>
                  <a:pt x="805" y="326"/>
                  <a:pt x="794" y="333"/>
                </a:cubicBezTo>
                <a:close/>
                <a:moveTo>
                  <a:pt x="381" y="686"/>
                </a:moveTo>
                <a:lnTo>
                  <a:pt x="345" y="727"/>
                </a:lnTo>
                <a:lnTo>
                  <a:pt x="255" y="854"/>
                </a:lnTo>
                <a:lnTo>
                  <a:pt x="203" y="948"/>
                </a:lnTo>
                <a:cubicBezTo>
                  <a:pt x="197" y="959"/>
                  <a:pt x="183" y="963"/>
                  <a:pt x="171" y="957"/>
                </a:cubicBezTo>
                <a:cubicBezTo>
                  <a:pt x="160" y="951"/>
                  <a:pt x="156" y="937"/>
                  <a:pt x="163" y="926"/>
                </a:cubicBezTo>
                <a:lnTo>
                  <a:pt x="218" y="827"/>
                </a:lnTo>
                <a:lnTo>
                  <a:pt x="310" y="696"/>
                </a:lnTo>
                <a:lnTo>
                  <a:pt x="346" y="655"/>
                </a:lnTo>
                <a:cubicBezTo>
                  <a:pt x="354" y="646"/>
                  <a:pt x="369" y="645"/>
                  <a:pt x="378" y="653"/>
                </a:cubicBezTo>
                <a:cubicBezTo>
                  <a:pt x="388" y="662"/>
                  <a:pt x="389" y="676"/>
                  <a:pt x="381" y="686"/>
                </a:cubicBezTo>
                <a:close/>
                <a:moveTo>
                  <a:pt x="113" y="1154"/>
                </a:moveTo>
                <a:lnTo>
                  <a:pt x="77" y="1276"/>
                </a:lnTo>
                <a:lnTo>
                  <a:pt x="49" y="1429"/>
                </a:lnTo>
                <a:lnTo>
                  <a:pt x="47" y="1464"/>
                </a:lnTo>
                <a:cubicBezTo>
                  <a:pt x="47" y="1476"/>
                  <a:pt x="36" y="1486"/>
                  <a:pt x="23" y="1485"/>
                </a:cubicBezTo>
                <a:cubicBezTo>
                  <a:pt x="10" y="1485"/>
                  <a:pt x="1" y="1474"/>
                  <a:pt x="1" y="1461"/>
                </a:cubicBezTo>
                <a:lnTo>
                  <a:pt x="4" y="1420"/>
                </a:lnTo>
                <a:lnTo>
                  <a:pt x="32" y="1263"/>
                </a:lnTo>
                <a:lnTo>
                  <a:pt x="69" y="1141"/>
                </a:lnTo>
                <a:cubicBezTo>
                  <a:pt x="73" y="1129"/>
                  <a:pt x="85" y="1122"/>
                  <a:pt x="98" y="1126"/>
                </a:cubicBezTo>
                <a:cubicBezTo>
                  <a:pt x="110" y="1129"/>
                  <a:pt x="117" y="1142"/>
                  <a:pt x="113" y="1154"/>
                </a:cubicBezTo>
                <a:close/>
                <a:moveTo>
                  <a:pt x="47" y="1691"/>
                </a:moveTo>
                <a:lnTo>
                  <a:pt x="49" y="1742"/>
                </a:lnTo>
                <a:lnTo>
                  <a:pt x="77" y="1894"/>
                </a:lnTo>
                <a:lnTo>
                  <a:pt x="109" y="2001"/>
                </a:lnTo>
                <a:cubicBezTo>
                  <a:pt x="113" y="2013"/>
                  <a:pt x="106" y="2026"/>
                  <a:pt x="94" y="2030"/>
                </a:cubicBezTo>
                <a:cubicBezTo>
                  <a:pt x="82" y="2033"/>
                  <a:pt x="69" y="2026"/>
                  <a:pt x="65" y="2014"/>
                </a:cubicBezTo>
                <a:lnTo>
                  <a:pt x="32" y="1903"/>
                </a:lnTo>
                <a:lnTo>
                  <a:pt x="3" y="1745"/>
                </a:lnTo>
                <a:lnTo>
                  <a:pt x="1" y="1694"/>
                </a:lnTo>
                <a:cubicBezTo>
                  <a:pt x="0" y="1681"/>
                  <a:pt x="10" y="1670"/>
                  <a:pt x="22" y="1669"/>
                </a:cubicBezTo>
                <a:cubicBezTo>
                  <a:pt x="35" y="1669"/>
                  <a:pt x="46" y="1678"/>
                  <a:pt x="47" y="1691"/>
                </a:cubicBezTo>
                <a:close/>
                <a:moveTo>
                  <a:pt x="196" y="2208"/>
                </a:moveTo>
                <a:lnTo>
                  <a:pt x="257" y="2316"/>
                </a:lnTo>
                <a:lnTo>
                  <a:pt x="346" y="2443"/>
                </a:lnTo>
                <a:lnTo>
                  <a:pt x="372" y="2472"/>
                </a:lnTo>
                <a:cubicBezTo>
                  <a:pt x="380" y="2482"/>
                  <a:pt x="379" y="2496"/>
                  <a:pt x="370" y="2505"/>
                </a:cubicBezTo>
                <a:cubicBezTo>
                  <a:pt x="360" y="2513"/>
                  <a:pt x="346" y="2512"/>
                  <a:pt x="337" y="2503"/>
                </a:cubicBezTo>
                <a:lnTo>
                  <a:pt x="309" y="2470"/>
                </a:lnTo>
                <a:lnTo>
                  <a:pt x="216" y="2339"/>
                </a:lnTo>
                <a:lnTo>
                  <a:pt x="156" y="2231"/>
                </a:lnTo>
                <a:cubicBezTo>
                  <a:pt x="150" y="2220"/>
                  <a:pt x="154" y="2206"/>
                  <a:pt x="165" y="2200"/>
                </a:cubicBezTo>
                <a:cubicBezTo>
                  <a:pt x="176" y="2193"/>
                  <a:pt x="190" y="2197"/>
                  <a:pt x="196" y="2208"/>
                </a:cubicBezTo>
                <a:close/>
                <a:moveTo>
                  <a:pt x="530" y="2637"/>
                </a:moveTo>
                <a:lnTo>
                  <a:pt x="565" y="2671"/>
                </a:lnTo>
                <a:lnTo>
                  <a:pt x="693" y="2770"/>
                </a:lnTo>
                <a:lnTo>
                  <a:pt x="783" y="2828"/>
                </a:lnTo>
                <a:cubicBezTo>
                  <a:pt x="794" y="2835"/>
                  <a:pt x="797" y="2849"/>
                  <a:pt x="790" y="2860"/>
                </a:cubicBezTo>
                <a:cubicBezTo>
                  <a:pt x="783" y="2871"/>
                  <a:pt x="769" y="2874"/>
                  <a:pt x="758" y="2867"/>
                </a:cubicBezTo>
                <a:lnTo>
                  <a:pt x="664" y="2807"/>
                </a:lnTo>
                <a:lnTo>
                  <a:pt x="534" y="2704"/>
                </a:lnTo>
                <a:lnTo>
                  <a:pt x="498" y="2670"/>
                </a:lnTo>
                <a:cubicBezTo>
                  <a:pt x="489" y="2662"/>
                  <a:pt x="488" y="2647"/>
                  <a:pt x="497" y="2638"/>
                </a:cubicBezTo>
                <a:cubicBezTo>
                  <a:pt x="506" y="2629"/>
                  <a:pt x="520" y="2628"/>
                  <a:pt x="530" y="2637"/>
                </a:cubicBezTo>
                <a:close/>
                <a:moveTo>
                  <a:pt x="981" y="2937"/>
                </a:moveTo>
                <a:lnTo>
                  <a:pt x="1135" y="3000"/>
                </a:lnTo>
                <a:lnTo>
                  <a:pt x="1282" y="3047"/>
                </a:lnTo>
                <a:cubicBezTo>
                  <a:pt x="1294" y="3051"/>
                  <a:pt x="1301" y="3064"/>
                  <a:pt x="1297" y="3076"/>
                </a:cubicBezTo>
                <a:cubicBezTo>
                  <a:pt x="1293" y="3088"/>
                  <a:pt x="1280" y="3095"/>
                  <a:pt x="1268" y="3091"/>
                </a:cubicBezTo>
                <a:lnTo>
                  <a:pt x="1118" y="3043"/>
                </a:lnTo>
                <a:lnTo>
                  <a:pt x="964" y="2980"/>
                </a:lnTo>
                <a:cubicBezTo>
                  <a:pt x="952" y="2975"/>
                  <a:pt x="946" y="2962"/>
                  <a:pt x="951" y="2950"/>
                </a:cubicBezTo>
                <a:cubicBezTo>
                  <a:pt x="956" y="2938"/>
                  <a:pt x="969" y="2932"/>
                  <a:pt x="981" y="2937"/>
                </a:cubicBezTo>
                <a:close/>
                <a:moveTo>
                  <a:pt x="1503" y="3094"/>
                </a:moveTo>
                <a:lnTo>
                  <a:pt x="1650" y="3114"/>
                </a:lnTo>
                <a:lnTo>
                  <a:pt x="1822" y="3121"/>
                </a:lnTo>
                <a:cubicBezTo>
                  <a:pt x="1835" y="3122"/>
                  <a:pt x="1845" y="3132"/>
                  <a:pt x="1844" y="3145"/>
                </a:cubicBezTo>
                <a:cubicBezTo>
                  <a:pt x="1844" y="3158"/>
                  <a:pt x="1833" y="3168"/>
                  <a:pt x="1820" y="3167"/>
                </a:cubicBezTo>
                <a:lnTo>
                  <a:pt x="1643" y="3159"/>
                </a:lnTo>
                <a:lnTo>
                  <a:pt x="1497" y="3140"/>
                </a:lnTo>
                <a:cubicBezTo>
                  <a:pt x="1485" y="3138"/>
                  <a:pt x="1476" y="3127"/>
                  <a:pt x="1478" y="3114"/>
                </a:cubicBezTo>
                <a:cubicBezTo>
                  <a:pt x="1479" y="3101"/>
                  <a:pt x="1491" y="3092"/>
                  <a:pt x="1503" y="3094"/>
                </a:cubicBezTo>
                <a:close/>
                <a:moveTo>
                  <a:pt x="2048" y="3109"/>
                </a:moveTo>
                <a:lnTo>
                  <a:pt x="2195" y="3090"/>
                </a:lnTo>
                <a:lnTo>
                  <a:pt x="2364" y="3053"/>
                </a:lnTo>
                <a:cubicBezTo>
                  <a:pt x="2376" y="3050"/>
                  <a:pt x="2388" y="3058"/>
                  <a:pt x="2391" y="3070"/>
                </a:cubicBezTo>
                <a:cubicBezTo>
                  <a:pt x="2394" y="3083"/>
                  <a:pt x="2386" y="3095"/>
                  <a:pt x="2374" y="3098"/>
                </a:cubicBezTo>
                <a:lnTo>
                  <a:pt x="2201" y="3135"/>
                </a:lnTo>
                <a:lnTo>
                  <a:pt x="2054" y="3155"/>
                </a:lnTo>
                <a:cubicBezTo>
                  <a:pt x="2042" y="3156"/>
                  <a:pt x="2030" y="3148"/>
                  <a:pt x="2029" y="3135"/>
                </a:cubicBezTo>
                <a:cubicBezTo>
                  <a:pt x="2027" y="3122"/>
                  <a:pt x="2036" y="3111"/>
                  <a:pt x="2048" y="3109"/>
                </a:cubicBezTo>
                <a:close/>
                <a:moveTo>
                  <a:pt x="2578" y="2980"/>
                </a:moveTo>
                <a:lnTo>
                  <a:pt x="2689" y="2935"/>
                </a:lnTo>
                <a:lnTo>
                  <a:pt x="2836" y="2857"/>
                </a:lnTo>
                <a:lnTo>
                  <a:pt x="2863" y="2840"/>
                </a:lnTo>
                <a:cubicBezTo>
                  <a:pt x="2874" y="2833"/>
                  <a:pt x="2888" y="2836"/>
                  <a:pt x="2895" y="2847"/>
                </a:cubicBezTo>
                <a:cubicBezTo>
                  <a:pt x="2902" y="2857"/>
                  <a:pt x="2899" y="2872"/>
                  <a:pt x="2888" y="2878"/>
                </a:cubicBezTo>
                <a:lnTo>
                  <a:pt x="2857" y="2898"/>
                </a:lnTo>
                <a:lnTo>
                  <a:pt x="2706" y="2978"/>
                </a:lnTo>
                <a:lnTo>
                  <a:pt x="2596" y="3023"/>
                </a:lnTo>
                <a:cubicBezTo>
                  <a:pt x="2584" y="3028"/>
                  <a:pt x="2570" y="3022"/>
                  <a:pt x="2566" y="3010"/>
                </a:cubicBezTo>
                <a:cubicBezTo>
                  <a:pt x="2561" y="2999"/>
                  <a:pt x="2566" y="2985"/>
                  <a:pt x="2578" y="2980"/>
                </a:cubicBezTo>
                <a:close/>
                <a:moveTo>
                  <a:pt x="3050" y="2709"/>
                </a:moveTo>
                <a:lnTo>
                  <a:pt x="3101" y="2669"/>
                </a:lnTo>
                <a:lnTo>
                  <a:pt x="3217" y="2560"/>
                </a:lnTo>
                <a:lnTo>
                  <a:pt x="3278" y="2489"/>
                </a:lnTo>
                <a:cubicBezTo>
                  <a:pt x="3286" y="2479"/>
                  <a:pt x="3301" y="2478"/>
                  <a:pt x="3311" y="2486"/>
                </a:cubicBezTo>
                <a:cubicBezTo>
                  <a:pt x="3320" y="2495"/>
                  <a:pt x="3321" y="2509"/>
                  <a:pt x="3313" y="2519"/>
                </a:cubicBezTo>
                <a:lnTo>
                  <a:pt x="3248" y="2593"/>
                </a:lnTo>
                <a:lnTo>
                  <a:pt x="3130" y="2706"/>
                </a:lnTo>
                <a:lnTo>
                  <a:pt x="3079" y="2746"/>
                </a:lnTo>
                <a:cubicBezTo>
                  <a:pt x="3069" y="2753"/>
                  <a:pt x="3054" y="2752"/>
                  <a:pt x="3046" y="2742"/>
                </a:cubicBezTo>
                <a:cubicBezTo>
                  <a:pt x="3038" y="2732"/>
                  <a:pt x="3040" y="2717"/>
                  <a:pt x="3050" y="2709"/>
                </a:cubicBezTo>
                <a:close/>
                <a:moveTo>
                  <a:pt x="3412" y="2307"/>
                </a:moveTo>
                <a:lnTo>
                  <a:pt x="3483" y="2180"/>
                </a:lnTo>
                <a:lnTo>
                  <a:pt x="3543" y="2038"/>
                </a:lnTo>
                <a:lnTo>
                  <a:pt x="3548" y="2021"/>
                </a:lnTo>
                <a:cubicBezTo>
                  <a:pt x="3552" y="2009"/>
                  <a:pt x="3565" y="2002"/>
                  <a:pt x="3577" y="2006"/>
                </a:cubicBezTo>
                <a:cubicBezTo>
                  <a:pt x="3589" y="2010"/>
                  <a:pt x="3596" y="2022"/>
                  <a:pt x="3592" y="2035"/>
                </a:cubicBezTo>
                <a:lnTo>
                  <a:pt x="3586" y="2056"/>
                </a:lnTo>
                <a:lnTo>
                  <a:pt x="3524" y="2203"/>
                </a:lnTo>
                <a:lnTo>
                  <a:pt x="3452" y="2330"/>
                </a:lnTo>
                <a:cubicBezTo>
                  <a:pt x="3446" y="2341"/>
                  <a:pt x="3432" y="2345"/>
                  <a:pt x="3421" y="2339"/>
                </a:cubicBezTo>
                <a:cubicBezTo>
                  <a:pt x="3410" y="2333"/>
                  <a:pt x="3406" y="2319"/>
                  <a:pt x="3412" y="2307"/>
                </a:cubicBezTo>
                <a:close/>
                <a:moveTo>
                  <a:pt x="3604" y="1801"/>
                </a:moveTo>
                <a:lnTo>
                  <a:pt x="3615" y="1739"/>
                </a:lnTo>
                <a:cubicBezTo>
                  <a:pt x="3617" y="1727"/>
                  <a:pt x="3629" y="1719"/>
                  <a:pt x="3642" y="1721"/>
                </a:cubicBezTo>
                <a:cubicBezTo>
                  <a:pt x="3654" y="1723"/>
                  <a:pt x="3662" y="1735"/>
                  <a:pt x="3660" y="1748"/>
                </a:cubicBezTo>
                <a:lnTo>
                  <a:pt x="3649" y="1809"/>
                </a:lnTo>
                <a:cubicBezTo>
                  <a:pt x="3647" y="1821"/>
                  <a:pt x="3635" y="1830"/>
                  <a:pt x="3622" y="1827"/>
                </a:cubicBezTo>
                <a:cubicBezTo>
                  <a:pt x="3610" y="1825"/>
                  <a:pt x="3601" y="1813"/>
                  <a:pt x="3604" y="1801"/>
                </a:cubicBezTo>
                <a:close/>
              </a:path>
            </a:pathLst>
          </a:custGeom>
          <a:solidFill>
            <a:srgbClr val="00b050"/>
          </a:solidFill>
          <a:ln w="792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6406"/>
          <p:cNvSpPr/>
          <p:nvPr/>
        </p:nvSpPr>
        <p:spPr>
          <a:xfrm>
            <a:off x="755640" y="5157720"/>
            <a:ext cx="100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торож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ел.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Line 6408"/>
          <p:cNvSpPr/>
          <p:nvPr/>
        </p:nvSpPr>
        <p:spPr>
          <a:xfrm flipV="1">
            <a:off x="7667640" y="6626160"/>
            <a:ext cx="0" cy="231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6412"/>
          <p:cNvSpPr/>
          <p:nvPr/>
        </p:nvSpPr>
        <p:spPr>
          <a:xfrm>
            <a:off x="6804000" y="2205000"/>
            <a:ext cx="77760" cy="104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ine 6413"/>
          <p:cNvSpPr/>
          <p:nvPr/>
        </p:nvSpPr>
        <p:spPr>
          <a:xfrm flipH="1" flipV="1">
            <a:off x="6877080" y="2276280"/>
            <a:ext cx="155520" cy="903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Line 6414"/>
          <p:cNvSpPr/>
          <p:nvPr/>
        </p:nvSpPr>
        <p:spPr>
          <a:xfrm flipH="1">
            <a:off x="6877080" y="2133720"/>
            <a:ext cx="156960" cy="680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Line 6415"/>
          <p:cNvSpPr/>
          <p:nvPr/>
        </p:nvSpPr>
        <p:spPr>
          <a:xfrm flipV="1">
            <a:off x="7020000" y="2133360"/>
            <a:ext cx="0" cy="2314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6416"/>
          <p:cNvSpPr/>
          <p:nvPr/>
        </p:nvSpPr>
        <p:spPr>
          <a:xfrm>
            <a:off x="971640" y="5516640"/>
            <a:ext cx="77760" cy="104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6417"/>
          <p:cNvSpPr/>
          <p:nvPr/>
        </p:nvSpPr>
        <p:spPr>
          <a:xfrm flipH="1" flipV="1">
            <a:off x="1042920" y="5589720"/>
            <a:ext cx="216000" cy="712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6418"/>
          <p:cNvSpPr/>
          <p:nvPr/>
        </p:nvSpPr>
        <p:spPr>
          <a:xfrm flipH="1">
            <a:off x="1035000" y="5373720"/>
            <a:ext cx="223920" cy="128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6419"/>
          <p:cNvSpPr/>
          <p:nvPr/>
        </p:nvSpPr>
        <p:spPr>
          <a:xfrm flipV="1">
            <a:off x="1258920" y="5373720"/>
            <a:ext cx="0" cy="2872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6420"/>
          <p:cNvSpPr/>
          <p:nvPr/>
        </p:nvSpPr>
        <p:spPr>
          <a:xfrm>
            <a:off x="3924360" y="907920"/>
            <a:ext cx="102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.Понин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40:38Z</dcterms:created>
  <dc:creator>Computer</dc:creator>
  <dc:description/>
  <dc:language>en-US</dc:language>
  <cp:lastModifiedBy>Пользователь</cp:lastModifiedBy>
  <dcterms:modified xsi:type="dcterms:W3CDTF">2015-10-07T04:44:30Z</dcterms:modified>
  <cp:revision>24</cp:revision>
  <dc:subject/>
  <dc:title>Презентация PowerPoint</dc:title>
</cp:coreProperties>
</file>