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6FA-7A61-455E-AB9F-F21DC7A3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B4A-7D29-488C-8B6E-9A6F7B97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0A9-0DAC-4DE1-91CD-E6859AA1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401-DC68-480A-A7FF-00B71F78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4AE-AF1F-40C9-BE5B-7AE37D71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9B6-4617-47D1-AB56-A321F539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A35-86D0-46C4-83AE-0DF0DE14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86B-F768-40E3-B1F9-834FED45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83B-64DA-466B-9987-0B832DCC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AC2-95EF-4CE5-8AC0-84B21138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00A-909C-4EAA-B468-858C00E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DB1-48EC-4F25-93C4-00F71FF0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432B-F2A9-4FB4-A55C-D283482D77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34"/>
          <p:cNvSpPr/>
          <p:nvPr/>
        </p:nvSpPr>
        <p:spPr>
          <a:xfrm>
            <a:off x="149400" y="806400"/>
            <a:ext cx="1753920" cy="709560"/>
          </a:xfrm>
          <a:custGeom>
            <a:avLst/>
            <a:gdLst>
              <a:gd name="textAreaLeft" fmla="*/ 0 w 1753920"/>
              <a:gd name="textAreaRight" fmla="*/ 1754280 w 1753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753534" h="709127">
                <a:moveTo>
                  <a:pt x="299896" y="46653"/>
                </a:moveTo>
                <a:cubicBezTo>
                  <a:pt x="284345" y="46653"/>
                  <a:pt x="283439" y="25070"/>
                  <a:pt x="271904" y="18662"/>
                </a:cubicBezTo>
                <a:cubicBezTo>
                  <a:pt x="254709" y="9109"/>
                  <a:pt x="215920" y="0"/>
                  <a:pt x="215920" y="0"/>
                </a:cubicBezTo>
                <a:cubicBezTo>
                  <a:pt x="172377" y="3110"/>
                  <a:pt x="128198" y="1286"/>
                  <a:pt x="85292" y="9331"/>
                </a:cubicBezTo>
                <a:cubicBezTo>
                  <a:pt x="76646" y="10952"/>
                  <a:pt x="70564" y="20124"/>
                  <a:pt x="66630" y="27992"/>
                </a:cubicBezTo>
                <a:cubicBezTo>
                  <a:pt x="0" y="161250"/>
                  <a:pt x="84205" y="29621"/>
                  <a:pt x="29308" y="111968"/>
                </a:cubicBezTo>
                <a:cubicBezTo>
                  <a:pt x="32626" y="151787"/>
                  <a:pt x="13739" y="216460"/>
                  <a:pt x="57300" y="242596"/>
                </a:cubicBezTo>
                <a:cubicBezTo>
                  <a:pt x="65734" y="247656"/>
                  <a:pt x="75961" y="248817"/>
                  <a:pt x="85292" y="251927"/>
                </a:cubicBezTo>
                <a:cubicBezTo>
                  <a:pt x="120328" y="392080"/>
                  <a:pt x="67305" y="168927"/>
                  <a:pt x="103953" y="559837"/>
                </a:cubicBezTo>
                <a:cubicBezTo>
                  <a:pt x="105197" y="573107"/>
                  <a:pt x="143792" y="610143"/>
                  <a:pt x="150606" y="615821"/>
                </a:cubicBezTo>
                <a:cubicBezTo>
                  <a:pt x="180178" y="640464"/>
                  <a:pt x="193897" y="639581"/>
                  <a:pt x="234581" y="653143"/>
                </a:cubicBezTo>
                <a:cubicBezTo>
                  <a:pt x="243912" y="656253"/>
                  <a:pt x="254389" y="657018"/>
                  <a:pt x="262573" y="662474"/>
                </a:cubicBezTo>
                <a:cubicBezTo>
                  <a:pt x="298749" y="686591"/>
                  <a:pt x="279926" y="677589"/>
                  <a:pt x="318557" y="690466"/>
                </a:cubicBezTo>
                <a:cubicBezTo>
                  <a:pt x="355879" y="687356"/>
                  <a:pt x="393301" y="685271"/>
                  <a:pt x="430524" y="681135"/>
                </a:cubicBezTo>
                <a:cubicBezTo>
                  <a:pt x="449327" y="679046"/>
                  <a:pt x="467589" y="671804"/>
                  <a:pt x="486508" y="671804"/>
                </a:cubicBezTo>
                <a:cubicBezTo>
                  <a:pt x="592301" y="671804"/>
                  <a:pt x="698002" y="678025"/>
                  <a:pt x="803749" y="681135"/>
                </a:cubicBezTo>
                <a:cubicBezTo>
                  <a:pt x="813079" y="684245"/>
                  <a:pt x="822251" y="687878"/>
                  <a:pt x="831740" y="690466"/>
                </a:cubicBezTo>
                <a:cubicBezTo>
                  <a:pt x="856484" y="697214"/>
                  <a:pt x="906385" y="709127"/>
                  <a:pt x="906385" y="709127"/>
                </a:cubicBezTo>
                <a:cubicBezTo>
                  <a:pt x="949928" y="706017"/>
                  <a:pt x="994024" y="707382"/>
                  <a:pt x="1037014" y="699796"/>
                </a:cubicBezTo>
                <a:cubicBezTo>
                  <a:pt x="1048057" y="697847"/>
                  <a:pt x="1054759" y="685689"/>
                  <a:pt x="1065006" y="681135"/>
                </a:cubicBezTo>
                <a:cubicBezTo>
                  <a:pt x="1082981" y="673146"/>
                  <a:pt x="1103395" y="671271"/>
                  <a:pt x="1120989" y="662474"/>
                </a:cubicBezTo>
                <a:cubicBezTo>
                  <a:pt x="1169782" y="638078"/>
                  <a:pt x="1144818" y="647187"/>
                  <a:pt x="1195634" y="634482"/>
                </a:cubicBezTo>
                <a:cubicBezTo>
                  <a:pt x="1216359" y="613758"/>
                  <a:pt x="1242149" y="585530"/>
                  <a:pt x="1270279" y="578498"/>
                </a:cubicBezTo>
                <a:lnTo>
                  <a:pt x="1307602" y="569168"/>
                </a:lnTo>
                <a:cubicBezTo>
                  <a:pt x="1316933" y="562948"/>
                  <a:pt x="1325287" y="554924"/>
                  <a:pt x="1335594" y="550507"/>
                </a:cubicBezTo>
                <a:cubicBezTo>
                  <a:pt x="1347381" y="545455"/>
                  <a:pt x="1360341" y="543691"/>
                  <a:pt x="1372916" y="541176"/>
                </a:cubicBezTo>
                <a:cubicBezTo>
                  <a:pt x="1472564" y="521246"/>
                  <a:pt x="1512050" y="528230"/>
                  <a:pt x="1643504" y="522515"/>
                </a:cubicBezTo>
                <a:cubicBezTo>
                  <a:pt x="1652835" y="519405"/>
                  <a:pt x="1662039" y="515886"/>
                  <a:pt x="1671496" y="513184"/>
                </a:cubicBezTo>
                <a:cubicBezTo>
                  <a:pt x="1753534" y="489743"/>
                  <a:pt x="1669674" y="516900"/>
                  <a:pt x="1736810" y="494523"/>
                </a:cubicBezTo>
                <a:cubicBezTo>
                  <a:pt x="1749758" y="455676"/>
                  <a:pt x="1750321" y="469419"/>
                  <a:pt x="1736810" y="419878"/>
                </a:cubicBezTo>
                <a:cubicBezTo>
                  <a:pt x="1731634" y="400900"/>
                  <a:pt x="1732059" y="377803"/>
                  <a:pt x="1718149" y="363894"/>
                </a:cubicBezTo>
                <a:cubicBezTo>
                  <a:pt x="1703101" y="348847"/>
                  <a:pt x="1692092" y="335399"/>
                  <a:pt x="1671496" y="326572"/>
                </a:cubicBezTo>
                <a:cubicBezTo>
                  <a:pt x="1659709" y="321520"/>
                  <a:pt x="1646180" y="321744"/>
                  <a:pt x="1634173" y="317241"/>
                </a:cubicBezTo>
                <a:cubicBezTo>
                  <a:pt x="1621150" y="312357"/>
                  <a:pt x="1610522" y="301143"/>
                  <a:pt x="1596851" y="298580"/>
                </a:cubicBezTo>
                <a:cubicBezTo>
                  <a:pt x="1560040" y="291678"/>
                  <a:pt x="1522206" y="292359"/>
                  <a:pt x="1484883" y="289249"/>
                </a:cubicBezTo>
                <a:cubicBezTo>
                  <a:pt x="1475553" y="286139"/>
                  <a:pt x="1466349" y="282621"/>
                  <a:pt x="1456892" y="279919"/>
                </a:cubicBezTo>
                <a:cubicBezTo>
                  <a:pt x="1433230" y="273159"/>
                  <a:pt x="1413939" y="270842"/>
                  <a:pt x="1391577" y="261258"/>
                </a:cubicBezTo>
                <a:cubicBezTo>
                  <a:pt x="1378792" y="255779"/>
                  <a:pt x="1366182" y="249752"/>
                  <a:pt x="1354255" y="242596"/>
                </a:cubicBezTo>
                <a:cubicBezTo>
                  <a:pt x="1335023" y="231057"/>
                  <a:pt x="1319548" y="212367"/>
                  <a:pt x="1298271" y="205274"/>
                </a:cubicBezTo>
                <a:cubicBezTo>
                  <a:pt x="1259640" y="192397"/>
                  <a:pt x="1278463" y="201399"/>
                  <a:pt x="1242287" y="177282"/>
                </a:cubicBezTo>
                <a:cubicBezTo>
                  <a:pt x="1236067" y="167951"/>
                  <a:pt x="1232065" y="156675"/>
                  <a:pt x="1223626" y="149290"/>
                </a:cubicBezTo>
                <a:cubicBezTo>
                  <a:pt x="1206747" y="134521"/>
                  <a:pt x="1186304" y="124409"/>
                  <a:pt x="1167643" y="111968"/>
                </a:cubicBezTo>
                <a:cubicBezTo>
                  <a:pt x="1158312" y="105748"/>
                  <a:pt x="1150530" y="96027"/>
                  <a:pt x="1139651" y="93307"/>
                </a:cubicBezTo>
                <a:lnTo>
                  <a:pt x="1102328" y="83976"/>
                </a:lnTo>
                <a:cubicBezTo>
                  <a:pt x="1024573" y="87086"/>
                  <a:pt x="946682" y="87763"/>
                  <a:pt x="869063" y="93307"/>
                </a:cubicBezTo>
                <a:cubicBezTo>
                  <a:pt x="859253" y="94008"/>
                  <a:pt x="850528" y="99935"/>
                  <a:pt x="841071" y="102637"/>
                </a:cubicBezTo>
                <a:cubicBezTo>
                  <a:pt x="759059" y="126069"/>
                  <a:pt x="842872" y="98928"/>
                  <a:pt x="775757" y="121298"/>
                </a:cubicBezTo>
                <a:cubicBezTo>
                  <a:pt x="732214" y="118188"/>
                  <a:pt x="688483" y="117068"/>
                  <a:pt x="645128" y="111968"/>
                </a:cubicBezTo>
                <a:cubicBezTo>
                  <a:pt x="635360" y="110819"/>
                  <a:pt x="626593" y="105339"/>
                  <a:pt x="617136" y="102637"/>
                </a:cubicBezTo>
                <a:cubicBezTo>
                  <a:pt x="604806" y="99114"/>
                  <a:pt x="592255" y="96417"/>
                  <a:pt x="579814" y="93307"/>
                </a:cubicBezTo>
                <a:cubicBezTo>
                  <a:pt x="570483" y="87086"/>
                  <a:pt x="561852" y="79660"/>
                  <a:pt x="551822" y="74645"/>
                </a:cubicBezTo>
                <a:cubicBezTo>
                  <a:pt x="543025" y="70247"/>
                  <a:pt x="531698" y="71216"/>
                  <a:pt x="523830" y="65315"/>
                </a:cubicBezTo>
                <a:cubicBezTo>
                  <a:pt x="438055" y="984"/>
                  <a:pt x="512427" y="30412"/>
                  <a:pt x="449185" y="9331"/>
                </a:cubicBezTo>
                <a:cubicBezTo>
                  <a:pt x="421193" y="12441"/>
                  <a:pt x="393091" y="14679"/>
                  <a:pt x="365210" y="18662"/>
                </a:cubicBezTo>
                <a:cubicBezTo>
                  <a:pt x="287091" y="29822"/>
                  <a:pt x="315447" y="46653"/>
                  <a:pt x="299896" y="46653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11"/>
          <p:cNvGraphicFramePr/>
          <p:nvPr/>
        </p:nvGraphicFramePr>
        <p:xfrm>
          <a:off x="380880" y="990720"/>
          <a:ext cx="8485200" cy="55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48520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13"/>
          <p:cNvGraphicFramePr/>
          <p:nvPr/>
        </p:nvGraphicFramePr>
        <p:xfrm>
          <a:off x="4572000" y="2133720"/>
          <a:ext cx="18493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133720"/>
                    <a:ext cx="18493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22"/>
          <p:cNvSpPr/>
          <p:nvPr/>
        </p:nvSpPr>
        <p:spPr>
          <a:xfrm>
            <a:off x="990720" y="1905120"/>
            <a:ext cx="7467480" cy="403848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Object 25"/>
          <p:cNvGraphicFramePr/>
          <p:nvPr/>
        </p:nvGraphicFramePr>
        <p:xfrm>
          <a:off x="152280" y="5410080"/>
          <a:ext cx="152424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410080"/>
                    <a:ext cx="15242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Picture 23" descr=""/>
          <p:cNvPicPr/>
          <p:nvPr/>
        </p:nvPicPr>
        <p:blipFill>
          <a:blip r:embed="rId7"/>
          <a:stretch/>
        </p:blipFill>
        <p:spPr>
          <a:xfrm>
            <a:off x="228600" y="548640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6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  д.Ч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6732720" y="83808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Кожил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.В. Ельцо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28"/>
          <p:cNvGraphicFramePr/>
          <p:nvPr/>
        </p:nvGraphicFramePr>
        <p:xfrm>
          <a:off x="6211800" y="0"/>
          <a:ext cx="2932200" cy="344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11800" y="0"/>
                    <a:ext cx="2932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29"/>
          <p:cNvSpPr/>
          <p:nvPr/>
        </p:nvSpPr>
        <p:spPr>
          <a:xfrm>
            <a:off x="4419720" y="6400800"/>
            <a:ext cx="3657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населенного пункта Чупин А.Л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30"/>
          <p:cNvSpPr/>
          <p:nvPr/>
        </p:nvSpPr>
        <p:spPr>
          <a:xfrm>
            <a:off x="6629400" y="4038480"/>
            <a:ext cx="2286000" cy="228600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31"/>
          <p:cNvGraphicFramePr/>
          <p:nvPr/>
        </p:nvGraphicFramePr>
        <p:xfrm>
          <a:off x="7620120" y="4952880"/>
          <a:ext cx="247680" cy="30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0120" y="4952880"/>
                    <a:ext cx="247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2"/>
          <p:cNvSpPr/>
          <p:nvPr/>
        </p:nvSpPr>
        <p:spPr>
          <a:xfrm>
            <a:off x="1828800" y="5410080"/>
            <a:ext cx="1447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ароста Чупин А.Л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л. Центральная, Клубная, Береговая, Нижняя, Полевая, Лесная, Молодежная, Верхняя, Предорожная, Лугов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7620120" y="5791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9-03T12:22:02Z</dcterms:modified>
  <cp:revision>15</cp:revision>
  <dc:subject/>
  <dc:title>Презентация PowerPoint</dc:title>
</cp:coreProperties>
</file>