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B08-BDF2-4C50-9B79-D40E5D76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391-B287-40EF-BE3E-A7BC9721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ED6-0CE3-4252-85A6-1D63C207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ED7-34FB-42C5-B1A4-C06B35F6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89A-7804-4617-92B9-FC72B64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64B-4D59-443B-B5B2-1B534644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09D-820E-4908-9EE4-D29503B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FFB-8C00-4875-8179-0CB157A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AD4-02D7-4F3F-B6A7-DCDA43F6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030-D73B-4215-B4D4-0641420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433-19D6-4B55-8675-75AD232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178-BAEE-453A-A9BB-B5157FF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C6F4-2DF6-411B-AA7D-F21AE5B27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806400"/>
          <a:ext cx="9144000" cy="60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6400"/>
                    <a:ext cx="9144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Group 60"/>
          <p:cNvGrpSpPr/>
          <p:nvPr/>
        </p:nvGrpSpPr>
        <p:grpSpPr>
          <a:xfrm>
            <a:off x="2000160" y="3890880"/>
            <a:ext cx="495000" cy="277920"/>
            <a:chOff x="2000160" y="3890880"/>
            <a:chExt cx="495000" cy="277920"/>
          </a:xfrm>
        </p:grpSpPr>
        <p:grpSp>
          <p:nvGrpSpPr>
            <p:cNvPr id="44" name="Group 61"/>
            <p:cNvGrpSpPr/>
            <p:nvPr/>
          </p:nvGrpSpPr>
          <p:grpSpPr>
            <a:xfrm>
              <a:off x="2094840" y="3913920"/>
              <a:ext cx="316440" cy="254880"/>
              <a:chOff x="2094840" y="3913920"/>
              <a:chExt cx="316440" cy="254880"/>
            </a:xfrm>
          </p:grpSpPr>
          <p:grpSp>
            <p:nvGrpSpPr>
              <p:cNvPr id="45" name="Group 62"/>
              <p:cNvGrpSpPr/>
              <p:nvPr/>
            </p:nvGrpSpPr>
            <p:grpSpPr>
              <a:xfrm>
                <a:off x="2094840" y="3913920"/>
                <a:ext cx="316440" cy="254880"/>
                <a:chOff x="2094840" y="3913920"/>
                <a:chExt cx="316440" cy="254880"/>
              </a:xfrm>
            </p:grpSpPr>
            <p:sp>
              <p:nvSpPr>
                <p:cNvPr id="46" name="Line 63"/>
                <p:cNvSpPr/>
                <p:nvPr/>
              </p:nvSpPr>
              <p:spPr>
                <a:xfrm>
                  <a:off x="2094840" y="3913920"/>
                  <a:ext cx="0" cy="254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Line 64"/>
                <p:cNvSpPr/>
                <p:nvPr/>
              </p:nvSpPr>
              <p:spPr>
                <a:xfrm>
                  <a:off x="2103840" y="3913920"/>
                  <a:ext cx="304920" cy="32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Line 65"/>
                <p:cNvSpPr/>
                <p:nvPr/>
              </p:nvSpPr>
              <p:spPr>
                <a:xfrm flipV="1">
                  <a:off x="2106720" y="4021920"/>
                  <a:ext cx="304560" cy="37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Line 66"/>
                <p:cNvSpPr/>
                <p:nvPr/>
              </p:nvSpPr>
              <p:spPr>
                <a:xfrm>
                  <a:off x="2401200" y="3946680"/>
                  <a:ext cx="0" cy="72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0" name="Freeform 67"/>
              <p:cNvSpPr/>
              <p:nvPr/>
            </p:nvSpPr>
            <p:spPr>
              <a:xfrm>
                <a:off x="2112840" y="3925080"/>
                <a:ext cx="289080" cy="12744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291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91" y="114"/>
                    </a:lnTo>
                    <a:lnTo>
                      <a:pt x="29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Text Box 68"/>
            <p:cNvSpPr/>
            <p:nvPr/>
          </p:nvSpPr>
          <p:spPr>
            <a:xfrm>
              <a:off x="2000160" y="3890880"/>
              <a:ext cx="495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ПО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Прямоугольник 51"/>
          <p:cNvSpPr/>
          <p:nvPr/>
        </p:nvSpPr>
        <p:spPr>
          <a:xfrm>
            <a:off x="2000160" y="2503440"/>
            <a:ext cx="2160720" cy="193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1"/>
          <p:cNvSpPr/>
          <p:nvPr/>
        </p:nvSpPr>
        <p:spPr>
          <a:xfrm>
            <a:off x="4367160" y="2914560"/>
            <a:ext cx="204840" cy="2158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1"/>
          <p:cNvSpPr/>
          <p:nvPr/>
        </p:nvSpPr>
        <p:spPr>
          <a:xfrm>
            <a:off x="6783480" y="1165320"/>
            <a:ext cx="492120" cy="2367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1"/>
          <p:cNvSpPr/>
          <p:nvPr/>
        </p:nvSpPr>
        <p:spPr>
          <a:xfrm>
            <a:off x="1897200" y="2967120"/>
            <a:ext cx="2263680" cy="193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1"/>
          <p:cNvSpPr/>
          <p:nvPr/>
        </p:nvSpPr>
        <p:spPr>
          <a:xfrm>
            <a:off x="714240" y="3068640"/>
            <a:ext cx="492120" cy="2828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7502400" y="1114560"/>
            <a:ext cx="567000" cy="44244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8172360" y="3121200"/>
            <a:ext cx="285840" cy="142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>
            <a:off x="8429760" y="3583080"/>
            <a:ext cx="28548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>
            <a:off x="3747960" y="4818240"/>
            <a:ext cx="384480" cy="1387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200160" y="4611600"/>
            <a:ext cx="388800" cy="1285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>
            <a:off x="2824200" y="4664160"/>
            <a:ext cx="307800" cy="10173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>
            <a:off x="2411280" y="4664160"/>
            <a:ext cx="285840" cy="965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1897200" y="4611600"/>
            <a:ext cx="234720" cy="76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>
            <a:off x="3132000" y="4664160"/>
            <a:ext cx="308160" cy="2966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>
            <a:off x="3747960" y="3736800"/>
            <a:ext cx="309600" cy="773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>
            <a:off x="6372360" y="3479760"/>
            <a:ext cx="257040" cy="773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6835680" y="4510080"/>
            <a:ext cx="233280" cy="3477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>
            <a:off x="6783480" y="3686040"/>
            <a:ext cx="338040" cy="76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15"/>
          <p:cNvSpPr/>
          <p:nvPr/>
        </p:nvSpPr>
        <p:spPr>
          <a:xfrm>
            <a:off x="5137200" y="2193840"/>
            <a:ext cx="1235160" cy="1030320"/>
          </a:xfrm>
          <a:prstGeom prst="ellipse">
            <a:avLst/>
          </a:prstGeom>
          <a:blipFill rotWithShape="0">
            <a:blip r:embed="rId3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567"/>
          <p:cNvGrpSpPr/>
          <p:nvPr/>
        </p:nvGrpSpPr>
        <p:grpSpPr>
          <a:xfrm>
            <a:off x="5439600" y="3199680"/>
            <a:ext cx="249120" cy="141120"/>
            <a:chOff x="5439600" y="3199680"/>
            <a:chExt cx="249120" cy="141120"/>
          </a:xfrm>
        </p:grpSpPr>
        <p:sp>
          <p:nvSpPr>
            <p:cNvPr id="72" name="Line 564"/>
            <p:cNvSpPr/>
            <p:nvPr/>
          </p:nvSpPr>
          <p:spPr>
            <a:xfrm flipH="1" flipV="1">
              <a:off x="5668920" y="3199680"/>
              <a:ext cx="19800" cy="9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565"/>
            <p:cNvSpPr/>
            <p:nvPr/>
          </p:nvSpPr>
          <p:spPr>
            <a:xfrm flipH="1" flipV="1">
              <a:off x="5439600" y="3250800"/>
              <a:ext cx="19800" cy="9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566"/>
            <p:cNvSpPr/>
            <p:nvPr/>
          </p:nvSpPr>
          <p:spPr>
            <a:xfrm flipH="1">
              <a:off x="5449680" y="3245040"/>
              <a:ext cx="22896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Прямоугольник 51"/>
          <p:cNvSpPr/>
          <p:nvPr/>
        </p:nvSpPr>
        <p:spPr>
          <a:xfrm>
            <a:off x="4468680" y="5280120"/>
            <a:ext cx="308160" cy="606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3"/>
          <p:cNvGrpSpPr/>
          <p:nvPr/>
        </p:nvGrpSpPr>
        <p:grpSpPr>
          <a:xfrm>
            <a:off x="1897200" y="4046400"/>
            <a:ext cx="585720" cy="280800"/>
            <a:chOff x="1897200" y="4046400"/>
            <a:chExt cx="585720" cy="280800"/>
          </a:xfrm>
        </p:grpSpPr>
        <p:sp>
          <p:nvSpPr>
            <p:cNvPr id="77" name="Rectangle 54"/>
            <p:cNvSpPr/>
            <p:nvPr/>
          </p:nvSpPr>
          <p:spPr>
            <a:xfrm>
              <a:off x="2174040" y="4070880"/>
              <a:ext cx="308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6200"/>
                  <a:tab algn="l" pos="2552760"/>
                  <a:tab algn="l" pos="3828960"/>
                  <a:tab algn="l" pos="5105520"/>
                  <a:tab algn="l" pos="6381720"/>
                  <a:tab algn="l" pos="7658280"/>
                  <a:tab algn="l" pos="8934480"/>
                  <a:tab algn="l" pos="10210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Group 56"/>
            <p:cNvGrpSpPr/>
            <p:nvPr/>
          </p:nvGrpSpPr>
          <p:grpSpPr>
            <a:xfrm>
              <a:off x="1897200" y="4046400"/>
              <a:ext cx="275040" cy="272160"/>
              <a:chOff x="1897200" y="4046400"/>
              <a:chExt cx="275040" cy="272160"/>
            </a:xfrm>
          </p:grpSpPr>
          <p:sp>
            <p:nvSpPr>
              <p:cNvPr id="79" name="Rectangle 57"/>
              <p:cNvSpPr/>
              <p:nvPr/>
            </p:nvSpPr>
            <p:spPr>
              <a:xfrm>
                <a:off x="1897200" y="4151880"/>
                <a:ext cx="275040" cy="1666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rmAutofit/>
              </a:bodyPr>
              <a:p>
                <a:pPr>
                  <a:tabLst>
                    <a:tab algn="l" pos="0"/>
                    <a:tab algn="l" pos="1276200"/>
                    <a:tab algn="l" pos="2552760"/>
                    <a:tab algn="l" pos="3828960"/>
                    <a:tab algn="l" pos="5105520"/>
                    <a:tab algn="l" pos="6381720"/>
                    <a:tab algn="l" pos="7658280"/>
                    <a:tab algn="l" pos="8934480"/>
                    <a:tab algn="l" pos="102106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Line 58"/>
              <p:cNvSpPr/>
              <p:nvPr/>
            </p:nvSpPr>
            <p:spPr>
              <a:xfrm flipV="1">
                <a:off x="1899360" y="4046400"/>
                <a:ext cx="140040" cy="10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Line 59"/>
              <p:cNvSpPr/>
              <p:nvPr/>
            </p:nvSpPr>
            <p:spPr>
              <a:xfrm>
                <a:off x="2041200" y="4046400"/>
                <a:ext cx="128880" cy="9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2" name="Group 60"/>
              <p:cNvGrpSpPr/>
              <p:nvPr/>
            </p:nvGrpSpPr>
            <p:grpSpPr>
              <a:xfrm>
                <a:off x="2016000" y="4087080"/>
                <a:ext cx="42840" cy="46080"/>
                <a:chOff x="2016000" y="4087080"/>
                <a:chExt cx="42840" cy="46080"/>
              </a:xfrm>
            </p:grpSpPr>
            <p:sp>
              <p:nvSpPr>
                <p:cNvPr id="83" name="Line 61"/>
                <p:cNvSpPr/>
                <p:nvPr/>
              </p:nvSpPr>
              <p:spPr>
                <a:xfrm>
                  <a:off x="2035800" y="4087080"/>
                  <a:ext cx="0" cy="46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Line 62"/>
                <p:cNvSpPr/>
                <p:nvPr/>
              </p:nvSpPr>
              <p:spPr>
                <a:xfrm>
                  <a:off x="2016000" y="4112280"/>
                  <a:ext cx="42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85" name="Group 253"/>
          <p:cNvGrpSpPr/>
          <p:nvPr/>
        </p:nvGrpSpPr>
        <p:grpSpPr>
          <a:xfrm>
            <a:off x="4983120" y="4611240"/>
            <a:ext cx="357120" cy="333720"/>
            <a:chOff x="4983120" y="4611240"/>
            <a:chExt cx="357120" cy="333720"/>
          </a:xfrm>
        </p:grpSpPr>
        <p:sp>
          <p:nvSpPr>
            <p:cNvPr id="86" name="Rectangle 254"/>
            <p:cNvSpPr/>
            <p:nvPr/>
          </p:nvSpPr>
          <p:spPr>
            <a:xfrm>
              <a:off x="4983120" y="4798080"/>
              <a:ext cx="317880" cy="1468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55"/>
            <p:cNvSpPr/>
            <p:nvPr/>
          </p:nvSpPr>
          <p:spPr>
            <a:xfrm rot="10800000">
              <a:off x="5181840" y="4611240"/>
              <a:ext cx="158400" cy="331560"/>
            </a:xfrm>
            <a:custGeom>
              <a:avLst/>
              <a:gdLst>
                <a:gd name="textAreaLeft" fmla="*/ 33120 w 158400"/>
                <a:gd name="textAreaRight" fmla="*/ 125280 w 158400"/>
                <a:gd name="textAreaTop" fmla="*/ 68760 h 331560"/>
                <a:gd name="textAreaBottom" fmla="*/ 262800 h 33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Прямоугольник 55"/>
          <p:cNvSpPr/>
          <p:nvPr/>
        </p:nvSpPr>
        <p:spPr>
          <a:xfrm>
            <a:off x="2617920" y="4097160"/>
            <a:ext cx="2854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183"/>
          <p:cNvSpPr/>
          <p:nvPr/>
        </p:nvSpPr>
        <p:spPr>
          <a:xfrm>
            <a:off x="639720" y="8616960"/>
            <a:ext cx="1274760" cy="144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45"/>
          <p:cNvSpPr/>
          <p:nvPr/>
        </p:nvSpPr>
        <p:spPr>
          <a:xfrm>
            <a:off x="1641600" y="4200480"/>
            <a:ext cx="215640" cy="2160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45"/>
          <p:cNvSpPr/>
          <p:nvPr/>
        </p:nvSpPr>
        <p:spPr>
          <a:xfrm>
            <a:off x="1641600" y="3583080"/>
            <a:ext cx="215640" cy="2174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68"/>
          <p:cNvSpPr/>
          <p:nvPr/>
        </p:nvSpPr>
        <p:spPr>
          <a:xfrm>
            <a:off x="0" y="754200"/>
            <a:ext cx="8850240" cy="6103800"/>
          </a:xfrm>
          <a:custGeom>
            <a:avLst/>
            <a:gdLst>
              <a:gd name="textAreaLeft" fmla="*/ 0 w 8850240"/>
              <a:gd name="textAreaRight" fmla="*/ 8850600 w 8850240"/>
              <a:gd name="textAreaTop" fmla="*/ 0 h 6103800"/>
              <a:gd name="textAreaBottom" fmla="*/ 6104160 h 6103800"/>
            </a:gdLst>
            <a:ahLst/>
            <a:rect l="textAreaLeft" t="textAreaTop" r="textAreaRight" b="textAreaBottom"/>
            <a:pathLst>
              <a:path w="7568" h="4752">
                <a:moveTo>
                  <a:pt x="272" y="56"/>
                </a:moveTo>
                <a:lnTo>
                  <a:pt x="72" y="4640"/>
                </a:lnTo>
                <a:lnTo>
                  <a:pt x="0" y="4648"/>
                </a:lnTo>
                <a:lnTo>
                  <a:pt x="5136" y="4752"/>
                </a:lnTo>
                <a:lnTo>
                  <a:pt x="5608" y="4064"/>
                </a:lnTo>
                <a:lnTo>
                  <a:pt x="7568" y="4072"/>
                </a:lnTo>
                <a:lnTo>
                  <a:pt x="7336" y="0"/>
                </a:lnTo>
                <a:lnTo>
                  <a:pt x="248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9"/>
          <p:cNvSpPr/>
          <p:nvPr/>
        </p:nvSpPr>
        <p:spPr>
          <a:xfrm>
            <a:off x="199800" y="3994200"/>
            <a:ext cx="2592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1"/>
          <p:cNvSpPr/>
          <p:nvPr/>
        </p:nvSpPr>
        <p:spPr>
          <a:xfrm>
            <a:off x="1846440" y="3274920"/>
            <a:ext cx="1697040" cy="2574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1"/>
          <p:cNvSpPr/>
          <p:nvPr/>
        </p:nvSpPr>
        <p:spPr>
          <a:xfrm>
            <a:off x="5033880" y="4097160"/>
            <a:ext cx="235080" cy="349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72"/>
          <p:cNvSpPr/>
          <p:nvPr/>
        </p:nvSpPr>
        <p:spPr>
          <a:xfrm>
            <a:off x="6372360" y="276084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73"/>
          <p:cNvSpPr/>
          <p:nvPr/>
        </p:nvSpPr>
        <p:spPr>
          <a:xfrm flipH="1">
            <a:off x="4520880" y="2863800"/>
            <a:ext cx="615960" cy="2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6319800" y="2554200"/>
            <a:ext cx="46368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00 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5"/>
          <p:cNvSpPr/>
          <p:nvPr/>
        </p:nvSpPr>
        <p:spPr>
          <a:xfrm rot="20362200">
            <a:off x="4570200" y="2708280"/>
            <a:ext cx="46188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00 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228600" y="1066680"/>
            <a:ext cx="8153280" cy="525780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9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хема закрепления секторов оповещения и информирования населения населенного пункта деревня Курег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1"/>
          <p:cNvSpPr/>
          <p:nvPr/>
        </p:nvSpPr>
        <p:spPr>
          <a:xfrm>
            <a:off x="6553080" y="380880"/>
            <a:ext cx="2411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УТВЕРЖДА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Глава МО «Куреговско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В.М. Никитин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«24» сентября 2015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632448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тароста населенного пункта Петров О.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Object 83"/>
          <p:cNvGraphicFramePr/>
          <p:nvPr/>
        </p:nvGraphicFramePr>
        <p:xfrm>
          <a:off x="5943600" y="5029200"/>
          <a:ext cx="147960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8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5029200"/>
                    <a:ext cx="1479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85" descr=""/>
          <p:cNvPicPr/>
          <p:nvPr/>
        </p:nvPicPr>
        <p:blipFill>
          <a:blip r:embed="rId6"/>
          <a:stretch/>
        </p:blipFill>
        <p:spPr>
          <a:xfrm>
            <a:off x="6019920" y="510552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6"/>
          <p:cNvSpPr/>
          <p:nvPr/>
        </p:nvSpPr>
        <p:spPr>
          <a:xfrm>
            <a:off x="1981080" y="914400"/>
            <a:ext cx="16765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Староста Петров О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Пер. Школьный, ул. Мира, Первомайская, Нова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87"/>
          <p:cNvSpPr/>
          <p:nvPr/>
        </p:nvSpPr>
        <p:spPr>
          <a:xfrm>
            <a:off x="1219320" y="4648320"/>
            <a:ext cx="2209680" cy="220968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Object 88"/>
          <p:cNvGraphicFramePr/>
          <p:nvPr/>
        </p:nvGraphicFramePr>
        <p:xfrm>
          <a:off x="2133720" y="5562720"/>
          <a:ext cx="24768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8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5562720"/>
                    <a:ext cx="247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89"/>
          <p:cNvSpPr/>
          <p:nvPr/>
        </p:nvSpPr>
        <p:spPr>
          <a:xfrm>
            <a:off x="2574360" y="624816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6327720" y="42840"/>
            <a:ext cx="2349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 № 1.2 к Положению о своевременном оповещении населения МО «Куреговское» при угрозе и возникновении чрезвычайных ситуаций 24.09.2015 № 4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5-09-24T05:28:45Z</dcterms:modified>
  <cp:revision>20</cp:revision>
  <dc:subject/>
  <dc:title>Презентация PowerPoint</dc:title>
</cp:coreProperties>
</file>