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52E-F4BF-49D5-B428-87DDA63A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5E7-4CAF-405B-BA2C-FCA54FBF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DE5-7C8A-4B19-A445-32370459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A9E-6152-4E4C-A0F9-9D23ABE7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781-09B0-4450-9DDE-CB107224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F1D-4934-4A2B-8CAE-D0EE9D90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FA3-854E-4D9C-9502-E22F7B77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86C-28A8-412B-9D35-5E7385D8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412-BC76-429A-AC96-E12E6944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E6E-B878-4418-B0D4-007C9AB4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FBD-EAD7-4694-9E98-2B0A4188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6A1-E4D9-4773-8D8E-373F09E5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10EE-E133-452C-B3F2-9A5B6368D4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1681200"/>
            <a:ext cx="9144000" cy="493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0" y="1165320"/>
          <a:ext cx="9144000" cy="56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65320"/>
                    <a:ext cx="91440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Прямоугольник 51"/>
          <p:cNvSpPr/>
          <p:nvPr/>
        </p:nvSpPr>
        <p:spPr>
          <a:xfrm>
            <a:off x="3747960" y="6154560"/>
            <a:ext cx="3807000" cy="2048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1"/>
          <p:cNvSpPr/>
          <p:nvPr/>
        </p:nvSpPr>
        <p:spPr>
          <a:xfrm>
            <a:off x="0" y="5692680"/>
            <a:ext cx="2000160" cy="1954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51"/>
          <p:cNvSpPr/>
          <p:nvPr/>
        </p:nvSpPr>
        <p:spPr>
          <a:xfrm>
            <a:off x="200160" y="6154560"/>
            <a:ext cx="2982600" cy="2048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53"/>
          <p:cNvGrpSpPr/>
          <p:nvPr/>
        </p:nvGrpSpPr>
        <p:grpSpPr>
          <a:xfrm>
            <a:off x="3235320" y="6154200"/>
            <a:ext cx="417600" cy="202320"/>
            <a:chOff x="3235320" y="6154200"/>
            <a:chExt cx="417600" cy="202320"/>
          </a:xfrm>
        </p:grpSpPr>
        <p:sp>
          <p:nvSpPr>
            <p:cNvPr id="48" name="Rectangle 54"/>
            <p:cNvSpPr/>
            <p:nvPr/>
          </p:nvSpPr>
          <p:spPr>
            <a:xfrm>
              <a:off x="3432600" y="6172200"/>
              <a:ext cx="2203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№</a:t>
              </a:r>
              <a:r>
                <a:rPr b="1" lang="ru-RU" sz="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0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" name="Group 56"/>
            <p:cNvGrpSpPr/>
            <p:nvPr/>
          </p:nvGrpSpPr>
          <p:grpSpPr>
            <a:xfrm>
              <a:off x="3235320" y="6154200"/>
              <a:ext cx="196200" cy="195840"/>
              <a:chOff x="3235320" y="6154200"/>
              <a:chExt cx="196200" cy="195840"/>
            </a:xfrm>
          </p:grpSpPr>
          <p:sp>
            <p:nvSpPr>
              <p:cNvPr id="50" name="Rectangle 57"/>
              <p:cNvSpPr/>
              <p:nvPr/>
            </p:nvSpPr>
            <p:spPr>
              <a:xfrm>
                <a:off x="3235320" y="6230160"/>
                <a:ext cx="196200" cy="1198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t">
                <a:normAutofit/>
              </a:bodyPr>
              <a:p>
                <a:pPr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Line 58"/>
              <p:cNvSpPr/>
              <p:nvPr/>
            </p:nvSpPr>
            <p:spPr>
              <a:xfrm flipV="1">
                <a:off x="3236760" y="6154200"/>
                <a:ext cx="99720" cy="75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Line 59"/>
              <p:cNvSpPr/>
              <p:nvPr/>
            </p:nvSpPr>
            <p:spPr>
              <a:xfrm>
                <a:off x="3337920" y="6154560"/>
                <a:ext cx="91800" cy="7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" name="Group 60"/>
              <p:cNvGrpSpPr/>
              <p:nvPr/>
            </p:nvGrpSpPr>
            <p:grpSpPr>
              <a:xfrm>
                <a:off x="3320280" y="6183720"/>
                <a:ext cx="30600" cy="33120"/>
                <a:chOff x="3320280" y="6183720"/>
                <a:chExt cx="30600" cy="33120"/>
              </a:xfrm>
            </p:grpSpPr>
            <p:sp>
              <p:nvSpPr>
                <p:cNvPr id="54" name="Line 61"/>
                <p:cNvSpPr/>
                <p:nvPr/>
              </p:nvSpPr>
              <p:spPr>
                <a:xfrm>
                  <a:off x="3334320" y="6183720"/>
                  <a:ext cx="0" cy="33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" name="Line 62"/>
                <p:cNvSpPr/>
                <p:nvPr/>
              </p:nvSpPr>
              <p:spPr>
                <a:xfrm>
                  <a:off x="3320280" y="6202080"/>
                  <a:ext cx="30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6" name="Прямоугольник 51"/>
          <p:cNvSpPr/>
          <p:nvPr/>
        </p:nvSpPr>
        <p:spPr>
          <a:xfrm>
            <a:off x="4160880" y="5692680"/>
            <a:ext cx="4165560" cy="2066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1"/>
          <p:cNvSpPr/>
          <p:nvPr/>
        </p:nvSpPr>
        <p:spPr>
          <a:xfrm>
            <a:off x="3697200" y="5435640"/>
            <a:ext cx="4636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1"/>
          <p:cNvSpPr/>
          <p:nvPr/>
        </p:nvSpPr>
        <p:spPr>
          <a:xfrm>
            <a:off x="3336840" y="5332320"/>
            <a:ext cx="308160" cy="358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1"/>
          <p:cNvSpPr/>
          <p:nvPr/>
        </p:nvSpPr>
        <p:spPr>
          <a:xfrm>
            <a:off x="2824200" y="5692680"/>
            <a:ext cx="411120" cy="257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ctr">
            <a:normAutofit/>
          </a:bodyPr>
          <a:p>
            <a:pPr algn="ctr"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1"/>
          <p:cNvSpPr/>
          <p:nvPr/>
        </p:nvSpPr>
        <p:spPr>
          <a:xfrm>
            <a:off x="2978280" y="4560840"/>
            <a:ext cx="461880" cy="2048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2978280" y="4765680"/>
            <a:ext cx="461880" cy="2048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1"/>
          <p:cNvSpPr/>
          <p:nvPr/>
        </p:nvSpPr>
        <p:spPr>
          <a:xfrm>
            <a:off x="2874960" y="3943440"/>
            <a:ext cx="411120" cy="360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ctr">
            <a:normAutofit/>
          </a:bodyPr>
          <a:p>
            <a:pPr algn="ctr"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1"/>
          <p:cNvSpPr/>
          <p:nvPr/>
        </p:nvSpPr>
        <p:spPr>
          <a:xfrm>
            <a:off x="3954600" y="3017880"/>
            <a:ext cx="2931840" cy="11826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ctr">
            <a:normAutofit/>
          </a:bodyPr>
          <a:p>
            <a:pPr algn="ctr"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1"/>
          <p:cNvSpPr/>
          <p:nvPr/>
        </p:nvSpPr>
        <p:spPr>
          <a:xfrm>
            <a:off x="6989760" y="2760840"/>
            <a:ext cx="1644480" cy="1439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ctr">
            <a:normAutofit/>
          </a:bodyPr>
          <a:p>
            <a:pPr algn="ctr"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1"/>
          <p:cNvSpPr/>
          <p:nvPr/>
        </p:nvSpPr>
        <p:spPr>
          <a:xfrm>
            <a:off x="2927520" y="2914560"/>
            <a:ext cx="307800" cy="9763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1"/>
          <p:cNvSpPr/>
          <p:nvPr/>
        </p:nvSpPr>
        <p:spPr>
          <a:xfrm>
            <a:off x="2360520" y="2039760"/>
            <a:ext cx="360360" cy="22640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1"/>
          <p:cNvSpPr/>
          <p:nvPr/>
        </p:nvSpPr>
        <p:spPr>
          <a:xfrm>
            <a:off x="1692360" y="2297160"/>
            <a:ext cx="336600" cy="32925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1"/>
          <p:cNvSpPr/>
          <p:nvPr/>
        </p:nvSpPr>
        <p:spPr>
          <a:xfrm>
            <a:off x="2308320" y="5692680"/>
            <a:ext cx="4633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46"/>
          <p:cNvSpPr/>
          <p:nvPr/>
        </p:nvSpPr>
        <p:spPr>
          <a:xfrm>
            <a:off x="457200" y="0"/>
            <a:ext cx="5715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хема закрепления секторов оповещения и информирования населения населенного пункта д.Корота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48"/>
          <p:cNvSpPr/>
          <p:nvPr/>
        </p:nvSpPr>
        <p:spPr>
          <a:xfrm>
            <a:off x="6732720" y="83808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Глава МО «Курегов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В.М.Никити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«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»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ентябр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20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Object 151"/>
          <p:cNvGraphicFramePr/>
          <p:nvPr/>
        </p:nvGraphicFramePr>
        <p:xfrm>
          <a:off x="0" y="4191120"/>
          <a:ext cx="152388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91120"/>
                    <a:ext cx="15238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152"/>
          <p:cNvSpPr/>
          <p:nvPr/>
        </p:nvSpPr>
        <p:spPr>
          <a:xfrm>
            <a:off x="228600" y="1905120"/>
            <a:ext cx="8381880" cy="457200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50" descr=""/>
          <p:cNvPicPr/>
          <p:nvPr/>
        </p:nvPicPr>
        <p:blipFill>
          <a:blip r:embed="rId5"/>
          <a:stretch/>
        </p:blipFill>
        <p:spPr>
          <a:xfrm>
            <a:off x="0" y="4267080"/>
            <a:ext cx="1413000" cy="1295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54"/>
          <p:cNvSpPr/>
          <p:nvPr/>
        </p:nvSpPr>
        <p:spPr>
          <a:xfrm>
            <a:off x="1219320" y="6477120"/>
            <a:ext cx="2819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Староста населенного пункта Коротаева Л.М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Тел. 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55"/>
          <p:cNvSpPr/>
          <p:nvPr/>
        </p:nvSpPr>
        <p:spPr>
          <a:xfrm>
            <a:off x="304920" y="2133720"/>
            <a:ext cx="121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56"/>
          <p:cNvSpPr/>
          <p:nvPr/>
        </p:nvSpPr>
        <p:spPr>
          <a:xfrm>
            <a:off x="228600" y="2133720"/>
            <a:ext cx="144792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Сектор №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Староста Коротаева Л.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Тел. 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Ул. Кузебая Герда, Труд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157"/>
          <p:cNvSpPr/>
          <p:nvPr/>
        </p:nvSpPr>
        <p:spPr>
          <a:xfrm>
            <a:off x="5867280" y="2743200"/>
            <a:ext cx="3276720" cy="3200400"/>
          </a:xfrm>
          <a:prstGeom prst="ellipse">
            <a:avLst/>
          </a:prstGeom>
          <a:noFill/>
          <a:ln w="2232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Object 158"/>
          <p:cNvGraphicFramePr/>
          <p:nvPr/>
        </p:nvGraphicFramePr>
        <p:xfrm>
          <a:off x="7391520" y="4191120"/>
          <a:ext cx="247680" cy="30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0" name="Object 15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91520" y="4191120"/>
                    <a:ext cx="2476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159"/>
          <p:cNvSpPr/>
          <p:nvPr/>
        </p:nvSpPr>
        <p:spPr>
          <a:xfrm>
            <a:off x="7603560" y="327636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Тел. 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6172200" y="228600"/>
            <a:ext cx="27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ложение № 1.2 к Положению о своевременном оповещении населения МО «Куреговское» при угрозе и возникновении чрезвычайных ситуаций 24.09.2015 № 4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5-09-24T05:35:12Z</dcterms:modified>
  <cp:revision>19</cp:revision>
  <dc:subject/>
  <dc:title>Презентация PowerPoint</dc:title>
</cp:coreProperties>
</file>