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7F3-322D-47FF-930A-946F9B5C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E1FC-FD40-4CE3-9425-3C4E600E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497-D89B-491D-A4BD-23ECC585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4134-1946-4203-B89D-5148FD84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544-0E34-422A-B320-4A76D6DB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569-8AB2-496B-A2A8-94A7FA92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E14-B9FC-430C-8314-3BB52D0B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4A95-0E83-4C39-B600-34793EA4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156-9516-4CBB-A142-3911787A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5DE-764A-4B70-8B92-DF2014BA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A089-0544-4BFD-A145-E880A9EB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1BF-00D6-444D-9335-D7F7D781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D92F-2BF5-47F0-B174-ABDCECD2E9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Рисунок4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0"/>
          <p:cNvSpPr/>
          <p:nvPr/>
        </p:nvSpPr>
        <p:spPr>
          <a:xfrm>
            <a:off x="900000" y="222408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я секторов оповещения и информирования населения муниципального образования службами экстренного реаг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2"/>
          <p:cNvSpPr/>
          <p:nvPr/>
        </p:nvSpPr>
        <p:spPr>
          <a:xfrm>
            <a:off x="6324480" y="71280"/>
            <a:ext cx="28195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№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ложению о своевременном оповещении и информировании населения муниципального образования «Глазовский район» об угрозе возникновения или  возникновении  чрезвычайных ситуац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 17  сентября 2015 года   № 1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63"/>
          <p:cNvGraphicFramePr/>
          <p:nvPr/>
        </p:nvGraphicFramePr>
        <p:xfrm>
          <a:off x="5724360" y="5445000"/>
          <a:ext cx="3408480" cy="139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360" y="5445000"/>
                    <a:ext cx="340848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Freeform 106"/>
          <p:cNvSpPr/>
          <p:nvPr/>
        </p:nvSpPr>
        <p:spPr>
          <a:xfrm>
            <a:off x="2463840" y="3365640"/>
            <a:ext cx="1722240" cy="2033280"/>
          </a:xfrm>
          <a:custGeom>
            <a:avLst/>
            <a:gdLst/>
            <a:ahLst/>
            <a:rect l="l" t="t" r="r" b="b"/>
            <a:pathLst>
              <a:path w="1085" h="1281">
                <a:moveTo>
                  <a:pt x="72" y="392"/>
                </a:moveTo>
                <a:cubicBezTo>
                  <a:pt x="16" y="504"/>
                  <a:pt x="62" y="402"/>
                  <a:pt x="48" y="688"/>
                </a:cubicBezTo>
                <a:cubicBezTo>
                  <a:pt x="42" y="823"/>
                  <a:pt x="43" y="960"/>
                  <a:pt x="0" y="1088"/>
                </a:cubicBezTo>
                <a:cubicBezTo>
                  <a:pt x="3" y="1112"/>
                  <a:pt x="0" y="1137"/>
                  <a:pt x="8" y="1160"/>
                </a:cubicBezTo>
                <a:cubicBezTo>
                  <a:pt x="12" y="1171"/>
                  <a:pt x="47" y="1181"/>
                  <a:pt x="56" y="1184"/>
                </a:cubicBezTo>
                <a:cubicBezTo>
                  <a:pt x="115" y="1201"/>
                  <a:pt x="147" y="1203"/>
                  <a:pt x="216" y="1208"/>
                </a:cubicBezTo>
                <a:cubicBezTo>
                  <a:pt x="224" y="1213"/>
                  <a:pt x="231" y="1220"/>
                  <a:pt x="240" y="1224"/>
                </a:cubicBezTo>
                <a:cubicBezTo>
                  <a:pt x="248" y="1228"/>
                  <a:pt x="258" y="1226"/>
                  <a:pt x="264" y="1232"/>
                </a:cubicBezTo>
                <a:cubicBezTo>
                  <a:pt x="306" y="1274"/>
                  <a:pt x="224" y="1244"/>
                  <a:pt x="304" y="1264"/>
                </a:cubicBezTo>
                <a:cubicBezTo>
                  <a:pt x="453" y="1258"/>
                  <a:pt x="543" y="1281"/>
                  <a:pt x="624" y="1160"/>
                </a:cubicBezTo>
                <a:cubicBezTo>
                  <a:pt x="630" y="1071"/>
                  <a:pt x="635" y="1054"/>
                  <a:pt x="648" y="984"/>
                </a:cubicBezTo>
                <a:cubicBezTo>
                  <a:pt x="653" y="957"/>
                  <a:pt x="647" y="925"/>
                  <a:pt x="664" y="904"/>
                </a:cubicBezTo>
                <a:cubicBezTo>
                  <a:pt x="679" y="885"/>
                  <a:pt x="716" y="877"/>
                  <a:pt x="736" y="864"/>
                </a:cubicBezTo>
                <a:cubicBezTo>
                  <a:pt x="721" y="818"/>
                  <a:pt x="676" y="799"/>
                  <a:pt x="632" y="784"/>
                </a:cubicBezTo>
                <a:cubicBezTo>
                  <a:pt x="596" y="675"/>
                  <a:pt x="777" y="714"/>
                  <a:pt x="832" y="712"/>
                </a:cubicBezTo>
                <a:cubicBezTo>
                  <a:pt x="850" y="658"/>
                  <a:pt x="828" y="593"/>
                  <a:pt x="856" y="544"/>
                </a:cubicBezTo>
                <a:cubicBezTo>
                  <a:pt x="866" y="526"/>
                  <a:pt x="886" y="514"/>
                  <a:pt x="896" y="496"/>
                </a:cubicBezTo>
                <a:cubicBezTo>
                  <a:pt x="921" y="452"/>
                  <a:pt x="936" y="403"/>
                  <a:pt x="976" y="368"/>
                </a:cubicBezTo>
                <a:cubicBezTo>
                  <a:pt x="990" y="355"/>
                  <a:pt x="1010" y="350"/>
                  <a:pt x="1024" y="336"/>
                </a:cubicBezTo>
                <a:cubicBezTo>
                  <a:pt x="1032" y="328"/>
                  <a:pt x="1040" y="320"/>
                  <a:pt x="1048" y="312"/>
                </a:cubicBezTo>
                <a:cubicBezTo>
                  <a:pt x="1085" y="164"/>
                  <a:pt x="1052" y="89"/>
                  <a:pt x="920" y="56"/>
                </a:cubicBezTo>
                <a:cubicBezTo>
                  <a:pt x="753" y="69"/>
                  <a:pt x="703" y="82"/>
                  <a:pt x="504" y="88"/>
                </a:cubicBezTo>
                <a:cubicBezTo>
                  <a:pt x="475" y="83"/>
                  <a:pt x="444" y="82"/>
                  <a:pt x="416" y="72"/>
                </a:cubicBezTo>
                <a:cubicBezTo>
                  <a:pt x="389" y="62"/>
                  <a:pt x="371" y="33"/>
                  <a:pt x="344" y="24"/>
                </a:cubicBezTo>
                <a:cubicBezTo>
                  <a:pt x="328" y="19"/>
                  <a:pt x="312" y="13"/>
                  <a:pt x="296" y="8"/>
                </a:cubicBezTo>
                <a:cubicBezTo>
                  <a:pt x="288" y="5"/>
                  <a:pt x="272" y="0"/>
                  <a:pt x="272" y="0"/>
                </a:cubicBezTo>
                <a:cubicBezTo>
                  <a:pt x="213" y="44"/>
                  <a:pt x="184" y="96"/>
                  <a:pt x="152" y="160"/>
                </a:cubicBezTo>
                <a:cubicBezTo>
                  <a:pt x="129" y="206"/>
                  <a:pt x="126" y="242"/>
                  <a:pt x="80" y="272"/>
                </a:cubicBezTo>
                <a:cubicBezTo>
                  <a:pt x="73" y="301"/>
                  <a:pt x="33" y="392"/>
                  <a:pt x="72" y="392"/>
                </a:cubicBezTo>
                <a:close/>
              </a:path>
            </a:pathLst>
          </a:custGeom>
          <a:gradFill rotWithShape="0">
            <a:gsLst>
              <a:gs pos="0">
                <a:srgbClr val="bbe0e3">
                  <a:alpha val="64313"/>
                </a:srgbClr>
              </a:gs>
              <a:gs pos="100000">
                <a:srgbClr val="576869">
                  <a:alpha val="63137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07"/>
          <p:cNvSpPr/>
          <p:nvPr/>
        </p:nvSpPr>
        <p:spPr>
          <a:xfrm>
            <a:off x="3249720" y="3556080"/>
            <a:ext cx="1830240" cy="2400120"/>
          </a:xfrm>
          <a:custGeom>
            <a:avLst/>
            <a:gdLst>
              <a:gd name="textAreaLeft" fmla="*/ 0 w 1830240"/>
              <a:gd name="textAreaRight" fmla="*/ 1830600 w 1830240"/>
              <a:gd name="textAreaTop" fmla="*/ 0 h 2400120"/>
              <a:gd name="textAreaBottom" fmla="*/ 2400480 h 2400120"/>
            </a:gdLst>
            <a:ahLst/>
            <a:rect l="textAreaLeft" t="textAreaTop" r="textAreaRight" b="textAreaBottom"/>
            <a:pathLst>
              <a:path w="1153" h="1512">
                <a:moveTo>
                  <a:pt x="569" y="40"/>
                </a:moveTo>
                <a:cubicBezTo>
                  <a:pt x="593" y="24"/>
                  <a:pt x="617" y="16"/>
                  <a:pt x="641" y="0"/>
                </a:cubicBezTo>
                <a:cubicBezTo>
                  <a:pt x="746" y="9"/>
                  <a:pt x="841" y="31"/>
                  <a:pt x="937" y="72"/>
                </a:cubicBezTo>
                <a:cubicBezTo>
                  <a:pt x="981" y="91"/>
                  <a:pt x="1015" y="123"/>
                  <a:pt x="1057" y="144"/>
                </a:cubicBezTo>
                <a:cubicBezTo>
                  <a:pt x="1065" y="155"/>
                  <a:pt x="1071" y="167"/>
                  <a:pt x="1081" y="176"/>
                </a:cubicBezTo>
                <a:cubicBezTo>
                  <a:pt x="1087" y="181"/>
                  <a:pt x="1098" y="180"/>
                  <a:pt x="1105" y="184"/>
                </a:cubicBezTo>
                <a:cubicBezTo>
                  <a:pt x="1137" y="202"/>
                  <a:pt x="1135" y="205"/>
                  <a:pt x="1153" y="232"/>
                </a:cubicBezTo>
                <a:cubicBezTo>
                  <a:pt x="1137" y="280"/>
                  <a:pt x="1089" y="262"/>
                  <a:pt x="1041" y="272"/>
                </a:cubicBezTo>
                <a:cubicBezTo>
                  <a:pt x="1030" y="274"/>
                  <a:pt x="1020" y="277"/>
                  <a:pt x="1009" y="280"/>
                </a:cubicBezTo>
                <a:cubicBezTo>
                  <a:pt x="993" y="285"/>
                  <a:pt x="961" y="296"/>
                  <a:pt x="961" y="296"/>
                </a:cubicBezTo>
                <a:cubicBezTo>
                  <a:pt x="931" y="386"/>
                  <a:pt x="972" y="454"/>
                  <a:pt x="1025" y="520"/>
                </a:cubicBezTo>
                <a:cubicBezTo>
                  <a:pt x="1036" y="552"/>
                  <a:pt x="1049" y="568"/>
                  <a:pt x="1073" y="592"/>
                </a:cubicBezTo>
                <a:cubicBezTo>
                  <a:pt x="1057" y="657"/>
                  <a:pt x="1046" y="713"/>
                  <a:pt x="977" y="736"/>
                </a:cubicBezTo>
                <a:cubicBezTo>
                  <a:pt x="910" y="837"/>
                  <a:pt x="956" y="931"/>
                  <a:pt x="945" y="1072"/>
                </a:cubicBezTo>
                <a:cubicBezTo>
                  <a:pt x="943" y="1095"/>
                  <a:pt x="919" y="1110"/>
                  <a:pt x="905" y="1128"/>
                </a:cubicBezTo>
                <a:cubicBezTo>
                  <a:pt x="884" y="1190"/>
                  <a:pt x="856" y="1223"/>
                  <a:pt x="793" y="1248"/>
                </a:cubicBezTo>
                <a:cubicBezTo>
                  <a:pt x="777" y="1254"/>
                  <a:pt x="761" y="1259"/>
                  <a:pt x="745" y="1264"/>
                </a:cubicBezTo>
                <a:cubicBezTo>
                  <a:pt x="737" y="1267"/>
                  <a:pt x="721" y="1272"/>
                  <a:pt x="721" y="1272"/>
                </a:cubicBezTo>
                <a:cubicBezTo>
                  <a:pt x="597" y="1260"/>
                  <a:pt x="637" y="1260"/>
                  <a:pt x="465" y="1272"/>
                </a:cubicBezTo>
                <a:cubicBezTo>
                  <a:pt x="449" y="1273"/>
                  <a:pt x="433" y="1276"/>
                  <a:pt x="417" y="1280"/>
                </a:cubicBezTo>
                <a:cubicBezTo>
                  <a:pt x="401" y="1284"/>
                  <a:pt x="369" y="1296"/>
                  <a:pt x="369" y="1296"/>
                </a:cubicBezTo>
                <a:cubicBezTo>
                  <a:pt x="331" y="1353"/>
                  <a:pt x="337" y="1448"/>
                  <a:pt x="305" y="1488"/>
                </a:cubicBezTo>
                <a:cubicBezTo>
                  <a:pt x="294" y="1502"/>
                  <a:pt x="273" y="1507"/>
                  <a:pt x="257" y="1512"/>
                </a:cubicBezTo>
                <a:cubicBezTo>
                  <a:pt x="228" y="1490"/>
                  <a:pt x="196" y="1472"/>
                  <a:pt x="169" y="1448"/>
                </a:cubicBezTo>
                <a:cubicBezTo>
                  <a:pt x="128" y="1412"/>
                  <a:pt x="94" y="1374"/>
                  <a:pt x="49" y="1344"/>
                </a:cubicBezTo>
                <a:cubicBezTo>
                  <a:pt x="30" y="1316"/>
                  <a:pt x="25" y="1296"/>
                  <a:pt x="1" y="1272"/>
                </a:cubicBezTo>
                <a:cubicBezTo>
                  <a:pt x="4" y="1240"/>
                  <a:pt x="0" y="1207"/>
                  <a:pt x="9" y="1176"/>
                </a:cubicBezTo>
                <a:cubicBezTo>
                  <a:pt x="11" y="1168"/>
                  <a:pt x="27" y="1174"/>
                  <a:pt x="33" y="1168"/>
                </a:cubicBezTo>
                <a:cubicBezTo>
                  <a:pt x="47" y="1154"/>
                  <a:pt x="32" y="1087"/>
                  <a:pt x="57" y="1112"/>
                </a:cubicBezTo>
                <a:cubicBezTo>
                  <a:pt x="618" y="601"/>
                  <a:pt x="275" y="795"/>
                  <a:pt x="577" y="720"/>
                </a:cubicBezTo>
                <a:cubicBezTo>
                  <a:pt x="619" y="689"/>
                  <a:pt x="665" y="682"/>
                  <a:pt x="601" y="640"/>
                </a:cubicBezTo>
                <a:cubicBezTo>
                  <a:pt x="585" y="592"/>
                  <a:pt x="544" y="566"/>
                  <a:pt x="505" y="536"/>
                </a:cubicBezTo>
                <a:cubicBezTo>
                  <a:pt x="490" y="524"/>
                  <a:pt x="457" y="504"/>
                  <a:pt x="457" y="504"/>
                </a:cubicBezTo>
                <a:cubicBezTo>
                  <a:pt x="448" y="478"/>
                  <a:pt x="417" y="432"/>
                  <a:pt x="417" y="432"/>
                </a:cubicBezTo>
                <a:cubicBezTo>
                  <a:pt x="420" y="413"/>
                  <a:pt x="417" y="393"/>
                  <a:pt x="425" y="376"/>
                </a:cubicBezTo>
                <a:cubicBezTo>
                  <a:pt x="433" y="358"/>
                  <a:pt x="478" y="354"/>
                  <a:pt x="489" y="352"/>
                </a:cubicBezTo>
                <a:cubicBezTo>
                  <a:pt x="547" y="341"/>
                  <a:pt x="592" y="329"/>
                  <a:pt x="641" y="296"/>
                </a:cubicBezTo>
                <a:cubicBezTo>
                  <a:pt x="662" y="233"/>
                  <a:pt x="647" y="164"/>
                  <a:pt x="593" y="128"/>
                </a:cubicBezTo>
                <a:cubicBezTo>
                  <a:pt x="590" y="120"/>
                  <a:pt x="590" y="111"/>
                  <a:pt x="585" y="104"/>
                </a:cubicBezTo>
                <a:cubicBezTo>
                  <a:pt x="556" y="63"/>
                  <a:pt x="534" y="78"/>
                  <a:pt x="577" y="64"/>
                </a:cubicBezTo>
                <a:cubicBezTo>
                  <a:pt x="568" y="29"/>
                  <a:pt x="569" y="21"/>
                  <a:pt x="569" y="40"/>
                </a:cubicBezTo>
                <a:close/>
              </a:path>
            </a:pathLst>
          </a:custGeom>
          <a:solidFill>
            <a:srgbClr val="99cc00">
              <a:alpha val="6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09"/>
          <p:cNvSpPr/>
          <p:nvPr/>
        </p:nvSpPr>
        <p:spPr>
          <a:xfrm>
            <a:off x="17640" y="2336760"/>
            <a:ext cx="3030480" cy="3861000"/>
          </a:xfrm>
          <a:custGeom>
            <a:avLst/>
            <a:gdLst>
              <a:gd name="textAreaLeft" fmla="*/ 0 w 3030480"/>
              <a:gd name="textAreaRight" fmla="*/ 3030840 w 3030480"/>
              <a:gd name="textAreaTop" fmla="*/ 0 h 3861000"/>
              <a:gd name="textAreaBottom" fmla="*/ 3861360 h 3861000"/>
            </a:gdLst>
            <a:ahLst/>
            <a:rect l="textAreaLeft" t="textAreaTop" r="textAreaRight" b="textAreaBottom"/>
            <a:pathLst>
              <a:path w="1909" h="2432">
                <a:moveTo>
                  <a:pt x="813" y="16"/>
                </a:moveTo>
                <a:cubicBezTo>
                  <a:pt x="805" y="19"/>
                  <a:pt x="794" y="18"/>
                  <a:pt x="789" y="24"/>
                </a:cubicBezTo>
                <a:cubicBezTo>
                  <a:pt x="778" y="37"/>
                  <a:pt x="757" y="108"/>
                  <a:pt x="749" y="128"/>
                </a:cubicBezTo>
                <a:cubicBezTo>
                  <a:pt x="743" y="144"/>
                  <a:pt x="738" y="160"/>
                  <a:pt x="733" y="176"/>
                </a:cubicBezTo>
                <a:cubicBezTo>
                  <a:pt x="730" y="184"/>
                  <a:pt x="725" y="200"/>
                  <a:pt x="725" y="200"/>
                </a:cubicBezTo>
                <a:cubicBezTo>
                  <a:pt x="729" y="267"/>
                  <a:pt x="765" y="358"/>
                  <a:pt x="701" y="400"/>
                </a:cubicBezTo>
                <a:cubicBezTo>
                  <a:pt x="688" y="438"/>
                  <a:pt x="679" y="473"/>
                  <a:pt x="669" y="512"/>
                </a:cubicBezTo>
                <a:cubicBezTo>
                  <a:pt x="665" y="528"/>
                  <a:pt x="653" y="560"/>
                  <a:pt x="653" y="560"/>
                </a:cubicBezTo>
                <a:cubicBezTo>
                  <a:pt x="642" y="667"/>
                  <a:pt x="650" y="620"/>
                  <a:pt x="605" y="688"/>
                </a:cubicBezTo>
                <a:cubicBezTo>
                  <a:pt x="601" y="703"/>
                  <a:pt x="587" y="737"/>
                  <a:pt x="605" y="752"/>
                </a:cubicBezTo>
                <a:cubicBezTo>
                  <a:pt x="613" y="759"/>
                  <a:pt x="670" y="772"/>
                  <a:pt x="685" y="776"/>
                </a:cubicBezTo>
                <a:cubicBezTo>
                  <a:pt x="678" y="798"/>
                  <a:pt x="666" y="829"/>
                  <a:pt x="653" y="848"/>
                </a:cubicBezTo>
                <a:cubicBezTo>
                  <a:pt x="618" y="901"/>
                  <a:pt x="639" y="844"/>
                  <a:pt x="613" y="896"/>
                </a:cubicBezTo>
                <a:cubicBezTo>
                  <a:pt x="580" y="962"/>
                  <a:pt x="635" y="875"/>
                  <a:pt x="589" y="944"/>
                </a:cubicBezTo>
                <a:cubicBezTo>
                  <a:pt x="620" y="954"/>
                  <a:pt x="661" y="939"/>
                  <a:pt x="685" y="960"/>
                </a:cubicBezTo>
                <a:cubicBezTo>
                  <a:pt x="706" y="978"/>
                  <a:pt x="659" y="1045"/>
                  <a:pt x="637" y="1048"/>
                </a:cubicBezTo>
                <a:cubicBezTo>
                  <a:pt x="547" y="1059"/>
                  <a:pt x="456" y="1057"/>
                  <a:pt x="365" y="1064"/>
                </a:cubicBezTo>
                <a:cubicBezTo>
                  <a:pt x="362" y="1080"/>
                  <a:pt x="362" y="1097"/>
                  <a:pt x="357" y="1112"/>
                </a:cubicBezTo>
                <a:cubicBezTo>
                  <a:pt x="347" y="1141"/>
                  <a:pt x="315" y="1156"/>
                  <a:pt x="301" y="1184"/>
                </a:cubicBezTo>
                <a:cubicBezTo>
                  <a:pt x="268" y="1250"/>
                  <a:pt x="323" y="1163"/>
                  <a:pt x="277" y="1232"/>
                </a:cubicBezTo>
                <a:cubicBezTo>
                  <a:pt x="286" y="1275"/>
                  <a:pt x="288" y="1290"/>
                  <a:pt x="245" y="1304"/>
                </a:cubicBezTo>
                <a:cubicBezTo>
                  <a:pt x="212" y="1337"/>
                  <a:pt x="198" y="1364"/>
                  <a:pt x="221" y="1416"/>
                </a:cubicBezTo>
                <a:cubicBezTo>
                  <a:pt x="224" y="1424"/>
                  <a:pt x="237" y="1422"/>
                  <a:pt x="245" y="1424"/>
                </a:cubicBezTo>
                <a:cubicBezTo>
                  <a:pt x="266" y="1428"/>
                  <a:pt x="288" y="1429"/>
                  <a:pt x="309" y="1432"/>
                </a:cubicBezTo>
                <a:cubicBezTo>
                  <a:pt x="251" y="1413"/>
                  <a:pt x="304" y="1450"/>
                  <a:pt x="253" y="1464"/>
                </a:cubicBezTo>
                <a:cubicBezTo>
                  <a:pt x="211" y="1475"/>
                  <a:pt x="167" y="1477"/>
                  <a:pt x="125" y="1488"/>
                </a:cubicBezTo>
                <a:cubicBezTo>
                  <a:pt x="100" y="1525"/>
                  <a:pt x="82" y="1520"/>
                  <a:pt x="37" y="1528"/>
                </a:cubicBezTo>
                <a:cubicBezTo>
                  <a:pt x="45" y="1531"/>
                  <a:pt x="61" y="1528"/>
                  <a:pt x="61" y="1536"/>
                </a:cubicBezTo>
                <a:cubicBezTo>
                  <a:pt x="61" y="1546"/>
                  <a:pt x="41" y="1543"/>
                  <a:pt x="37" y="1552"/>
                </a:cubicBezTo>
                <a:cubicBezTo>
                  <a:pt x="0" y="1636"/>
                  <a:pt x="59" y="1588"/>
                  <a:pt x="5" y="1624"/>
                </a:cubicBezTo>
                <a:cubicBezTo>
                  <a:pt x="8" y="1635"/>
                  <a:pt x="6" y="1647"/>
                  <a:pt x="13" y="1656"/>
                </a:cubicBezTo>
                <a:cubicBezTo>
                  <a:pt x="27" y="1673"/>
                  <a:pt x="66" y="1657"/>
                  <a:pt x="77" y="1656"/>
                </a:cubicBezTo>
                <a:cubicBezTo>
                  <a:pt x="109" y="1652"/>
                  <a:pt x="141" y="1651"/>
                  <a:pt x="173" y="1648"/>
                </a:cubicBezTo>
                <a:cubicBezTo>
                  <a:pt x="236" y="1632"/>
                  <a:pt x="237" y="1633"/>
                  <a:pt x="317" y="1640"/>
                </a:cubicBezTo>
                <a:cubicBezTo>
                  <a:pt x="321" y="1662"/>
                  <a:pt x="314" y="1693"/>
                  <a:pt x="333" y="1704"/>
                </a:cubicBezTo>
                <a:cubicBezTo>
                  <a:pt x="409" y="1746"/>
                  <a:pt x="586" y="1739"/>
                  <a:pt x="661" y="1744"/>
                </a:cubicBezTo>
                <a:cubicBezTo>
                  <a:pt x="653" y="1749"/>
                  <a:pt x="644" y="1753"/>
                  <a:pt x="637" y="1760"/>
                </a:cubicBezTo>
                <a:cubicBezTo>
                  <a:pt x="628" y="1769"/>
                  <a:pt x="626" y="1788"/>
                  <a:pt x="613" y="1792"/>
                </a:cubicBezTo>
                <a:cubicBezTo>
                  <a:pt x="595" y="1797"/>
                  <a:pt x="576" y="1787"/>
                  <a:pt x="557" y="1784"/>
                </a:cubicBezTo>
                <a:cubicBezTo>
                  <a:pt x="536" y="1787"/>
                  <a:pt x="513" y="1785"/>
                  <a:pt x="493" y="1792"/>
                </a:cubicBezTo>
                <a:cubicBezTo>
                  <a:pt x="465" y="1802"/>
                  <a:pt x="471" y="1820"/>
                  <a:pt x="461" y="1840"/>
                </a:cubicBezTo>
                <a:cubicBezTo>
                  <a:pt x="448" y="1867"/>
                  <a:pt x="445" y="1864"/>
                  <a:pt x="421" y="1880"/>
                </a:cubicBezTo>
                <a:cubicBezTo>
                  <a:pt x="339" y="1864"/>
                  <a:pt x="256" y="1878"/>
                  <a:pt x="173" y="1888"/>
                </a:cubicBezTo>
                <a:cubicBezTo>
                  <a:pt x="224" y="1905"/>
                  <a:pt x="360" y="1878"/>
                  <a:pt x="261" y="1944"/>
                </a:cubicBezTo>
                <a:cubicBezTo>
                  <a:pt x="266" y="1963"/>
                  <a:pt x="263" y="1986"/>
                  <a:pt x="277" y="2000"/>
                </a:cubicBezTo>
                <a:cubicBezTo>
                  <a:pt x="296" y="2019"/>
                  <a:pt x="330" y="2012"/>
                  <a:pt x="357" y="2016"/>
                </a:cubicBezTo>
                <a:cubicBezTo>
                  <a:pt x="440" y="2030"/>
                  <a:pt x="525" y="2037"/>
                  <a:pt x="605" y="2064"/>
                </a:cubicBezTo>
                <a:cubicBezTo>
                  <a:pt x="646" y="2105"/>
                  <a:pt x="692" y="2112"/>
                  <a:pt x="749" y="2120"/>
                </a:cubicBezTo>
                <a:cubicBezTo>
                  <a:pt x="806" y="2109"/>
                  <a:pt x="789" y="2120"/>
                  <a:pt x="837" y="2136"/>
                </a:cubicBezTo>
                <a:cubicBezTo>
                  <a:pt x="842" y="2147"/>
                  <a:pt x="855" y="2156"/>
                  <a:pt x="853" y="2168"/>
                </a:cubicBezTo>
                <a:cubicBezTo>
                  <a:pt x="851" y="2179"/>
                  <a:pt x="836" y="2183"/>
                  <a:pt x="829" y="2192"/>
                </a:cubicBezTo>
                <a:cubicBezTo>
                  <a:pt x="812" y="2213"/>
                  <a:pt x="813" y="2216"/>
                  <a:pt x="805" y="2240"/>
                </a:cubicBezTo>
                <a:cubicBezTo>
                  <a:pt x="806" y="2244"/>
                  <a:pt x="812" y="2300"/>
                  <a:pt x="821" y="2312"/>
                </a:cubicBezTo>
                <a:cubicBezTo>
                  <a:pt x="874" y="2386"/>
                  <a:pt x="998" y="2365"/>
                  <a:pt x="1069" y="2368"/>
                </a:cubicBezTo>
                <a:cubicBezTo>
                  <a:pt x="1108" y="2398"/>
                  <a:pt x="1132" y="2400"/>
                  <a:pt x="1181" y="2408"/>
                </a:cubicBezTo>
                <a:cubicBezTo>
                  <a:pt x="1262" y="2395"/>
                  <a:pt x="1348" y="2422"/>
                  <a:pt x="1429" y="2432"/>
                </a:cubicBezTo>
                <a:cubicBezTo>
                  <a:pt x="1458" y="2424"/>
                  <a:pt x="1489" y="2421"/>
                  <a:pt x="1517" y="2408"/>
                </a:cubicBezTo>
                <a:cubicBezTo>
                  <a:pt x="1533" y="2401"/>
                  <a:pt x="1549" y="2335"/>
                  <a:pt x="1565" y="2312"/>
                </a:cubicBezTo>
                <a:cubicBezTo>
                  <a:pt x="1568" y="2291"/>
                  <a:pt x="1564" y="2268"/>
                  <a:pt x="1573" y="2248"/>
                </a:cubicBezTo>
                <a:cubicBezTo>
                  <a:pt x="1579" y="2236"/>
                  <a:pt x="1600" y="2236"/>
                  <a:pt x="1605" y="2224"/>
                </a:cubicBezTo>
                <a:cubicBezTo>
                  <a:pt x="1617" y="2194"/>
                  <a:pt x="1611" y="2159"/>
                  <a:pt x="1621" y="2128"/>
                </a:cubicBezTo>
                <a:cubicBezTo>
                  <a:pt x="1611" y="2069"/>
                  <a:pt x="1576" y="1978"/>
                  <a:pt x="1525" y="1944"/>
                </a:cubicBezTo>
                <a:cubicBezTo>
                  <a:pt x="1522" y="1936"/>
                  <a:pt x="1521" y="1928"/>
                  <a:pt x="1517" y="1920"/>
                </a:cubicBezTo>
                <a:cubicBezTo>
                  <a:pt x="1513" y="1911"/>
                  <a:pt x="1505" y="1905"/>
                  <a:pt x="1501" y="1896"/>
                </a:cubicBezTo>
                <a:cubicBezTo>
                  <a:pt x="1494" y="1881"/>
                  <a:pt x="1485" y="1848"/>
                  <a:pt x="1485" y="1848"/>
                </a:cubicBezTo>
                <a:cubicBezTo>
                  <a:pt x="1488" y="1808"/>
                  <a:pt x="1477" y="1765"/>
                  <a:pt x="1493" y="1728"/>
                </a:cubicBezTo>
                <a:cubicBezTo>
                  <a:pt x="1500" y="1713"/>
                  <a:pt x="1526" y="1727"/>
                  <a:pt x="1541" y="1720"/>
                </a:cubicBezTo>
                <a:cubicBezTo>
                  <a:pt x="1550" y="1716"/>
                  <a:pt x="1552" y="1704"/>
                  <a:pt x="1557" y="1696"/>
                </a:cubicBezTo>
                <a:cubicBezTo>
                  <a:pt x="1572" y="1357"/>
                  <a:pt x="1547" y="1624"/>
                  <a:pt x="1581" y="1464"/>
                </a:cubicBezTo>
                <a:cubicBezTo>
                  <a:pt x="1585" y="1446"/>
                  <a:pt x="1585" y="1426"/>
                  <a:pt x="1589" y="1408"/>
                </a:cubicBezTo>
                <a:cubicBezTo>
                  <a:pt x="1593" y="1392"/>
                  <a:pt x="1605" y="1360"/>
                  <a:pt x="1605" y="1360"/>
                </a:cubicBezTo>
                <a:cubicBezTo>
                  <a:pt x="1599" y="1270"/>
                  <a:pt x="1622" y="1105"/>
                  <a:pt x="1565" y="1048"/>
                </a:cubicBezTo>
                <a:cubicBezTo>
                  <a:pt x="1568" y="1019"/>
                  <a:pt x="1565" y="988"/>
                  <a:pt x="1573" y="960"/>
                </a:cubicBezTo>
                <a:cubicBezTo>
                  <a:pt x="1576" y="949"/>
                  <a:pt x="1590" y="945"/>
                  <a:pt x="1597" y="936"/>
                </a:cubicBezTo>
                <a:cubicBezTo>
                  <a:pt x="1638" y="878"/>
                  <a:pt x="1612" y="859"/>
                  <a:pt x="1677" y="816"/>
                </a:cubicBezTo>
                <a:cubicBezTo>
                  <a:pt x="1696" y="788"/>
                  <a:pt x="1696" y="771"/>
                  <a:pt x="1725" y="752"/>
                </a:cubicBezTo>
                <a:cubicBezTo>
                  <a:pt x="1730" y="744"/>
                  <a:pt x="1734" y="734"/>
                  <a:pt x="1741" y="728"/>
                </a:cubicBezTo>
                <a:cubicBezTo>
                  <a:pt x="1755" y="715"/>
                  <a:pt x="1789" y="696"/>
                  <a:pt x="1789" y="696"/>
                </a:cubicBezTo>
                <a:cubicBezTo>
                  <a:pt x="1819" y="606"/>
                  <a:pt x="1798" y="450"/>
                  <a:pt x="1885" y="392"/>
                </a:cubicBezTo>
                <a:cubicBezTo>
                  <a:pt x="1909" y="319"/>
                  <a:pt x="1903" y="347"/>
                  <a:pt x="1885" y="200"/>
                </a:cubicBezTo>
                <a:cubicBezTo>
                  <a:pt x="1883" y="186"/>
                  <a:pt x="1852" y="160"/>
                  <a:pt x="1845" y="152"/>
                </a:cubicBezTo>
                <a:cubicBezTo>
                  <a:pt x="1790" y="87"/>
                  <a:pt x="1705" y="86"/>
                  <a:pt x="1637" y="40"/>
                </a:cubicBezTo>
                <a:cubicBezTo>
                  <a:pt x="1528" y="49"/>
                  <a:pt x="1426" y="56"/>
                  <a:pt x="1317" y="48"/>
                </a:cubicBezTo>
                <a:cubicBezTo>
                  <a:pt x="1260" y="29"/>
                  <a:pt x="1207" y="32"/>
                  <a:pt x="1149" y="40"/>
                </a:cubicBezTo>
                <a:cubicBezTo>
                  <a:pt x="1138" y="37"/>
                  <a:pt x="1127" y="37"/>
                  <a:pt x="1117" y="32"/>
                </a:cubicBezTo>
                <a:cubicBezTo>
                  <a:pt x="1100" y="23"/>
                  <a:pt x="1069" y="0"/>
                  <a:pt x="1069" y="0"/>
                </a:cubicBezTo>
                <a:cubicBezTo>
                  <a:pt x="1047" y="1"/>
                  <a:pt x="874" y="13"/>
                  <a:pt x="845" y="16"/>
                </a:cubicBezTo>
                <a:cubicBezTo>
                  <a:pt x="810" y="20"/>
                  <a:pt x="813" y="36"/>
                  <a:pt x="813" y="16"/>
                </a:cubicBezTo>
                <a:close/>
              </a:path>
            </a:pathLst>
          </a:custGeom>
          <a:solidFill>
            <a:srgbClr val="d8c88e">
              <a:alpha val="6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10"/>
          <p:cNvSpPr/>
          <p:nvPr/>
        </p:nvSpPr>
        <p:spPr>
          <a:xfrm>
            <a:off x="2762280" y="1460520"/>
            <a:ext cx="5670360" cy="2400120"/>
          </a:xfrm>
          <a:custGeom>
            <a:avLst/>
            <a:gdLst>
              <a:gd name="textAreaLeft" fmla="*/ 0 w 5670360"/>
              <a:gd name="textAreaRight" fmla="*/ 5670720 w 5670360"/>
              <a:gd name="textAreaTop" fmla="*/ 0 h 2400120"/>
              <a:gd name="textAreaBottom" fmla="*/ 2400480 h 2400120"/>
            </a:gdLst>
            <a:ahLst/>
            <a:rect l="textAreaLeft" t="textAreaTop" r="textAreaRight" b="textAreaBottom"/>
            <a:pathLst>
              <a:path w="3572" h="1512">
                <a:moveTo>
                  <a:pt x="4" y="616"/>
                </a:moveTo>
                <a:cubicBezTo>
                  <a:pt x="116" y="624"/>
                  <a:pt x="219" y="642"/>
                  <a:pt x="332" y="648"/>
                </a:cubicBezTo>
                <a:cubicBezTo>
                  <a:pt x="378" y="656"/>
                  <a:pt x="389" y="663"/>
                  <a:pt x="428" y="680"/>
                </a:cubicBezTo>
                <a:cubicBezTo>
                  <a:pt x="443" y="687"/>
                  <a:pt x="476" y="696"/>
                  <a:pt x="476" y="696"/>
                </a:cubicBezTo>
                <a:cubicBezTo>
                  <a:pt x="487" y="693"/>
                  <a:pt x="498" y="692"/>
                  <a:pt x="508" y="688"/>
                </a:cubicBezTo>
                <a:cubicBezTo>
                  <a:pt x="517" y="684"/>
                  <a:pt x="522" y="672"/>
                  <a:pt x="532" y="672"/>
                </a:cubicBezTo>
                <a:cubicBezTo>
                  <a:pt x="676" y="669"/>
                  <a:pt x="820" y="677"/>
                  <a:pt x="964" y="680"/>
                </a:cubicBezTo>
                <a:cubicBezTo>
                  <a:pt x="1110" y="704"/>
                  <a:pt x="1256" y="703"/>
                  <a:pt x="1404" y="712"/>
                </a:cubicBezTo>
                <a:cubicBezTo>
                  <a:pt x="1505" y="709"/>
                  <a:pt x="1629" y="759"/>
                  <a:pt x="1708" y="696"/>
                </a:cubicBezTo>
                <a:cubicBezTo>
                  <a:pt x="1725" y="682"/>
                  <a:pt x="1735" y="639"/>
                  <a:pt x="1740" y="624"/>
                </a:cubicBezTo>
                <a:cubicBezTo>
                  <a:pt x="1757" y="572"/>
                  <a:pt x="1767" y="502"/>
                  <a:pt x="1796" y="456"/>
                </a:cubicBezTo>
                <a:cubicBezTo>
                  <a:pt x="1809" y="435"/>
                  <a:pt x="1830" y="420"/>
                  <a:pt x="1844" y="400"/>
                </a:cubicBezTo>
                <a:cubicBezTo>
                  <a:pt x="1855" y="384"/>
                  <a:pt x="1865" y="368"/>
                  <a:pt x="1876" y="352"/>
                </a:cubicBezTo>
                <a:cubicBezTo>
                  <a:pt x="1881" y="344"/>
                  <a:pt x="1892" y="328"/>
                  <a:pt x="1892" y="328"/>
                </a:cubicBezTo>
                <a:cubicBezTo>
                  <a:pt x="1905" y="274"/>
                  <a:pt x="1910" y="245"/>
                  <a:pt x="1916" y="184"/>
                </a:cubicBezTo>
                <a:cubicBezTo>
                  <a:pt x="1920" y="145"/>
                  <a:pt x="1916" y="91"/>
                  <a:pt x="1956" y="64"/>
                </a:cubicBezTo>
                <a:cubicBezTo>
                  <a:pt x="1973" y="52"/>
                  <a:pt x="1986" y="34"/>
                  <a:pt x="2004" y="24"/>
                </a:cubicBezTo>
                <a:cubicBezTo>
                  <a:pt x="2019" y="16"/>
                  <a:pt x="2036" y="13"/>
                  <a:pt x="2052" y="8"/>
                </a:cubicBezTo>
                <a:cubicBezTo>
                  <a:pt x="2060" y="5"/>
                  <a:pt x="2076" y="0"/>
                  <a:pt x="2076" y="0"/>
                </a:cubicBezTo>
                <a:cubicBezTo>
                  <a:pt x="2335" y="37"/>
                  <a:pt x="2597" y="40"/>
                  <a:pt x="2860" y="48"/>
                </a:cubicBezTo>
                <a:cubicBezTo>
                  <a:pt x="2950" y="138"/>
                  <a:pt x="2962" y="86"/>
                  <a:pt x="3156" y="80"/>
                </a:cubicBezTo>
                <a:cubicBezTo>
                  <a:pt x="3192" y="44"/>
                  <a:pt x="3206" y="23"/>
                  <a:pt x="3252" y="8"/>
                </a:cubicBezTo>
                <a:cubicBezTo>
                  <a:pt x="3337" y="11"/>
                  <a:pt x="3423" y="12"/>
                  <a:pt x="3508" y="16"/>
                </a:cubicBezTo>
                <a:cubicBezTo>
                  <a:pt x="3570" y="19"/>
                  <a:pt x="3559" y="9"/>
                  <a:pt x="3572" y="48"/>
                </a:cubicBezTo>
                <a:cubicBezTo>
                  <a:pt x="3549" y="117"/>
                  <a:pt x="3521" y="103"/>
                  <a:pt x="3452" y="112"/>
                </a:cubicBezTo>
                <a:cubicBezTo>
                  <a:pt x="3413" y="99"/>
                  <a:pt x="3371" y="101"/>
                  <a:pt x="3332" y="88"/>
                </a:cubicBezTo>
                <a:cubicBezTo>
                  <a:pt x="3311" y="91"/>
                  <a:pt x="3287" y="85"/>
                  <a:pt x="3268" y="96"/>
                </a:cubicBezTo>
                <a:cubicBezTo>
                  <a:pt x="3251" y="106"/>
                  <a:pt x="3236" y="144"/>
                  <a:pt x="3236" y="144"/>
                </a:cubicBezTo>
                <a:cubicBezTo>
                  <a:pt x="3236" y="144"/>
                  <a:pt x="3228" y="225"/>
                  <a:pt x="3220" y="240"/>
                </a:cubicBezTo>
                <a:cubicBezTo>
                  <a:pt x="3214" y="250"/>
                  <a:pt x="3203" y="255"/>
                  <a:pt x="3196" y="264"/>
                </a:cubicBezTo>
                <a:cubicBezTo>
                  <a:pt x="3169" y="298"/>
                  <a:pt x="3161" y="331"/>
                  <a:pt x="3132" y="360"/>
                </a:cubicBezTo>
                <a:cubicBezTo>
                  <a:pt x="3124" y="402"/>
                  <a:pt x="3115" y="437"/>
                  <a:pt x="3092" y="472"/>
                </a:cubicBezTo>
                <a:cubicBezTo>
                  <a:pt x="3083" y="510"/>
                  <a:pt x="3072" y="524"/>
                  <a:pt x="3044" y="552"/>
                </a:cubicBezTo>
                <a:cubicBezTo>
                  <a:pt x="3033" y="584"/>
                  <a:pt x="3024" y="597"/>
                  <a:pt x="2996" y="616"/>
                </a:cubicBezTo>
                <a:cubicBezTo>
                  <a:pt x="2960" y="670"/>
                  <a:pt x="2979" y="684"/>
                  <a:pt x="2964" y="760"/>
                </a:cubicBezTo>
                <a:cubicBezTo>
                  <a:pt x="2962" y="769"/>
                  <a:pt x="2952" y="775"/>
                  <a:pt x="2948" y="784"/>
                </a:cubicBezTo>
                <a:cubicBezTo>
                  <a:pt x="2924" y="838"/>
                  <a:pt x="2925" y="898"/>
                  <a:pt x="2860" y="920"/>
                </a:cubicBezTo>
                <a:cubicBezTo>
                  <a:pt x="2775" y="913"/>
                  <a:pt x="2662" y="887"/>
                  <a:pt x="2588" y="936"/>
                </a:cubicBezTo>
                <a:cubicBezTo>
                  <a:pt x="2578" y="967"/>
                  <a:pt x="2586" y="986"/>
                  <a:pt x="2596" y="1016"/>
                </a:cubicBezTo>
                <a:cubicBezTo>
                  <a:pt x="2599" y="1040"/>
                  <a:pt x="2601" y="1064"/>
                  <a:pt x="2604" y="1088"/>
                </a:cubicBezTo>
                <a:cubicBezTo>
                  <a:pt x="2617" y="1183"/>
                  <a:pt x="2674" y="1146"/>
                  <a:pt x="2780" y="1152"/>
                </a:cubicBezTo>
                <a:cubicBezTo>
                  <a:pt x="2796" y="1155"/>
                  <a:pt x="2815" y="1151"/>
                  <a:pt x="2828" y="1160"/>
                </a:cubicBezTo>
                <a:cubicBezTo>
                  <a:pt x="2837" y="1166"/>
                  <a:pt x="2829" y="1183"/>
                  <a:pt x="2836" y="1192"/>
                </a:cubicBezTo>
                <a:cubicBezTo>
                  <a:pt x="2841" y="1199"/>
                  <a:pt x="2852" y="1197"/>
                  <a:pt x="2860" y="1200"/>
                </a:cubicBezTo>
                <a:cubicBezTo>
                  <a:pt x="2875" y="1245"/>
                  <a:pt x="2842" y="1271"/>
                  <a:pt x="2812" y="1304"/>
                </a:cubicBezTo>
                <a:cubicBezTo>
                  <a:pt x="2752" y="1370"/>
                  <a:pt x="2683" y="1459"/>
                  <a:pt x="2596" y="1488"/>
                </a:cubicBezTo>
                <a:cubicBezTo>
                  <a:pt x="2525" y="1512"/>
                  <a:pt x="2447" y="1502"/>
                  <a:pt x="2372" y="1504"/>
                </a:cubicBezTo>
                <a:cubicBezTo>
                  <a:pt x="2217" y="1508"/>
                  <a:pt x="2063" y="1509"/>
                  <a:pt x="1908" y="1512"/>
                </a:cubicBezTo>
                <a:cubicBezTo>
                  <a:pt x="1737" y="1507"/>
                  <a:pt x="1618" y="1499"/>
                  <a:pt x="1460" y="1488"/>
                </a:cubicBezTo>
                <a:cubicBezTo>
                  <a:pt x="1442" y="1482"/>
                  <a:pt x="1421" y="1481"/>
                  <a:pt x="1404" y="1472"/>
                </a:cubicBezTo>
                <a:cubicBezTo>
                  <a:pt x="1360" y="1450"/>
                  <a:pt x="1345" y="1427"/>
                  <a:pt x="1300" y="1416"/>
                </a:cubicBezTo>
                <a:cubicBezTo>
                  <a:pt x="1289" y="1408"/>
                  <a:pt x="1280" y="1399"/>
                  <a:pt x="1268" y="1392"/>
                </a:cubicBezTo>
                <a:cubicBezTo>
                  <a:pt x="1261" y="1388"/>
                  <a:pt x="1251" y="1389"/>
                  <a:pt x="1244" y="1384"/>
                </a:cubicBezTo>
                <a:cubicBezTo>
                  <a:pt x="1235" y="1378"/>
                  <a:pt x="1231" y="1363"/>
                  <a:pt x="1220" y="1360"/>
                </a:cubicBezTo>
                <a:cubicBezTo>
                  <a:pt x="1194" y="1352"/>
                  <a:pt x="1167" y="1355"/>
                  <a:pt x="1140" y="1352"/>
                </a:cubicBezTo>
                <a:cubicBezTo>
                  <a:pt x="1108" y="1344"/>
                  <a:pt x="1077" y="1335"/>
                  <a:pt x="1044" y="1328"/>
                </a:cubicBezTo>
                <a:cubicBezTo>
                  <a:pt x="966" y="1289"/>
                  <a:pt x="897" y="1300"/>
                  <a:pt x="804" y="1296"/>
                </a:cubicBezTo>
                <a:cubicBezTo>
                  <a:pt x="778" y="1279"/>
                  <a:pt x="762" y="1258"/>
                  <a:pt x="732" y="1248"/>
                </a:cubicBezTo>
                <a:cubicBezTo>
                  <a:pt x="567" y="1254"/>
                  <a:pt x="408" y="1271"/>
                  <a:pt x="244" y="1248"/>
                </a:cubicBezTo>
                <a:cubicBezTo>
                  <a:pt x="206" y="1235"/>
                  <a:pt x="171" y="1218"/>
                  <a:pt x="132" y="1208"/>
                </a:cubicBezTo>
                <a:cubicBezTo>
                  <a:pt x="91" y="1167"/>
                  <a:pt x="74" y="1193"/>
                  <a:pt x="60" y="1136"/>
                </a:cubicBezTo>
                <a:cubicBezTo>
                  <a:pt x="74" y="1095"/>
                  <a:pt x="73" y="1047"/>
                  <a:pt x="108" y="1016"/>
                </a:cubicBezTo>
                <a:cubicBezTo>
                  <a:pt x="122" y="1003"/>
                  <a:pt x="156" y="984"/>
                  <a:pt x="156" y="984"/>
                </a:cubicBezTo>
                <a:cubicBezTo>
                  <a:pt x="183" y="944"/>
                  <a:pt x="189" y="912"/>
                  <a:pt x="196" y="864"/>
                </a:cubicBezTo>
                <a:cubicBezTo>
                  <a:pt x="188" y="811"/>
                  <a:pt x="192" y="796"/>
                  <a:pt x="156" y="760"/>
                </a:cubicBezTo>
                <a:cubicBezTo>
                  <a:pt x="134" y="693"/>
                  <a:pt x="95" y="661"/>
                  <a:pt x="28" y="648"/>
                </a:cubicBezTo>
                <a:cubicBezTo>
                  <a:pt x="0" y="629"/>
                  <a:pt x="4" y="642"/>
                  <a:pt x="4" y="616"/>
                </a:cubicBezTo>
                <a:close/>
              </a:path>
            </a:pathLst>
          </a:custGeom>
          <a:solidFill>
            <a:srgbClr val="d8c88e">
              <a:alpha val="6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11"/>
          <p:cNvSpPr/>
          <p:nvPr/>
        </p:nvSpPr>
        <p:spPr>
          <a:xfrm>
            <a:off x="4167360" y="3284640"/>
            <a:ext cx="4938480" cy="3179520"/>
          </a:xfrm>
          <a:custGeom>
            <a:avLst/>
            <a:gdLst>
              <a:gd name="textAreaLeft" fmla="*/ 0 w 4938480"/>
              <a:gd name="textAreaRight" fmla="*/ 4938840 w 4938480"/>
              <a:gd name="textAreaTop" fmla="*/ 0 h 3179520"/>
              <a:gd name="textAreaBottom" fmla="*/ 3179880 h 3179520"/>
            </a:gdLst>
            <a:ahLst/>
            <a:rect l="textAreaLeft" t="textAreaTop" r="textAreaRight" b="textAreaBottom"/>
            <a:pathLst>
              <a:path w="3111" h="2003">
                <a:moveTo>
                  <a:pt x="1991" y="43"/>
                </a:moveTo>
                <a:cubicBezTo>
                  <a:pt x="2010" y="41"/>
                  <a:pt x="2080" y="33"/>
                  <a:pt x="2103" y="27"/>
                </a:cubicBezTo>
                <a:cubicBezTo>
                  <a:pt x="2119" y="23"/>
                  <a:pt x="2151" y="11"/>
                  <a:pt x="2151" y="11"/>
                </a:cubicBezTo>
                <a:cubicBezTo>
                  <a:pt x="2191" y="24"/>
                  <a:pt x="2179" y="39"/>
                  <a:pt x="2191" y="75"/>
                </a:cubicBezTo>
                <a:cubicBezTo>
                  <a:pt x="2177" y="131"/>
                  <a:pt x="2202" y="141"/>
                  <a:pt x="2255" y="147"/>
                </a:cubicBezTo>
                <a:cubicBezTo>
                  <a:pt x="2493" y="176"/>
                  <a:pt x="2354" y="149"/>
                  <a:pt x="2463" y="171"/>
                </a:cubicBezTo>
                <a:cubicBezTo>
                  <a:pt x="2482" y="227"/>
                  <a:pt x="2477" y="267"/>
                  <a:pt x="2543" y="275"/>
                </a:cubicBezTo>
                <a:cubicBezTo>
                  <a:pt x="2572" y="279"/>
                  <a:pt x="2602" y="280"/>
                  <a:pt x="2631" y="283"/>
                </a:cubicBezTo>
                <a:cubicBezTo>
                  <a:pt x="2616" y="284"/>
                  <a:pt x="2467" y="289"/>
                  <a:pt x="2423" y="299"/>
                </a:cubicBezTo>
                <a:cubicBezTo>
                  <a:pt x="2377" y="310"/>
                  <a:pt x="2352" y="324"/>
                  <a:pt x="2303" y="331"/>
                </a:cubicBezTo>
                <a:cubicBezTo>
                  <a:pt x="2295" y="334"/>
                  <a:pt x="2282" y="331"/>
                  <a:pt x="2279" y="339"/>
                </a:cubicBezTo>
                <a:cubicBezTo>
                  <a:pt x="2261" y="394"/>
                  <a:pt x="2330" y="398"/>
                  <a:pt x="2359" y="403"/>
                </a:cubicBezTo>
                <a:cubicBezTo>
                  <a:pt x="2378" y="431"/>
                  <a:pt x="2391" y="440"/>
                  <a:pt x="2423" y="451"/>
                </a:cubicBezTo>
                <a:cubicBezTo>
                  <a:pt x="2596" y="440"/>
                  <a:pt x="2546" y="426"/>
                  <a:pt x="2735" y="435"/>
                </a:cubicBezTo>
                <a:cubicBezTo>
                  <a:pt x="2767" y="441"/>
                  <a:pt x="2800" y="442"/>
                  <a:pt x="2831" y="451"/>
                </a:cubicBezTo>
                <a:cubicBezTo>
                  <a:pt x="2848" y="456"/>
                  <a:pt x="2862" y="469"/>
                  <a:pt x="2879" y="475"/>
                </a:cubicBezTo>
                <a:cubicBezTo>
                  <a:pt x="2890" y="491"/>
                  <a:pt x="2900" y="507"/>
                  <a:pt x="2911" y="523"/>
                </a:cubicBezTo>
                <a:cubicBezTo>
                  <a:pt x="2923" y="541"/>
                  <a:pt x="2954" y="532"/>
                  <a:pt x="2975" y="539"/>
                </a:cubicBezTo>
                <a:cubicBezTo>
                  <a:pt x="3035" y="559"/>
                  <a:pt x="2991" y="546"/>
                  <a:pt x="3111" y="555"/>
                </a:cubicBezTo>
                <a:cubicBezTo>
                  <a:pt x="3084" y="560"/>
                  <a:pt x="3058" y="566"/>
                  <a:pt x="3031" y="571"/>
                </a:cubicBezTo>
                <a:cubicBezTo>
                  <a:pt x="3018" y="574"/>
                  <a:pt x="2991" y="579"/>
                  <a:pt x="2991" y="579"/>
                </a:cubicBezTo>
                <a:cubicBezTo>
                  <a:pt x="2969" y="601"/>
                  <a:pt x="2926" y="614"/>
                  <a:pt x="2951" y="651"/>
                </a:cubicBezTo>
                <a:cubicBezTo>
                  <a:pt x="2956" y="659"/>
                  <a:pt x="2967" y="662"/>
                  <a:pt x="2975" y="667"/>
                </a:cubicBezTo>
                <a:cubicBezTo>
                  <a:pt x="3065" y="637"/>
                  <a:pt x="3012" y="667"/>
                  <a:pt x="2975" y="691"/>
                </a:cubicBezTo>
                <a:cubicBezTo>
                  <a:pt x="2948" y="731"/>
                  <a:pt x="2936" y="723"/>
                  <a:pt x="2887" y="715"/>
                </a:cubicBezTo>
                <a:cubicBezTo>
                  <a:pt x="2836" y="728"/>
                  <a:pt x="2864" y="717"/>
                  <a:pt x="2807" y="755"/>
                </a:cubicBezTo>
                <a:cubicBezTo>
                  <a:pt x="2794" y="764"/>
                  <a:pt x="2775" y="760"/>
                  <a:pt x="2759" y="763"/>
                </a:cubicBezTo>
                <a:cubicBezTo>
                  <a:pt x="2706" y="774"/>
                  <a:pt x="2643" y="786"/>
                  <a:pt x="2591" y="803"/>
                </a:cubicBezTo>
                <a:cubicBezTo>
                  <a:pt x="2588" y="790"/>
                  <a:pt x="2596" y="767"/>
                  <a:pt x="2583" y="763"/>
                </a:cubicBezTo>
                <a:cubicBezTo>
                  <a:pt x="2546" y="751"/>
                  <a:pt x="2399" y="780"/>
                  <a:pt x="2351" y="787"/>
                </a:cubicBezTo>
                <a:cubicBezTo>
                  <a:pt x="2343" y="795"/>
                  <a:pt x="2329" y="800"/>
                  <a:pt x="2327" y="811"/>
                </a:cubicBezTo>
                <a:cubicBezTo>
                  <a:pt x="2323" y="838"/>
                  <a:pt x="2364" y="840"/>
                  <a:pt x="2375" y="843"/>
                </a:cubicBezTo>
                <a:cubicBezTo>
                  <a:pt x="2402" y="884"/>
                  <a:pt x="2415" y="907"/>
                  <a:pt x="2367" y="939"/>
                </a:cubicBezTo>
                <a:cubicBezTo>
                  <a:pt x="2282" y="918"/>
                  <a:pt x="2208" y="906"/>
                  <a:pt x="2119" y="899"/>
                </a:cubicBezTo>
                <a:cubicBezTo>
                  <a:pt x="2041" y="847"/>
                  <a:pt x="2150" y="914"/>
                  <a:pt x="1927" y="875"/>
                </a:cubicBezTo>
                <a:cubicBezTo>
                  <a:pt x="1906" y="871"/>
                  <a:pt x="1903" y="840"/>
                  <a:pt x="1887" y="827"/>
                </a:cubicBezTo>
                <a:cubicBezTo>
                  <a:pt x="1863" y="807"/>
                  <a:pt x="1861" y="811"/>
                  <a:pt x="1831" y="803"/>
                </a:cubicBezTo>
                <a:cubicBezTo>
                  <a:pt x="1778" y="767"/>
                  <a:pt x="1670" y="804"/>
                  <a:pt x="1607" y="811"/>
                </a:cubicBezTo>
                <a:cubicBezTo>
                  <a:pt x="1476" y="876"/>
                  <a:pt x="1557" y="858"/>
                  <a:pt x="1319" y="867"/>
                </a:cubicBezTo>
                <a:cubicBezTo>
                  <a:pt x="1316" y="875"/>
                  <a:pt x="1310" y="883"/>
                  <a:pt x="1311" y="891"/>
                </a:cubicBezTo>
                <a:cubicBezTo>
                  <a:pt x="1313" y="913"/>
                  <a:pt x="1327" y="955"/>
                  <a:pt x="1327" y="955"/>
                </a:cubicBezTo>
                <a:cubicBezTo>
                  <a:pt x="1320" y="999"/>
                  <a:pt x="1302" y="1027"/>
                  <a:pt x="1351" y="1043"/>
                </a:cubicBezTo>
                <a:cubicBezTo>
                  <a:pt x="1384" y="1032"/>
                  <a:pt x="1418" y="1014"/>
                  <a:pt x="1447" y="995"/>
                </a:cubicBezTo>
                <a:cubicBezTo>
                  <a:pt x="1455" y="1003"/>
                  <a:pt x="1464" y="1010"/>
                  <a:pt x="1471" y="1019"/>
                </a:cubicBezTo>
                <a:cubicBezTo>
                  <a:pt x="1483" y="1034"/>
                  <a:pt x="1485" y="1061"/>
                  <a:pt x="1503" y="1067"/>
                </a:cubicBezTo>
                <a:cubicBezTo>
                  <a:pt x="1526" y="1075"/>
                  <a:pt x="1575" y="1083"/>
                  <a:pt x="1575" y="1083"/>
                </a:cubicBezTo>
                <a:cubicBezTo>
                  <a:pt x="1559" y="1088"/>
                  <a:pt x="1532" y="1083"/>
                  <a:pt x="1527" y="1099"/>
                </a:cubicBezTo>
                <a:cubicBezTo>
                  <a:pt x="1516" y="1132"/>
                  <a:pt x="1526" y="1118"/>
                  <a:pt x="1495" y="1139"/>
                </a:cubicBezTo>
                <a:cubicBezTo>
                  <a:pt x="1472" y="1174"/>
                  <a:pt x="1465" y="1181"/>
                  <a:pt x="1423" y="1171"/>
                </a:cubicBezTo>
                <a:cubicBezTo>
                  <a:pt x="1402" y="1176"/>
                  <a:pt x="1379" y="1179"/>
                  <a:pt x="1359" y="1187"/>
                </a:cubicBezTo>
                <a:cubicBezTo>
                  <a:pt x="1310" y="1208"/>
                  <a:pt x="1346" y="1212"/>
                  <a:pt x="1303" y="1219"/>
                </a:cubicBezTo>
                <a:cubicBezTo>
                  <a:pt x="1258" y="1226"/>
                  <a:pt x="1158" y="1237"/>
                  <a:pt x="1103" y="1243"/>
                </a:cubicBezTo>
                <a:cubicBezTo>
                  <a:pt x="1087" y="1248"/>
                  <a:pt x="1071" y="1254"/>
                  <a:pt x="1055" y="1259"/>
                </a:cubicBezTo>
                <a:cubicBezTo>
                  <a:pt x="1034" y="1266"/>
                  <a:pt x="1007" y="1307"/>
                  <a:pt x="1007" y="1307"/>
                </a:cubicBezTo>
                <a:cubicBezTo>
                  <a:pt x="975" y="1299"/>
                  <a:pt x="954" y="1293"/>
                  <a:pt x="927" y="1275"/>
                </a:cubicBezTo>
                <a:cubicBezTo>
                  <a:pt x="856" y="1299"/>
                  <a:pt x="877" y="1336"/>
                  <a:pt x="903" y="1387"/>
                </a:cubicBezTo>
                <a:cubicBezTo>
                  <a:pt x="920" y="1421"/>
                  <a:pt x="897" y="1406"/>
                  <a:pt x="935" y="1419"/>
                </a:cubicBezTo>
                <a:cubicBezTo>
                  <a:pt x="946" y="1427"/>
                  <a:pt x="963" y="1430"/>
                  <a:pt x="967" y="1443"/>
                </a:cubicBezTo>
                <a:cubicBezTo>
                  <a:pt x="977" y="1472"/>
                  <a:pt x="908" y="1476"/>
                  <a:pt x="895" y="1483"/>
                </a:cubicBezTo>
                <a:cubicBezTo>
                  <a:pt x="842" y="1509"/>
                  <a:pt x="861" y="1547"/>
                  <a:pt x="799" y="1563"/>
                </a:cubicBezTo>
                <a:cubicBezTo>
                  <a:pt x="762" y="1554"/>
                  <a:pt x="748" y="1547"/>
                  <a:pt x="727" y="1515"/>
                </a:cubicBezTo>
                <a:cubicBezTo>
                  <a:pt x="666" y="1530"/>
                  <a:pt x="682" y="1558"/>
                  <a:pt x="639" y="1587"/>
                </a:cubicBezTo>
                <a:cubicBezTo>
                  <a:pt x="636" y="1595"/>
                  <a:pt x="627" y="1603"/>
                  <a:pt x="631" y="1611"/>
                </a:cubicBezTo>
                <a:cubicBezTo>
                  <a:pt x="635" y="1619"/>
                  <a:pt x="647" y="1617"/>
                  <a:pt x="655" y="1619"/>
                </a:cubicBezTo>
                <a:cubicBezTo>
                  <a:pt x="676" y="1623"/>
                  <a:pt x="698" y="1624"/>
                  <a:pt x="719" y="1627"/>
                </a:cubicBezTo>
                <a:cubicBezTo>
                  <a:pt x="730" y="1632"/>
                  <a:pt x="741" y="1637"/>
                  <a:pt x="751" y="1643"/>
                </a:cubicBezTo>
                <a:cubicBezTo>
                  <a:pt x="759" y="1648"/>
                  <a:pt x="777" y="1650"/>
                  <a:pt x="775" y="1659"/>
                </a:cubicBezTo>
                <a:cubicBezTo>
                  <a:pt x="772" y="1672"/>
                  <a:pt x="755" y="1677"/>
                  <a:pt x="743" y="1683"/>
                </a:cubicBezTo>
                <a:cubicBezTo>
                  <a:pt x="704" y="1703"/>
                  <a:pt x="650" y="1698"/>
                  <a:pt x="607" y="1707"/>
                </a:cubicBezTo>
                <a:cubicBezTo>
                  <a:pt x="590" y="1733"/>
                  <a:pt x="568" y="1745"/>
                  <a:pt x="551" y="1771"/>
                </a:cubicBezTo>
                <a:cubicBezTo>
                  <a:pt x="537" y="1843"/>
                  <a:pt x="538" y="1844"/>
                  <a:pt x="463" y="1859"/>
                </a:cubicBezTo>
                <a:cubicBezTo>
                  <a:pt x="399" y="1891"/>
                  <a:pt x="333" y="1895"/>
                  <a:pt x="263" y="1907"/>
                </a:cubicBezTo>
                <a:cubicBezTo>
                  <a:pt x="253" y="1911"/>
                  <a:pt x="201" y="1930"/>
                  <a:pt x="191" y="1939"/>
                </a:cubicBezTo>
                <a:cubicBezTo>
                  <a:pt x="157" y="1967"/>
                  <a:pt x="195" y="1962"/>
                  <a:pt x="151" y="1987"/>
                </a:cubicBezTo>
                <a:cubicBezTo>
                  <a:pt x="136" y="1995"/>
                  <a:pt x="103" y="2003"/>
                  <a:pt x="103" y="2003"/>
                </a:cubicBezTo>
                <a:cubicBezTo>
                  <a:pt x="73" y="1993"/>
                  <a:pt x="66" y="1973"/>
                  <a:pt x="39" y="1955"/>
                </a:cubicBezTo>
                <a:cubicBezTo>
                  <a:pt x="19" y="1925"/>
                  <a:pt x="16" y="1894"/>
                  <a:pt x="7" y="1859"/>
                </a:cubicBezTo>
                <a:cubicBezTo>
                  <a:pt x="11" y="1792"/>
                  <a:pt x="0" y="1717"/>
                  <a:pt x="39" y="1659"/>
                </a:cubicBezTo>
                <a:cubicBezTo>
                  <a:pt x="55" y="1597"/>
                  <a:pt x="120" y="1571"/>
                  <a:pt x="167" y="1531"/>
                </a:cubicBezTo>
                <a:cubicBezTo>
                  <a:pt x="201" y="1502"/>
                  <a:pt x="228" y="1473"/>
                  <a:pt x="271" y="1459"/>
                </a:cubicBezTo>
                <a:cubicBezTo>
                  <a:pt x="287" y="1443"/>
                  <a:pt x="303" y="1427"/>
                  <a:pt x="319" y="1411"/>
                </a:cubicBezTo>
                <a:cubicBezTo>
                  <a:pt x="327" y="1403"/>
                  <a:pt x="324" y="1390"/>
                  <a:pt x="327" y="1379"/>
                </a:cubicBezTo>
                <a:cubicBezTo>
                  <a:pt x="332" y="1363"/>
                  <a:pt x="340" y="1348"/>
                  <a:pt x="343" y="1331"/>
                </a:cubicBezTo>
                <a:cubicBezTo>
                  <a:pt x="346" y="1315"/>
                  <a:pt x="347" y="1299"/>
                  <a:pt x="351" y="1283"/>
                </a:cubicBezTo>
                <a:cubicBezTo>
                  <a:pt x="355" y="1267"/>
                  <a:pt x="362" y="1251"/>
                  <a:pt x="367" y="1235"/>
                </a:cubicBezTo>
                <a:cubicBezTo>
                  <a:pt x="370" y="1227"/>
                  <a:pt x="375" y="1211"/>
                  <a:pt x="375" y="1211"/>
                </a:cubicBezTo>
                <a:cubicBezTo>
                  <a:pt x="384" y="1142"/>
                  <a:pt x="358" y="973"/>
                  <a:pt x="391" y="923"/>
                </a:cubicBezTo>
                <a:cubicBezTo>
                  <a:pt x="403" y="905"/>
                  <a:pt x="433" y="911"/>
                  <a:pt x="455" y="907"/>
                </a:cubicBezTo>
                <a:cubicBezTo>
                  <a:pt x="490" y="884"/>
                  <a:pt x="482" y="873"/>
                  <a:pt x="495" y="835"/>
                </a:cubicBezTo>
                <a:cubicBezTo>
                  <a:pt x="488" y="775"/>
                  <a:pt x="487" y="756"/>
                  <a:pt x="463" y="707"/>
                </a:cubicBezTo>
                <a:cubicBezTo>
                  <a:pt x="459" y="677"/>
                  <a:pt x="464" y="641"/>
                  <a:pt x="439" y="619"/>
                </a:cubicBezTo>
                <a:cubicBezTo>
                  <a:pt x="425" y="606"/>
                  <a:pt x="391" y="587"/>
                  <a:pt x="391" y="587"/>
                </a:cubicBezTo>
                <a:cubicBezTo>
                  <a:pt x="366" y="550"/>
                  <a:pt x="373" y="571"/>
                  <a:pt x="383" y="515"/>
                </a:cubicBezTo>
                <a:cubicBezTo>
                  <a:pt x="385" y="502"/>
                  <a:pt x="379" y="480"/>
                  <a:pt x="391" y="475"/>
                </a:cubicBezTo>
                <a:cubicBezTo>
                  <a:pt x="423" y="461"/>
                  <a:pt x="460" y="470"/>
                  <a:pt x="495" y="467"/>
                </a:cubicBezTo>
                <a:cubicBezTo>
                  <a:pt x="538" y="438"/>
                  <a:pt x="518" y="430"/>
                  <a:pt x="575" y="419"/>
                </a:cubicBezTo>
                <a:cubicBezTo>
                  <a:pt x="603" y="400"/>
                  <a:pt x="612" y="387"/>
                  <a:pt x="623" y="355"/>
                </a:cubicBezTo>
                <a:cubicBezTo>
                  <a:pt x="815" y="419"/>
                  <a:pt x="735" y="380"/>
                  <a:pt x="1119" y="387"/>
                </a:cubicBezTo>
                <a:cubicBezTo>
                  <a:pt x="1346" y="379"/>
                  <a:pt x="1488" y="353"/>
                  <a:pt x="1719" y="347"/>
                </a:cubicBezTo>
                <a:cubicBezTo>
                  <a:pt x="1721" y="346"/>
                  <a:pt x="1770" y="335"/>
                  <a:pt x="1775" y="331"/>
                </a:cubicBezTo>
                <a:cubicBezTo>
                  <a:pt x="1819" y="297"/>
                  <a:pt x="1849" y="256"/>
                  <a:pt x="1879" y="211"/>
                </a:cubicBezTo>
                <a:cubicBezTo>
                  <a:pt x="1884" y="204"/>
                  <a:pt x="1882" y="194"/>
                  <a:pt x="1887" y="187"/>
                </a:cubicBezTo>
                <a:cubicBezTo>
                  <a:pt x="1908" y="161"/>
                  <a:pt x="1975" y="139"/>
                  <a:pt x="1975" y="139"/>
                </a:cubicBezTo>
                <a:cubicBezTo>
                  <a:pt x="1998" y="104"/>
                  <a:pt x="2007" y="104"/>
                  <a:pt x="1983" y="67"/>
                </a:cubicBezTo>
                <a:cubicBezTo>
                  <a:pt x="1986" y="59"/>
                  <a:pt x="1986" y="50"/>
                  <a:pt x="1991" y="43"/>
                </a:cubicBezTo>
                <a:cubicBezTo>
                  <a:pt x="1991" y="43"/>
                  <a:pt x="2055" y="0"/>
                  <a:pt x="1991" y="43"/>
                </a:cubicBezTo>
                <a:close/>
              </a:path>
            </a:pathLst>
          </a:custGeom>
          <a:solidFill>
            <a:srgbClr val="d8c88e">
              <a:alpha val="6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12"/>
          <p:cNvSpPr/>
          <p:nvPr/>
        </p:nvSpPr>
        <p:spPr>
          <a:xfrm>
            <a:off x="2235240" y="5130720"/>
            <a:ext cx="2476440" cy="1701720"/>
          </a:xfrm>
          <a:custGeom>
            <a:avLst/>
            <a:gdLst>
              <a:gd name="textAreaLeft" fmla="*/ 0 w 2476440"/>
              <a:gd name="textAreaRight" fmla="*/ 2476800 w 247644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60" h="1072">
                <a:moveTo>
                  <a:pt x="112" y="656"/>
                </a:moveTo>
                <a:cubicBezTo>
                  <a:pt x="130" y="711"/>
                  <a:pt x="102" y="713"/>
                  <a:pt x="56" y="728"/>
                </a:cubicBezTo>
                <a:cubicBezTo>
                  <a:pt x="0" y="811"/>
                  <a:pt x="94" y="787"/>
                  <a:pt x="160" y="792"/>
                </a:cubicBezTo>
                <a:cubicBezTo>
                  <a:pt x="179" y="789"/>
                  <a:pt x="198" y="788"/>
                  <a:pt x="216" y="784"/>
                </a:cubicBezTo>
                <a:cubicBezTo>
                  <a:pt x="224" y="782"/>
                  <a:pt x="240" y="768"/>
                  <a:pt x="240" y="776"/>
                </a:cubicBezTo>
                <a:cubicBezTo>
                  <a:pt x="240" y="787"/>
                  <a:pt x="223" y="791"/>
                  <a:pt x="216" y="800"/>
                </a:cubicBezTo>
                <a:cubicBezTo>
                  <a:pt x="199" y="821"/>
                  <a:pt x="200" y="824"/>
                  <a:pt x="192" y="848"/>
                </a:cubicBezTo>
                <a:cubicBezTo>
                  <a:pt x="248" y="862"/>
                  <a:pt x="395" y="811"/>
                  <a:pt x="344" y="888"/>
                </a:cubicBezTo>
                <a:cubicBezTo>
                  <a:pt x="369" y="989"/>
                  <a:pt x="507" y="970"/>
                  <a:pt x="584" y="1008"/>
                </a:cubicBezTo>
                <a:cubicBezTo>
                  <a:pt x="610" y="1021"/>
                  <a:pt x="638" y="1027"/>
                  <a:pt x="664" y="1040"/>
                </a:cubicBezTo>
                <a:cubicBezTo>
                  <a:pt x="673" y="1044"/>
                  <a:pt x="678" y="1055"/>
                  <a:pt x="688" y="1056"/>
                </a:cubicBezTo>
                <a:cubicBezTo>
                  <a:pt x="760" y="1066"/>
                  <a:pt x="904" y="1072"/>
                  <a:pt x="904" y="1072"/>
                </a:cubicBezTo>
                <a:cubicBezTo>
                  <a:pt x="1070" y="1057"/>
                  <a:pt x="1033" y="1048"/>
                  <a:pt x="1248" y="1056"/>
                </a:cubicBezTo>
                <a:cubicBezTo>
                  <a:pt x="1356" y="1048"/>
                  <a:pt x="1419" y="1023"/>
                  <a:pt x="1528" y="1008"/>
                </a:cubicBezTo>
                <a:cubicBezTo>
                  <a:pt x="1560" y="986"/>
                  <a:pt x="1560" y="964"/>
                  <a:pt x="1528" y="936"/>
                </a:cubicBezTo>
                <a:cubicBezTo>
                  <a:pt x="1481" y="895"/>
                  <a:pt x="1444" y="882"/>
                  <a:pt x="1384" y="872"/>
                </a:cubicBezTo>
                <a:cubicBezTo>
                  <a:pt x="1362" y="806"/>
                  <a:pt x="1343" y="844"/>
                  <a:pt x="1296" y="856"/>
                </a:cubicBezTo>
                <a:cubicBezTo>
                  <a:pt x="1246" y="844"/>
                  <a:pt x="1238" y="819"/>
                  <a:pt x="1224" y="776"/>
                </a:cubicBezTo>
                <a:cubicBezTo>
                  <a:pt x="1227" y="688"/>
                  <a:pt x="1227" y="600"/>
                  <a:pt x="1232" y="512"/>
                </a:cubicBezTo>
                <a:cubicBezTo>
                  <a:pt x="1233" y="486"/>
                  <a:pt x="1288" y="456"/>
                  <a:pt x="1288" y="456"/>
                </a:cubicBezTo>
                <a:cubicBezTo>
                  <a:pt x="1298" y="441"/>
                  <a:pt x="1301" y="422"/>
                  <a:pt x="1312" y="408"/>
                </a:cubicBezTo>
                <a:cubicBezTo>
                  <a:pt x="1340" y="374"/>
                  <a:pt x="1391" y="362"/>
                  <a:pt x="1432" y="352"/>
                </a:cubicBezTo>
                <a:cubicBezTo>
                  <a:pt x="1448" y="303"/>
                  <a:pt x="1481" y="285"/>
                  <a:pt x="1520" y="256"/>
                </a:cubicBezTo>
                <a:cubicBezTo>
                  <a:pt x="1534" y="213"/>
                  <a:pt x="1523" y="250"/>
                  <a:pt x="1536" y="192"/>
                </a:cubicBezTo>
                <a:cubicBezTo>
                  <a:pt x="1538" y="181"/>
                  <a:pt x="1541" y="171"/>
                  <a:pt x="1544" y="160"/>
                </a:cubicBezTo>
                <a:cubicBezTo>
                  <a:pt x="1546" y="152"/>
                  <a:pt x="1560" y="139"/>
                  <a:pt x="1552" y="136"/>
                </a:cubicBezTo>
                <a:cubicBezTo>
                  <a:pt x="1533" y="130"/>
                  <a:pt x="1515" y="154"/>
                  <a:pt x="1496" y="160"/>
                </a:cubicBezTo>
                <a:cubicBezTo>
                  <a:pt x="1487" y="183"/>
                  <a:pt x="1487" y="211"/>
                  <a:pt x="1472" y="232"/>
                </a:cubicBezTo>
                <a:cubicBezTo>
                  <a:pt x="1435" y="284"/>
                  <a:pt x="1315" y="270"/>
                  <a:pt x="1280" y="272"/>
                </a:cubicBezTo>
                <a:cubicBezTo>
                  <a:pt x="1202" y="285"/>
                  <a:pt x="1115" y="260"/>
                  <a:pt x="1048" y="304"/>
                </a:cubicBezTo>
                <a:cubicBezTo>
                  <a:pt x="1029" y="333"/>
                  <a:pt x="1011" y="331"/>
                  <a:pt x="992" y="360"/>
                </a:cubicBezTo>
                <a:cubicBezTo>
                  <a:pt x="981" y="426"/>
                  <a:pt x="970" y="430"/>
                  <a:pt x="920" y="480"/>
                </a:cubicBezTo>
                <a:cubicBezTo>
                  <a:pt x="871" y="529"/>
                  <a:pt x="936" y="501"/>
                  <a:pt x="880" y="520"/>
                </a:cubicBezTo>
                <a:cubicBezTo>
                  <a:pt x="841" y="507"/>
                  <a:pt x="822" y="473"/>
                  <a:pt x="792" y="448"/>
                </a:cubicBezTo>
                <a:cubicBezTo>
                  <a:pt x="783" y="441"/>
                  <a:pt x="778" y="429"/>
                  <a:pt x="768" y="424"/>
                </a:cubicBezTo>
                <a:cubicBezTo>
                  <a:pt x="753" y="417"/>
                  <a:pt x="736" y="419"/>
                  <a:pt x="720" y="416"/>
                </a:cubicBezTo>
                <a:cubicBezTo>
                  <a:pt x="674" y="347"/>
                  <a:pt x="735" y="428"/>
                  <a:pt x="680" y="384"/>
                </a:cubicBezTo>
                <a:cubicBezTo>
                  <a:pt x="661" y="369"/>
                  <a:pt x="653" y="332"/>
                  <a:pt x="640" y="312"/>
                </a:cubicBezTo>
                <a:cubicBezTo>
                  <a:pt x="645" y="254"/>
                  <a:pt x="640" y="200"/>
                  <a:pt x="672" y="152"/>
                </a:cubicBezTo>
                <a:cubicBezTo>
                  <a:pt x="664" y="147"/>
                  <a:pt x="658" y="136"/>
                  <a:pt x="648" y="136"/>
                </a:cubicBezTo>
                <a:cubicBezTo>
                  <a:pt x="631" y="136"/>
                  <a:pt x="616" y="147"/>
                  <a:pt x="600" y="152"/>
                </a:cubicBezTo>
                <a:cubicBezTo>
                  <a:pt x="580" y="159"/>
                  <a:pt x="557" y="157"/>
                  <a:pt x="536" y="160"/>
                </a:cubicBezTo>
                <a:cubicBezTo>
                  <a:pt x="480" y="155"/>
                  <a:pt x="442" y="153"/>
                  <a:pt x="392" y="136"/>
                </a:cubicBezTo>
                <a:cubicBezTo>
                  <a:pt x="343" y="63"/>
                  <a:pt x="403" y="138"/>
                  <a:pt x="216" y="104"/>
                </a:cubicBezTo>
                <a:cubicBezTo>
                  <a:pt x="202" y="101"/>
                  <a:pt x="197" y="64"/>
                  <a:pt x="192" y="56"/>
                </a:cubicBezTo>
                <a:cubicBezTo>
                  <a:pt x="175" y="31"/>
                  <a:pt x="120" y="0"/>
                  <a:pt x="120" y="0"/>
                </a:cubicBezTo>
                <a:cubicBezTo>
                  <a:pt x="112" y="3"/>
                  <a:pt x="99" y="0"/>
                  <a:pt x="96" y="8"/>
                </a:cubicBezTo>
                <a:cubicBezTo>
                  <a:pt x="92" y="21"/>
                  <a:pt x="101" y="35"/>
                  <a:pt x="104" y="48"/>
                </a:cubicBezTo>
                <a:cubicBezTo>
                  <a:pt x="114" y="91"/>
                  <a:pt x="125" y="133"/>
                  <a:pt x="136" y="176"/>
                </a:cubicBezTo>
                <a:cubicBezTo>
                  <a:pt x="138" y="184"/>
                  <a:pt x="152" y="181"/>
                  <a:pt x="160" y="184"/>
                </a:cubicBezTo>
                <a:cubicBezTo>
                  <a:pt x="211" y="235"/>
                  <a:pt x="170" y="185"/>
                  <a:pt x="200" y="304"/>
                </a:cubicBezTo>
                <a:cubicBezTo>
                  <a:pt x="203" y="315"/>
                  <a:pt x="205" y="325"/>
                  <a:pt x="208" y="336"/>
                </a:cubicBezTo>
                <a:cubicBezTo>
                  <a:pt x="213" y="352"/>
                  <a:pt x="224" y="384"/>
                  <a:pt x="224" y="384"/>
                </a:cubicBezTo>
                <a:cubicBezTo>
                  <a:pt x="214" y="425"/>
                  <a:pt x="221" y="475"/>
                  <a:pt x="200" y="512"/>
                </a:cubicBezTo>
                <a:cubicBezTo>
                  <a:pt x="181" y="546"/>
                  <a:pt x="161" y="574"/>
                  <a:pt x="144" y="608"/>
                </a:cubicBezTo>
                <a:cubicBezTo>
                  <a:pt x="136" y="624"/>
                  <a:pt x="136" y="656"/>
                  <a:pt x="112" y="656"/>
                </a:cubicBezTo>
                <a:close/>
              </a:path>
            </a:pathLst>
          </a:custGeom>
          <a:solidFill>
            <a:srgbClr val="d8c88e">
              <a:alpha val="6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13"/>
          <p:cNvGrpSpPr/>
          <p:nvPr/>
        </p:nvGrpSpPr>
        <p:grpSpPr>
          <a:xfrm>
            <a:off x="34920" y="5445000"/>
            <a:ext cx="4286160" cy="1376640"/>
            <a:chOff x="34920" y="5445000"/>
            <a:chExt cx="4286160" cy="1376640"/>
          </a:xfrm>
        </p:grpSpPr>
        <p:sp>
          <p:nvSpPr>
            <p:cNvPr id="54" name="Rectangle 68"/>
            <p:cNvSpPr/>
            <p:nvPr/>
          </p:nvSpPr>
          <p:spPr>
            <a:xfrm>
              <a:off x="34920" y="5445000"/>
              <a:ext cx="3556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№ </a:t>
              </a: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9"/>
            <p:cNvSpPr/>
            <p:nvPr/>
          </p:nvSpPr>
          <p:spPr>
            <a:xfrm>
              <a:off x="390600" y="5445000"/>
              <a:ext cx="17715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именование служб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0"/>
            <p:cNvSpPr/>
            <p:nvPr/>
          </p:nvSpPr>
          <p:spPr>
            <a:xfrm>
              <a:off x="2162160" y="5445000"/>
              <a:ext cx="781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ичество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хник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71"/>
            <p:cNvSpPr/>
            <p:nvPr/>
          </p:nvSpPr>
          <p:spPr>
            <a:xfrm>
              <a:off x="2943360" y="5445000"/>
              <a:ext cx="7650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-во н.п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72"/>
            <p:cNvSpPr/>
            <p:nvPr/>
          </p:nvSpPr>
          <p:spPr>
            <a:xfrm>
              <a:off x="3708360" y="5445000"/>
              <a:ext cx="61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-во населения (чел.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73"/>
            <p:cNvSpPr/>
            <p:nvPr/>
          </p:nvSpPr>
          <p:spPr>
            <a:xfrm>
              <a:off x="34920" y="5902200"/>
              <a:ext cx="35568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74"/>
            <p:cNvSpPr/>
            <p:nvPr/>
          </p:nvSpPr>
          <p:spPr>
            <a:xfrm>
              <a:off x="390600" y="5902200"/>
              <a:ext cx="177156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МО МВД РФ «Глазовский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75"/>
            <p:cNvSpPr/>
            <p:nvPr/>
          </p:nvSpPr>
          <p:spPr>
            <a:xfrm>
              <a:off x="2162160" y="5902200"/>
              <a:ext cx="78120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76"/>
            <p:cNvSpPr/>
            <p:nvPr/>
          </p:nvSpPr>
          <p:spPr>
            <a:xfrm>
              <a:off x="2943360" y="5902200"/>
              <a:ext cx="76500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7"/>
            <p:cNvSpPr/>
            <p:nvPr/>
          </p:nvSpPr>
          <p:spPr>
            <a:xfrm>
              <a:off x="3708360" y="5902200"/>
              <a:ext cx="61272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78"/>
            <p:cNvSpPr/>
            <p:nvPr/>
          </p:nvSpPr>
          <p:spPr>
            <a:xfrm>
              <a:off x="34920" y="6183360"/>
              <a:ext cx="3556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79"/>
            <p:cNvSpPr/>
            <p:nvPr/>
          </p:nvSpPr>
          <p:spPr>
            <a:xfrm>
              <a:off x="390600" y="6183360"/>
              <a:ext cx="177156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УЗ УР «Глазовская РБ МЗ УР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80"/>
            <p:cNvSpPr/>
            <p:nvPr/>
          </p:nvSpPr>
          <p:spPr>
            <a:xfrm>
              <a:off x="2162160" y="6183360"/>
              <a:ext cx="7812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81"/>
            <p:cNvSpPr/>
            <p:nvPr/>
          </p:nvSpPr>
          <p:spPr>
            <a:xfrm>
              <a:off x="2943360" y="6183360"/>
              <a:ext cx="7650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82"/>
            <p:cNvSpPr/>
            <p:nvPr/>
          </p:nvSpPr>
          <p:spPr>
            <a:xfrm>
              <a:off x="3708360" y="6183360"/>
              <a:ext cx="61272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14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83"/>
            <p:cNvSpPr/>
            <p:nvPr/>
          </p:nvSpPr>
          <p:spPr>
            <a:xfrm>
              <a:off x="34920" y="6396120"/>
              <a:ext cx="3556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84"/>
            <p:cNvSpPr/>
            <p:nvPr/>
          </p:nvSpPr>
          <p:spPr>
            <a:xfrm>
              <a:off x="390600" y="6396120"/>
              <a:ext cx="177156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разделение ГПС (ПЧ-17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85"/>
            <p:cNvSpPr/>
            <p:nvPr/>
          </p:nvSpPr>
          <p:spPr>
            <a:xfrm>
              <a:off x="2162160" y="6396120"/>
              <a:ext cx="7812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86"/>
            <p:cNvSpPr/>
            <p:nvPr/>
          </p:nvSpPr>
          <p:spPr>
            <a:xfrm>
              <a:off x="2943360" y="6396120"/>
              <a:ext cx="7650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87"/>
            <p:cNvSpPr/>
            <p:nvPr/>
          </p:nvSpPr>
          <p:spPr>
            <a:xfrm>
              <a:off x="3708360" y="6396120"/>
              <a:ext cx="61272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88"/>
            <p:cNvSpPr/>
            <p:nvPr/>
          </p:nvSpPr>
          <p:spPr>
            <a:xfrm>
              <a:off x="34920" y="6608880"/>
              <a:ext cx="212724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того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89"/>
            <p:cNvSpPr/>
            <p:nvPr/>
          </p:nvSpPr>
          <p:spPr>
            <a:xfrm>
              <a:off x="2162160" y="6608880"/>
              <a:ext cx="7812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90"/>
            <p:cNvSpPr/>
            <p:nvPr/>
          </p:nvSpPr>
          <p:spPr>
            <a:xfrm>
              <a:off x="2943360" y="6608880"/>
              <a:ext cx="7650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91"/>
            <p:cNvSpPr/>
            <p:nvPr/>
          </p:nvSpPr>
          <p:spPr>
            <a:xfrm>
              <a:off x="3708360" y="6608880"/>
              <a:ext cx="61272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14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92"/>
            <p:cNvSpPr/>
            <p:nvPr/>
          </p:nvSpPr>
          <p:spPr>
            <a:xfrm>
              <a:off x="390600" y="5445000"/>
              <a:ext cx="0" cy="116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93"/>
            <p:cNvSpPr/>
            <p:nvPr/>
          </p:nvSpPr>
          <p:spPr>
            <a:xfrm>
              <a:off x="2162160" y="5445000"/>
              <a:ext cx="0" cy="13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94"/>
            <p:cNvSpPr/>
            <p:nvPr/>
          </p:nvSpPr>
          <p:spPr>
            <a:xfrm>
              <a:off x="2943360" y="5445000"/>
              <a:ext cx="0" cy="13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95"/>
            <p:cNvSpPr/>
            <p:nvPr/>
          </p:nvSpPr>
          <p:spPr>
            <a:xfrm>
              <a:off x="3708360" y="5445000"/>
              <a:ext cx="0" cy="13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96"/>
            <p:cNvSpPr/>
            <p:nvPr/>
          </p:nvSpPr>
          <p:spPr>
            <a:xfrm>
              <a:off x="34920" y="5902200"/>
              <a:ext cx="428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97"/>
            <p:cNvSpPr/>
            <p:nvPr/>
          </p:nvSpPr>
          <p:spPr>
            <a:xfrm>
              <a:off x="34920" y="6183360"/>
              <a:ext cx="428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8"/>
            <p:cNvSpPr/>
            <p:nvPr/>
          </p:nvSpPr>
          <p:spPr>
            <a:xfrm>
              <a:off x="34920" y="6396120"/>
              <a:ext cx="428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99"/>
            <p:cNvSpPr/>
            <p:nvPr/>
          </p:nvSpPr>
          <p:spPr>
            <a:xfrm>
              <a:off x="34920" y="6608880"/>
              <a:ext cx="428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00"/>
            <p:cNvSpPr/>
            <p:nvPr/>
          </p:nvSpPr>
          <p:spPr>
            <a:xfrm>
              <a:off x="34920" y="5445000"/>
              <a:ext cx="0" cy="137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01"/>
            <p:cNvSpPr/>
            <p:nvPr/>
          </p:nvSpPr>
          <p:spPr>
            <a:xfrm>
              <a:off x="4321080" y="5445000"/>
              <a:ext cx="0" cy="137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02"/>
            <p:cNvSpPr/>
            <p:nvPr/>
          </p:nvSpPr>
          <p:spPr>
            <a:xfrm>
              <a:off x="34920" y="5445000"/>
              <a:ext cx="428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03"/>
            <p:cNvSpPr/>
            <p:nvPr/>
          </p:nvSpPr>
          <p:spPr>
            <a:xfrm>
              <a:off x="34920" y="6821640"/>
              <a:ext cx="428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8T08:17:42Z</dcterms:created>
  <dc:creator>Centr-4</dc:creator>
  <dc:description/>
  <dc:language>en-US</dc:language>
  <cp:lastModifiedBy>Пользователь</cp:lastModifiedBy>
  <dcterms:modified xsi:type="dcterms:W3CDTF">2015-09-16T11:49:41Z</dcterms:modified>
  <cp:revision>32</cp:revision>
  <dc:subject/>
  <dc:title>Слайд 1</dc:title>
</cp:coreProperties>
</file>