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AB99-EC58-426B-98AB-86277FC40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0E65-95B4-4CD3-9713-855D47869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44F0-379D-4FA9-9810-5FCED1A4A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4BA6-3F23-4A06-8814-117A79AC6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81B1-E669-4047-A239-CE751E598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9051-7F8A-4497-BE24-E5C1C2E38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13D8-2522-43DB-9B3E-2580A5F74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DD5A-CBEA-4F6B-81BD-E87BDCB69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5476-F741-4650-8475-6296E9476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1BBF-C1DE-42ED-A525-CF60DA05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02DA-0166-44AB-83B6-97CFC32E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E0CC-2C3B-44BD-943A-3AD1F8DC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DA908-68EE-40D6-B0B8-0DE83BC54D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Рисунок4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5"/>
          <p:cNvSpPr/>
          <p:nvPr/>
        </p:nvSpPr>
        <p:spPr>
          <a:xfrm>
            <a:off x="0" y="-23760"/>
            <a:ext cx="9144000" cy="15476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хем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сположения оконечных устройств системы оповещения насе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13"/>
          <p:cNvGrpSpPr/>
          <p:nvPr/>
        </p:nvGrpSpPr>
        <p:grpSpPr>
          <a:xfrm>
            <a:off x="5638680" y="4800600"/>
            <a:ext cx="304920" cy="262080"/>
            <a:chOff x="5638680" y="4800600"/>
            <a:chExt cx="304920" cy="262080"/>
          </a:xfrm>
        </p:grpSpPr>
        <p:grpSp>
          <p:nvGrpSpPr>
            <p:cNvPr id="44" name="Group 12"/>
            <p:cNvGrpSpPr/>
            <p:nvPr/>
          </p:nvGrpSpPr>
          <p:grpSpPr>
            <a:xfrm>
              <a:off x="5638680" y="4800600"/>
              <a:ext cx="304920" cy="163800"/>
              <a:chOff x="5638680" y="4800600"/>
              <a:chExt cx="304920" cy="163800"/>
            </a:xfrm>
          </p:grpSpPr>
          <p:sp>
            <p:nvSpPr>
              <p:cNvPr id="45" name="Oval 10"/>
              <p:cNvSpPr/>
              <p:nvPr/>
            </p:nvSpPr>
            <p:spPr>
              <a:xfrm>
                <a:off x="5681880" y="4800600"/>
                <a:ext cx="217800" cy="1310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Rectangle 11"/>
              <p:cNvSpPr/>
              <p:nvPr/>
            </p:nvSpPr>
            <p:spPr>
              <a:xfrm>
                <a:off x="5638680" y="4866120"/>
                <a:ext cx="304920" cy="9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Rectangle 8"/>
            <p:cNvSpPr/>
            <p:nvPr/>
          </p:nvSpPr>
          <p:spPr>
            <a:xfrm>
              <a:off x="5681880" y="4866120"/>
              <a:ext cx="217800" cy="65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9"/>
            <p:cNvSpPr/>
            <p:nvPr/>
          </p:nvSpPr>
          <p:spPr>
            <a:xfrm rot="10800000">
              <a:off x="5681520" y="4931640"/>
              <a:ext cx="217800" cy="131040"/>
            </a:xfrm>
            <a:custGeom>
              <a:avLst/>
              <a:gdLst>
                <a:gd name="textAreaLeft" fmla="*/ 53280 w 217800"/>
                <a:gd name="textAreaRight" fmla="*/ 164520 w 217800"/>
                <a:gd name="textAreaTop" fmla="*/ 32040 h 131040"/>
                <a:gd name="textAreaBottom" fmla="*/ 99000 h 13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059" y="21600"/>
                  </a:lnTo>
                  <a:lnTo>
                    <a:pt x="1454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7"/>
          <p:cNvGrpSpPr/>
          <p:nvPr/>
        </p:nvGrpSpPr>
        <p:grpSpPr>
          <a:xfrm>
            <a:off x="4952880" y="4648320"/>
            <a:ext cx="304920" cy="261360"/>
            <a:chOff x="4952880" y="4648320"/>
            <a:chExt cx="304920" cy="261360"/>
          </a:xfrm>
        </p:grpSpPr>
        <p:grpSp>
          <p:nvGrpSpPr>
            <p:cNvPr id="50" name="Group 18"/>
            <p:cNvGrpSpPr/>
            <p:nvPr/>
          </p:nvGrpSpPr>
          <p:grpSpPr>
            <a:xfrm>
              <a:off x="4952880" y="4648320"/>
              <a:ext cx="304920" cy="163440"/>
              <a:chOff x="4952880" y="4648320"/>
              <a:chExt cx="304920" cy="163440"/>
            </a:xfrm>
          </p:grpSpPr>
          <p:sp>
            <p:nvSpPr>
              <p:cNvPr id="51" name="Oval 19"/>
              <p:cNvSpPr/>
              <p:nvPr/>
            </p:nvSpPr>
            <p:spPr>
              <a:xfrm>
                <a:off x="4996080" y="4648320"/>
                <a:ext cx="217800" cy="1306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Rectangle 20"/>
              <p:cNvSpPr/>
              <p:nvPr/>
            </p:nvSpPr>
            <p:spPr>
              <a:xfrm>
                <a:off x="4952880" y="4713840"/>
                <a:ext cx="304920" cy="9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Rectangle 21"/>
            <p:cNvSpPr/>
            <p:nvPr/>
          </p:nvSpPr>
          <p:spPr>
            <a:xfrm>
              <a:off x="4996080" y="4713480"/>
              <a:ext cx="217800" cy="65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22"/>
            <p:cNvSpPr/>
            <p:nvPr/>
          </p:nvSpPr>
          <p:spPr>
            <a:xfrm rot="10800000">
              <a:off x="4995720" y="4779000"/>
              <a:ext cx="217800" cy="130680"/>
            </a:xfrm>
            <a:custGeom>
              <a:avLst/>
              <a:gdLst>
                <a:gd name="textAreaLeft" fmla="*/ 53280 w 217800"/>
                <a:gd name="textAreaRight" fmla="*/ 164520 w 217800"/>
                <a:gd name="textAreaTop" fmla="*/ 32040 h 130680"/>
                <a:gd name="textAreaBottom" fmla="*/ 98640 h 13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059" y="21600"/>
                  </a:lnTo>
                  <a:lnTo>
                    <a:pt x="1454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23"/>
          <p:cNvGrpSpPr/>
          <p:nvPr/>
        </p:nvGrpSpPr>
        <p:grpSpPr>
          <a:xfrm>
            <a:off x="2819520" y="5943600"/>
            <a:ext cx="304560" cy="262080"/>
            <a:chOff x="2819520" y="5943600"/>
            <a:chExt cx="304560" cy="262080"/>
          </a:xfrm>
        </p:grpSpPr>
        <p:grpSp>
          <p:nvGrpSpPr>
            <p:cNvPr id="56" name="Group 24"/>
            <p:cNvGrpSpPr/>
            <p:nvPr/>
          </p:nvGrpSpPr>
          <p:grpSpPr>
            <a:xfrm>
              <a:off x="2819520" y="5943600"/>
              <a:ext cx="304560" cy="163800"/>
              <a:chOff x="2819520" y="5943600"/>
              <a:chExt cx="304560" cy="163800"/>
            </a:xfrm>
          </p:grpSpPr>
          <p:sp>
            <p:nvSpPr>
              <p:cNvPr id="57" name="Oval 25"/>
              <p:cNvSpPr/>
              <p:nvPr/>
            </p:nvSpPr>
            <p:spPr>
              <a:xfrm>
                <a:off x="2862720" y="5943600"/>
                <a:ext cx="217800" cy="1310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26"/>
              <p:cNvSpPr/>
              <p:nvPr/>
            </p:nvSpPr>
            <p:spPr>
              <a:xfrm>
                <a:off x="2819520" y="6009120"/>
                <a:ext cx="304560" cy="9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Rectangle 27"/>
            <p:cNvSpPr/>
            <p:nvPr/>
          </p:nvSpPr>
          <p:spPr>
            <a:xfrm>
              <a:off x="2862720" y="6009120"/>
              <a:ext cx="217800" cy="45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AutoShape 28"/>
            <p:cNvSpPr/>
            <p:nvPr/>
          </p:nvSpPr>
          <p:spPr>
            <a:xfrm rot="10800000">
              <a:off x="2862360" y="6074640"/>
              <a:ext cx="217800" cy="131040"/>
            </a:xfrm>
            <a:custGeom>
              <a:avLst/>
              <a:gdLst>
                <a:gd name="textAreaLeft" fmla="*/ 53280 w 217800"/>
                <a:gd name="textAreaRight" fmla="*/ 164520 w 217800"/>
                <a:gd name="textAreaTop" fmla="*/ 32040 h 131040"/>
                <a:gd name="textAreaBottom" fmla="*/ 99000 h 13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059" y="21600"/>
                  </a:lnTo>
                  <a:lnTo>
                    <a:pt x="1454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Rectangle 61"/>
          <p:cNvSpPr/>
          <p:nvPr/>
        </p:nvSpPr>
        <p:spPr>
          <a:xfrm>
            <a:off x="7010280" y="5411880"/>
            <a:ext cx="2133720" cy="1446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3"/>
          <p:cNvSpPr/>
          <p:nvPr/>
        </p:nvSpPr>
        <p:spPr>
          <a:xfrm>
            <a:off x="7010280" y="5410080"/>
            <a:ext cx="21337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ные обозначе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1"/>
          <p:cNvSpPr/>
          <p:nvPr/>
        </p:nvSpPr>
        <p:spPr>
          <a:xfrm>
            <a:off x="7775280" y="6095880"/>
            <a:ext cx="11167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лектросирен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8325"/>
          <p:cNvGrpSpPr/>
          <p:nvPr/>
        </p:nvGrpSpPr>
        <p:grpSpPr>
          <a:xfrm>
            <a:off x="7391520" y="6095880"/>
            <a:ext cx="228600" cy="263520"/>
            <a:chOff x="7391520" y="6095880"/>
            <a:chExt cx="228600" cy="263520"/>
          </a:xfrm>
        </p:grpSpPr>
        <p:grpSp>
          <p:nvGrpSpPr>
            <p:cNvPr id="65" name="Group 88"/>
            <p:cNvGrpSpPr/>
            <p:nvPr/>
          </p:nvGrpSpPr>
          <p:grpSpPr>
            <a:xfrm>
              <a:off x="7391520" y="6095880"/>
              <a:ext cx="228600" cy="164520"/>
              <a:chOff x="7391520" y="6095880"/>
              <a:chExt cx="228600" cy="164520"/>
            </a:xfrm>
          </p:grpSpPr>
          <p:sp>
            <p:nvSpPr>
              <p:cNvPr id="66" name="Oval 89"/>
              <p:cNvSpPr/>
              <p:nvPr/>
            </p:nvSpPr>
            <p:spPr>
              <a:xfrm>
                <a:off x="7423920" y="6095880"/>
                <a:ext cx="163440" cy="1317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Rectangle 90"/>
              <p:cNvSpPr/>
              <p:nvPr/>
            </p:nvSpPr>
            <p:spPr>
              <a:xfrm>
                <a:off x="7391520" y="6161760"/>
                <a:ext cx="228600" cy="9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" name="Rectangle 91"/>
            <p:cNvSpPr/>
            <p:nvPr/>
          </p:nvSpPr>
          <p:spPr>
            <a:xfrm>
              <a:off x="7424640" y="6162480"/>
              <a:ext cx="162000" cy="65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92"/>
            <p:cNvSpPr/>
            <p:nvPr/>
          </p:nvSpPr>
          <p:spPr>
            <a:xfrm rot="10800000">
              <a:off x="7424640" y="6227640"/>
              <a:ext cx="162000" cy="131760"/>
            </a:xfrm>
            <a:custGeom>
              <a:avLst/>
              <a:gdLst>
                <a:gd name="textAreaLeft" fmla="*/ 39600 w 162000"/>
                <a:gd name="textAreaRight" fmla="*/ 122400 w 162000"/>
                <a:gd name="textAreaTop" fmla="*/ 31680 h 131760"/>
                <a:gd name="textAreaBottom" fmla="*/ 100080 h 13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059" y="21600"/>
                  </a:lnTo>
                  <a:lnTo>
                    <a:pt x="1454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AutoShape 104"/>
          <p:cNvSpPr/>
          <p:nvPr/>
        </p:nvSpPr>
        <p:spPr>
          <a:xfrm>
            <a:off x="6172200" y="4038480"/>
            <a:ext cx="1676520" cy="327240"/>
          </a:xfrm>
          <a:prstGeom prst="wedgeRectCallout">
            <a:avLst>
              <a:gd name="adj1" fmla="val -71495"/>
              <a:gd name="adj2" fmla="val 221361"/>
            </a:avLst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Октябрьски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06"/>
          <p:cNvSpPr/>
          <p:nvPr/>
        </p:nvSpPr>
        <p:spPr>
          <a:xfrm>
            <a:off x="5105520" y="3606840"/>
            <a:ext cx="1066680" cy="326880"/>
          </a:xfrm>
          <a:prstGeom prst="wedgeRectCallout">
            <a:avLst>
              <a:gd name="adj1" fmla="val -17810"/>
              <a:gd name="adj2" fmla="val 251944"/>
            </a:avLst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. Адам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07"/>
          <p:cNvSpPr/>
          <p:nvPr/>
        </p:nvSpPr>
        <p:spPr>
          <a:xfrm>
            <a:off x="685800" y="5386320"/>
            <a:ext cx="1523880" cy="327240"/>
          </a:xfrm>
          <a:prstGeom prst="wedgeRectCallout">
            <a:avLst>
              <a:gd name="adj1" fmla="val 102499"/>
              <a:gd name="adj2" fmla="val 192717"/>
            </a:avLst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Парз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82"/>
          <p:cNvSpPr/>
          <p:nvPr/>
        </p:nvSpPr>
        <p:spPr>
          <a:xfrm>
            <a:off x="6324480" y="-1440"/>
            <a:ext cx="28195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е №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Положению о своевременном оповещении и информировании населения муниципального образования «Глазовский район» об угрозе возникновения или возникновении  чрезвычайных ситуаци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 17 сентября 2015 года  №118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13"/>
          <p:cNvGrpSpPr/>
          <p:nvPr/>
        </p:nvGrpSpPr>
        <p:grpSpPr>
          <a:xfrm>
            <a:off x="304920" y="4191120"/>
            <a:ext cx="304560" cy="261360"/>
            <a:chOff x="304920" y="4191120"/>
            <a:chExt cx="304560" cy="261360"/>
          </a:xfrm>
        </p:grpSpPr>
        <p:grpSp>
          <p:nvGrpSpPr>
            <p:cNvPr id="75" name="Group 12"/>
            <p:cNvGrpSpPr/>
            <p:nvPr/>
          </p:nvGrpSpPr>
          <p:grpSpPr>
            <a:xfrm>
              <a:off x="304920" y="4191120"/>
              <a:ext cx="304560" cy="163440"/>
              <a:chOff x="304920" y="4191120"/>
              <a:chExt cx="304560" cy="163440"/>
            </a:xfrm>
          </p:grpSpPr>
          <p:sp>
            <p:nvSpPr>
              <p:cNvPr id="76" name="Oval 10"/>
              <p:cNvSpPr/>
              <p:nvPr/>
            </p:nvSpPr>
            <p:spPr>
              <a:xfrm>
                <a:off x="348120" y="4191120"/>
                <a:ext cx="217800" cy="1306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Rectangle 11"/>
              <p:cNvSpPr/>
              <p:nvPr/>
            </p:nvSpPr>
            <p:spPr>
              <a:xfrm>
                <a:off x="304920" y="4256640"/>
                <a:ext cx="304560" cy="9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" name="Rectangle 8"/>
            <p:cNvSpPr/>
            <p:nvPr/>
          </p:nvSpPr>
          <p:spPr>
            <a:xfrm>
              <a:off x="348120" y="4256280"/>
              <a:ext cx="217800" cy="65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9"/>
            <p:cNvSpPr/>
            <p:nvPr/>
          </p:nvSpPr>
          <p:spPr>
            <a:xfrm rot="10800000">
              <a:off x="347760" y="4321800"/>
              <a:ext cx="217800" cy="130680"/>
            </a:xfrm>
            <a:custGeom>
              <a:avLst/>
              <a:gdLst>
                <a:gd name="textAreaLeft" fmla="*/ 53280 w 217800"/>
                <a:gd name="textAreaRight" fmla="*/ 164520 w 217800"/>
                <a:gd name="textAreaTop" fmla="*/ 32040 h 130680"/>
                <a:gd name="textAreaBottom" fmla="*/ 98640 h 13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059" y="21600"/>
                  </a:lnTo>
                  <a:lnTo>
                    <a:pt x="1454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AutoShape 104"/>
          <p:cNvSpPr/>
          <p:nvPr/>
        </p:nvSpPr>
        <p:spPr>
          <a:xfrm>
            <a:off x="1295280" y="3657600"/>
            <a:ext cx="1676520" cy="326880"/>
          </a:xfrm>
          <a:prstGeom prst="wedgeRectCallout">
            <a:avLst>
              <a:gd name="adj1" fmla="val -97254"/>
              <a:gd name="adj2" fmla="val 143689"/>
            </a:avLst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Дзякин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04"/>
          <p:cNvSpPr/>
          <p:nvPr/>
        </p:nvSpPr>
        <p:spPr>
          <a:xfrm>
            <a:off x="2629080" y="3998880"/>
            <a:ext cx="1676160" cy="326880"/>
          </a:xfrm>
          <a:prstGeom prst="wedgeRectCallout">
            <a:avLst>
              <a:gd name="adj1" fmla="val -96875"/>
              <a:gd name="adj2" fmla="val 124273"/>
            </a:avLst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. Кожил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8325"/>
          <p:cNvGrpSpPr/>
          <p:nvPr/>
        </p:nvGrpSpPr>
        <p:grpSpPr>
          <a:xfrm>
            <a:off x="7391520" y="6080040"/>
            <a:ext cx="228600" cy="263520"/>
            <a:chOff x="7391520" y="6080040"/>
            <a:chExt cx="228600" cy="263520"/>
          </a:xfrm>
        </p:grpSpPr>
        <p:grpSp>
          <p:nvGrpSpPr>
            <p:cNvPr id="83" name="Group 88"/>
            <p:cNvGrpSpPr/>
            <p:nvPr/>
          </p:nvGrpSpPr>
          <p:grpSpPr>
            <a:xfrm>
              <a:off x="7391520" y="6080040"/>
              <a:ext cx="228600" cy="164520"/>
              <a:chOff x="7391520" y="6080040"/>
              <a:chExt cx="228600" cy="164520"/>
            </a:xfrm>
          </p:grpSpPr>
          <p:sp>
            <p:nvSpPr>
              <p:cNvPr id="84" name="Oval 89"/>
              <p:cNvSpPr/>
              <p:nvPr/>
            </p:nvSpPr>
            <p:spPr>
              <a:xfrm>
                <a:off x="7423920" y="6080040"/>
                <a:ext cx="163440" cy="1317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Rectangle 90"/>
              <p:cNvSpPr/>
              <p:nvPr/>
            </p:nvSpPr>
            <p:spPr>
              <a:xfrm>
                <a:off x="7391520" y="6145920"/>
                <a:ext cx="228600" cy="9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Rectangle 91"/>
            <p:cNvSpPr/>
            <p:nvPr/>
          </p:nvSpPr>
          <p:spPr>
            <a:xfrm>
              <a:off x="7424640" y="6146640"/>
              <a:ext cx="162000" cy="65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utoShape 92"/>
            <p:cNvSpPr/>
            <p:nvPr/>
          </p:nvSpPr>
          <p:spPr>
            <a:xfrm rot="10800000">
              <a:off x="7424640" y="6211800"/>
              <a:ext cx="162000" cy="131760"/>
            </a:xfrm>
            <a:custGeom>
              <a:avLst/>
              <a:gdLst>
                <a:gd name="textAreaLeft" fmla="*/ 39600 w 162000"/>
                <a:gd name="textAreaRight" fmla="*/ 122400 w 162000"/>
                <a:gd name="textAreaTop" fmla="*/ 31680 h 131760"/>
                <a:gd name="textAreaBottom" fmla="*/ 100080 h 13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059" y="21600"/>
                  </a:lnTo>
                  <a:lnTo>
                    <a:pt x="1454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AutoShape 104"/>
          <p:cNvSpPr/>
          <p:nvPr/>
        </p:nvSpPr>
        <p:spPr>
          <a:xfrm>
            <a:off x="7505640" y="1600200"/>
            <a:ext cx="952560" cy="326880"/>
          </a:xfrm>
          <a:prstGeom prst="wedgeRectCallout">
            <a:avLst>
              <a:gd name="adj1" fmla="val -95101"/>
              <a:gd name="adj2" fmla="val 71847"/>
            </a:avLst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Сев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07"/>
          <p:cNvSpPr/>
          <p:nvPr/>
        </p:nvSpPr>
        <p:spPr>
          <a:xfrm>
            <a:off x="2895480" y="4997520"/>
            <a:ext cx="990720" cy="326880"/>
          </a:xfrm>
          <a:prstGeom prst="wedgeRectCallout">
            <a:avLst>
              <a:gd name="adj1" fmla="val 20416"/>
              <a:gd name="adj2" fmla="val -100486"/>
            </a:avLst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. Штанигур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07"/>
          <p:cNvSpPr/>
          <p:nvPr/>
        </p:nvSpPr>
        <p:spPr>
          <a:xfrm>
            <a:off x="4719600" y="5187960"/>
            <a:ext cx="990720" cy="326880"/>
          </a:xfrm>
          <a:prstGeom prst="wedgeRectCallout">
            <a:avLst>
              <a:gd name="adj1" fmla="val -61634"/>
              <a:gd name="adj2" fmla="val 6310"/>
            </a:avLst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. Кочишев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04"/>
          <p:cNvSpPr/>
          <p:nvPr/>
        </p:nvSpPr>
        <p:spPr>
          <a:xfrm>
            <a:off x="4305240" y="4159080"/>
            <a:ext cx="952560" cy="327240"/>
          </a:xfrm>
          <a:prstGeom prst="wedgeRectCallout">
            <a:avLst>
              <a:gd name="adj1" fmla="val 21564"/>
              <a:gd name="adj2" fmla="val 145634"/>
            </a:avLst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.Качкашу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07"/>
          <p:cNvSpPr/>
          <p:nvPr/>
        </p:nvSpPr>
        <p:spPr>
          <a:xfrm>
            <a:off x="1143000" y="4856040"/>
            <a:ext cx="990720" cy="327240"/>
          </a:xfrm>
          <a:prstGeom prst="wedgeRectCallout">
            <a:avLst>
              <a:gd name="adj1" fmla="val -30222"/>
              <a:gd name="adj2" fmla="val -121847"/>
            </a:avLst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. Нижняя Кузьм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23"/>
          <p:cNvGrpSpPr/>
          <p:nvPr/>
        </p:nvGrpSpPr>
        <p:grpSpPr>
          <a:xfrm>
            <a:off x="3200400" y="4702320"/>
            <a:ext cx="304920" cy="261360"/>
            <a:chOff x="3200400" y="4702320"/>
            <a:chExt cx="304920" cy="261360"/>
          </a:xfrm>
        </p:grpSpPr>
        <p:grpSp>
          <p:nvGrpSpPr>
            <p:cNvPr id="94" name="Group 24"/>
            <p:cNvGrpSpPr/>
            <p:nvPr/>
          </p:nvGrpSpPr>
          <p:grpSpPr>
            <a:xfrm>
              <a:off x="3200400" y="4702320"/>
              <a:ext cx="304920" cy="163440"/>
              <a:chOff x="3200400" y="4702320"/>
              <a:chExt cx="304920" cy="163440"/>
            </a:xfrm>
          </p:grpSpPr>
          <p:sp>
            <p:nvSpPr>
              <p:cNvPr id="95" name="Oval 25"/>
              <p:cNvSpPr/>
              <p:nvPr/>
            </p:nvSpPr>
            <p:spPr>
              <a:xfrm>
                <a:off x="3243600" y="4702320"/>
                <a:ext cx="217800" cy="1306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Rectangle 26"/>
              <p:cNvSpPr/>
              <p:nvPr/>
            </p:nvSpPr>
            <p:spPr>
              <a:xfrm>
                <a:off x="3200400" y="4767840"/>
                <a:ext cx="304920" cy="9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Rectangle 27"/>
            <p:cNvSpPr/>
            <p:nvPr/>
          </p:nvSpPr>
          <p:spPr>
            <a:xfrm>
              <a:off x="3243600" y="4767480"/>
              <a:ext cx="217800" cy="65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28"/>
            <p:cNvSpPr/>
            <p:nvPr/>
          </p:nvSpPr>
          <p:spPr>
            <a:xfrm rot="10800000">
              <a:off x="3243240" y="4833000"/>
              <a:ext cx="217800" cy="130680"/>
            </a:xfrm>
            <a:custGeom>
              <a:avLst/>
              <a:gdLst>
                <a:gd name="textAreaLeft" fmla="*/ 53280 w 217800"/>
                <a:gd name="textAreaRight" fmla="*/ 164520 w 217800"/>
                <a:gd name="textAreaTop" fmla="*/ 32040 h 130680"/>
                <a:gd name="textAreaBottom" fmla="*/ 98640 h 13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059" y="21600"/>
                  </a:lnTo>
                  <a:lnTo>
                    <a:pt x="1454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23"/>
          <p:cNvGrpSpPr/>
          <p:nvPr/>
        </p:nvGrpSpPr>
        <p:grpSpPr>
          <a:xfrm>
            <a:off x="2819520" y="5940360"/>
            <a:ext cx="304560" cy="262080"/>
            <a:chOff x="2819520" y="5940360"/>
            <a:chExt cx="304560" cy="262080"/>
          </a:xfrm>
        </p:grpSpPr>
        <p:grpSp>
          <p:nvGrpSpPr>
            <p:cNvPr id="100" name="Group 24"/>
            <p:cNvGrpSpPr/>
            <p:nvPr/>
          </p:nvGrpSpPr>
          <p:grpSpPr>
            <a:xfrm>
              <a:off x="2819520" y="5940360"/>
              <a:ext cx="304560" cy="163800"/>
              <a:chOff x="2819520" y="5940360"/>
              <a:chExt cx="304560" cy="163800"/>
            </a:xfrm>
          </p:grpSpPr>
          <p:sp>
            <p:nvSpPr>
              <p:cNvPr id="101" name="Oval 25"/>
              <p:cNvSpPr/>
              <p:nvPr/>
            </p:nvSpPr>
            <p:spPr>
              <a:xfrm>
                <a:off x="2862720" y="5940360"/>
                <a:ext cx="217800" cy="1310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26"/>
              <p:cNvSpPr/>
              <p:nvPr/>
            </p:nvSpPr>
            <p:spPr>
              <a:xfrm>
                <a:off x="2819520" y="6005880"/>
                <a:ext cx="304560" cy="9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Rectangle 27"/>
            <p:cNvSpPr/>
            <p:nvPr/>
          </p:nvSpPr>
          <p:spPr>
            <a:xfrm>
              <a:off x="2862720" y="6005880"/>
              <a:ext cx="217800" cy="45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28"/>
            <p:cNvSpPr/>
            <p:nvPr/>
          </p:nvSpPr>
          <p:spPr>
            <a:xfrm rot="10800000">
              <a:off x="2862360" y="6071400"/>
              <a:ext cx="217800" cy="131040"/>
            </a:xfrm>
            <a:custGeom>
              <a:avLst/>
              <a:gdLst>
                <a:gd name="textAreaLeft" fmla="*/ 53280 w 217800"/>
                <a:gd name="textAreaRight" fmla="*/ 164520 w 217800"/>
                <a:gd name="textAreaTop" fmla="*/ 32040 h 131040"/>
                <a:gd name="textAreaBottom" fmla="*/ 99000 h 13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059" y="21600"/>
                  </a:lnTo>
                  <a:lnTo>
                    <a:pt x="1454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23"/>
          <p:cNvGrpSpPr/>
          <p:nvPr/>
        </p:nvGrpSpPr>
        <p:grpSpPr>
          <a:xfrm>
            <a:off x="4419720" y="5430960"/>
            <a:ext cx="304560" cy="263520"/>
            <a:chOff x="4419720" y="5430960"/>
            <a:chExt cx="304560" cy="263520"/>
          </a:xfrm>
        </p:grpSpPr>
        <p:grpSp>
          <p:nvGrpSpPr>
            <p:cNvPr id="106" name="Group 24"/>
            <p:cNvGrpSpPr/>
            <p:nvPr/>
          </p:nvGrpSpPr>
          <p:grpSpPr>
            <a:xfrm>
              <a:off x="4419720" y="5430960"/>
              <a:ext cx="304560" cy="164520"/>
              <a:chOff x="4419720" y="5430960"/>
              <a:chExt cx="304560" cy="164520"/>
            </a:xfrm>
          </p:grpSpPr>
          <p:sp>
            <p:nvSpPr>
              <p:cNvPr id="107" name="Oval 25"/>
              <p:cNvSpPr/>
              <p:nvPr/>
            </p:nvSpPr>
            <p:spPr>
              <a:xfrm>
                <a:off x="4462920" y="5430960"/>
                <a:ext cx="217800" cy="131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26"/>
              <p:cNvSpPr/>
              <p:nvPr/>
            </p:nvSpPr>
            <p:spPr>
              <a:xfrm>
                <a:off x="4419720" y="5496840"/>
                <a:ext cx="304560" cy="9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Rectangle 27"/>
            <p:cNvSpPr/>
            <p:nvPr/>
          </p:nvSpPr>
          <p:spPr>
            <a:xfrm>
              <a:off x="4462920" y="5496840"/>
              <a:ext cx="217800" cy="46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28"/>
            <p:cNvSpPr/>
            <p:nvPr/>
          </p:nvSpPr>
          <p:spPr>
            <a:xfrm rot="10800000">
              <a:off x="4462560" y="5562720"/>
              <a:ext cx="217800" cy="131760"/>
            </a:xfrm>
            <a:custGeom>
              <a:avLst/>
              <a:gdLst>
                <a:gd name="textAreaLeft" fmla="*/ 53280 w 217800"/>
                <a:gd name="textAreaRight" fmla="*/ 164520 w 217800"/>
                <a:gd name="textAreaTop" fmla="*/ 32040 h 131760"/>
                <a:gd name="textAreaBottom" fmla="*/ 99720 h 13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059" y="21600"/>
                  </a:lnTo>
                  <a:lnTo>
                    <a:pt x="1454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23"/>
          <p:cNvGrpSpPr/>
          <p:nvPr/>
        </p:nvGrpSpPr>
        <p:grpSpPr>
          <a:xfrm>
            <a:off x="2819520" y="5948280"/>
            <a:ext cx="304560" cy="262080"/>
            <a:chOff x="2819520" y="5948280"/>
            <a:chExt cx="304560" cy="262080"/>
          </a:xfrm>
        </p:grpSpPr>
        <p:grpSp>
          <p:nvGrpSpPr>
            <p:cNvPr id="112" name="Group 24"/>
            <p:cNvGrpSpPr/>
            <p:nvPr/>
          </p:nvGrpSpPr>
          <p:grpSpPr>
            <a:xfrm>
              <a:off x="2819520" y="5948280"/>
              <a:ext cx="304560" cy="163800"/>
              <a:chOff x="2819520" y="5948280"/>
              <a:chExt cx="304560" cy="163800"/>
            </a:xfrm>
          </p:grpSpPr>
          <p:sp>
            <p:nvSpPr>
              <p:cNvPr id="113" name="Oval 25"/>
              <p:cNvSpPr/>
              <p:nvPr/>
            </p:nvSpPr>
            <p:spPr>
              <a:xfrm>
                <a:off x="2862720" y="5948280"/>
                <a:ext cx="217800" cy="1310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26"/>
              <p:cNvSpPr/>
              <p:nvPr/>
            </p:nvSpPr>
            <p:spPr>
              <a:xfrm>
                <a:off x="2819520" y="6013800"/>
                <a:ext cx="304560" cy="9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Rectangle 27"/>
            <p:cNvSpPr/>
            <p:nvPr/>
          </p:nvSpPr>
          <p:spPr>
            <a:xfrm>
              <a:off x="2862720" y="6013800"/>
              <a:ext cx="217800" cy="45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28"/>
            <p:cNvSpPr/>
            <p:nvPr/>
          </p:nvSpPr>
          <p:spPr>
            <a:xfrm rot="10800000">
              <a:off x="2862360" y="6079320"/>
              <a:ext cx="217800" cy="131040"/>
            </a:xfrm>
            <a:custGeom>
              <a:avLst/>
              <a:gdLst>
                <a:gd name="textAreaLeft" fmla="*/ 53280 w 217800"/>
                <a:gd name="textAreaRight" fmla="*/ 164520 w 217800"/>
                <a:gd name="textAreaTop" fmla="*/ 32040 h 131040"/>
                <a:gd name="textAreaBottom" fmla="*/ 99000 h 13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059" y="21600"/>
                  </a:lnTo>
                  <a:lnTo>
                    <a:pt x="1454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23"/>
          <p:cNvGrpSpPr/>
          <p:nvPr/>
        </p:nvGrpSpPr>
        <p:grpSpPr>
          <a:xfrm>
            <a:off x="5486400" y="4289400"/>
            <a:ext cx="304920" cy="262080"/>
            <a:chOff x="5486400" y="4289400"/>
            <a:chExt cx="304920" cy="262080"/>
          </a:xfrm>
        </p:grpSpPr>
        <p:grpSp>
          <p:nvGrpSpPr>
            <p:cNvPr id="118" name="Group 24"/>
            <p:cNvGrpSpPr/>
            <p:nvPr/>
          </p:nvGrpSpPr>
          <p:grpSpPr>
            <a:xfrm>
              <a:off x="5486400" y="4289400"/>
              <a:ext cx="304920" cy="163800"/>
              <a:chOff x="5486400" y="4289400"/>
              <a:chExt cx="304920" cy="163800"/>
            </a:xfrm>
          </p:grpSpPr>
          <p:sp>
            <p:nvSpPr>
              <p:cNvPr id="119" name="Oval 25"/>
              <p:cNvSpPr/>
              <p:nvPr/>
            </p:nvSpPr>
            <p:spPr>
              <a:xfrm>
                <a:off x="5529600" y="4289400"/>
                <a:ext cx="217800" cy="1310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26"/>
              <p:cNvSpPr/>
              <p:nvPr/>
            </p:nvSpPr>
            <p:spPr>
              <a:xfrm>
                <a:off x="5486400" y="4354920"/>
                <a:ext cx="304920" cy="9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Rectangle 27"/>
            <p:cNvSpPr/>
            <p:nvPr/>
          </p:nvSpPr>
          <p:spPr>
            <a:xfrm>
              <a:off x="5529600" y="4354920"/>
              <a:ext cx="217800" cy="45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28"/>
            <p:cNvSpPr/>
            <p:nvPr/>
          </p:nvSpPr>
          <p:spPr>
            <a:xfrm rot="10800000">
              <a:off x="5529240" y="4420440"/>
              <a:ext cx="217800" cy="131040"/>
            </a:xfrm>
            <a:custGeom>
              <a:avLst/>
              <a:gdLst>
                <a:gd name="textAreaLeft" fmla="*/ 53280 w 217800"/>
                <a:gd name="textAreaRight" fmla="*/ 164520 w 217800"/>
                <a:gd name="textAreaTop" fmla="*/ 32040 h 131040"/>
                <a:gd name="textAreaBottom" fmla="*/ 99000 h 13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059" y="21600"/>
                  </a:lnTo>
                  <a:lnTo>
                    <a:pt x="1454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23"/>
          <p:cNvGrpSpPr/>
          <p:nvPr/>
        </p:nvGrpSpPr>
        <p:grpSpPr>
          <a:xfrm>
            <a:off x="5486400" y="4282920"/>
            <a:ext cx="304920" cy="262080"/>
            <a:chOff x="5486400" y="4282920"/>
            <a:chExt cx="304920" cy="262080"/>
          </a:xfrm>
        </p:grpSpPr>
        <p:grpSp>
          <p:nvGrpSpPr>
            <p:cNvPr id="124" name="Group 24"/>
            <p:cNvGrpSpPr/>
            <p:nvPr/>
          </p:nvGrpSpPr>
          <p:grpSpPr>
            <a:xfrm>
              <a:off x="5486400" y="4282920"/>
              <a:ext cx="304920" cy="163800"/>
              <a:chOff x="5486400" y="4282920"/>
              <a:chExt cx="304920" cy="163800"/>
            </a:xfrm>
          </p:grpSpPr>
          <p:sp>
            <p:nvSpPr>
              <p:cNvPr id="125" name="Oval 25"/>
              <p:cNvSpPr/>
              <p:nvPr/>
            </p:nvSpPr>
            <p:spPr>
              <a:xfrm>
                <a:off x="5529600" y="4282920"/>
                <a:ext cx="217800" cy="1310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26"/>
              <p:cNvSpPr/>
              <p:nvPr/>
            </p:nvSpPr>
            <p:spPr>
              <a:xfrm>
                <a:off x="5486400" y="4348440"/>
                <a:ext cx="304920" cy="9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Rectangle 27"/>
            <p:cNvSpPr/>
            <p:nvPr/>
          </p:nvSpPr>
          <p:spPr>
            <a:xfrm>
              <a:off x="5529600" y="4348440"/>
              <a:ext cx="217800" cy="45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28"/>
            <p:cNvSpPr/>
            <p:nvPr/>
          </p:nvSpPr>
          <p:spPr>
            <a:xfrm rot="10800000">
              <a:off x="5529240" y="4413960"/>
              <a:ext cx="217800" cy="131040"/>
            </a:xfrm>
            <a:custGeom>
              <a:avLst/>
              <a:gdLst>
                <a:gd name="textAreaLeft" fmla="*/ 53280 w 217800"/>
                <a:gd name="textAreaRight" fmla="*/ 164520 w 217800"/>
                <a:gd name="textAreaTop" fmla="*/ 32040 h 131040"/>
                <a:gd name="textAreaBottom" fmla="*/ 99000 h 13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059" y="21600"/>
                  </a:lnTo>
                  <a:lnTo>
                    <a:pt x="1454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23"/>
          <p:cNvGrpSpPr/>
          <p:nvPr/>
        </p:nvGrpSpPr>
        <p:grpSpPr>
          <a:xfrm>
            <a:off x="6858000" y="1665360"/>
            <a:ext cx="304920" cy="261360"/>
            <a:chOff x="6858000" y="1665360"/>
            <a:chExt cx="304920" cy="261360"/>
          </a:xfrm>
        </p:grpSpPr>
        <p:grpSp>
          <p:nvGrpSpPr>
            <p:cNvPr id="130" name="Group 24"/>
            <p:cNvGrpSpPr/>
            <p:nvPr/>
          </p:nvGrpSpPr>
          <p:grpSpPr>
            <a:xfrm>
              <a:off x="6858000" y="1665360"/>
              <a:ext cx="304920" cy="163440"/>
              <a:chOff x="6858000" y="1665360"/>
              <a:chExt cx="304920" cy="163440"/>
            </a:xfrm>
          </p:grpSpPr>
          <p:sp>
            <p:nvSpPr>
              <p:cNvPr id="131" name="Oval 25"/>
              <p:cNvSpPr/>
              <p:nvPr/>
            </p:nvSpPr>
            <p:spPr>
              <a:xfrm>
                <a:off x="6901200" y="1665360"/>
                <a:ext cx="217800" cy="1306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6"/>
              <p:cNvSpPr/>
              <p:nvPr/>
            </p:nvSpPr>
            <p:spPr>
              <a:xfrm>
                <a:off x="6858000" y="1730880"/>
                <a:ext cx="304920" cy="9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Rectangle 27"/>
            <p:cNvSpPr/>
            <p:nvPr/>
          </p:nvSpPr>
          <p:spPr>
            <a:xfrm>
              <a:off x="6901200" y="1730520"/>
              <a:ext cx="217800" cy="45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28"/>
            <p:cNvSpPr/>
            <p:nvPr/>
          </p:nvSpPr>
          <p:spPr>
            <a:xfrm rot="10800000">
              <a:off x="6900840" y="1796040"/>
              <a:ext cx="217800" cy="130680"/>
            </a:xfrm>
            <a:custGeom>
              <a:avLst/>
              <a:gdLst>
                <a:gd name="textAreaLeft" fmla="*/ 53280 w 217800"/>
                <a:gd name="textAreaRight" fmla="*/ 164520 w 217800"/>
                <a:gd name="textAreaTop" fmla="*/ 32040 h 130680"/>
                <a:gd name="textAreaBottom" fmla="*/ 98640 h 13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059" y="21600"/>
                  </a:lnTo>
                  <a:lnTo>
                    <a:pt x="1454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23"/>
          <p:cNvGrpSpPr/>
          <p:nvPr/>
        </p:nvGrpSpPr>
        <p:grpSpPr>
          <a:xfrm>
            <a:off x="1676520" y="4268880"/>
            <a:ext cx="304560" cy="261360"/>
            <a:chOff x="1676520" y="4268880"/>
            <a:chExt cx="304560" cy="261360"/>
          </a:xfrm>
        </p:grpSpPr>
        <p:grpSp>
          <p:nvGrpSpPr>
            <p:cNvPr id="136" name="Group 24"/>
            <p:cNvGrpSpPr/>
            <p:nvPr/>
          </p:nvGrpSpPr>
          <p:grpSpPr>
            <a:xfrm>
              <a:off x="1676520" y="4268880"/>
              <a:ext cx="304560" cy="163440"/>
              <a:chOff x="1676520" y="4268880"/>
              <a:chExt cx="304560" cy="163440"/>
            </a:xfrm>
          </p:grpSpPr>
          <p:sp>
            <p:nvSpPr>
              <p:cNvPr id="137" name="Oval 25"/>
              <p:cNvSpPr/>
              <p:nvPr/>
            </p:nvSpPr>
            <p:spPr>
              <a:xfrm>
                <a:off x="1719720" y="4268880"/>
                <a:ext cx="217800" cy="1306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Rectangle 26"/>
              <p:cNvSpPr/>
              <p:nvPr/>
            </p:nvSpPr>
            <p:spPr>
              <a:xfrm>
                <a:off x="1676520" y="4334400"/>
                <a:ext cx="304560" cy="9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Rectangle 27"/>
            <p:cNvSpPr/>
            <p:nvPr/>
          </p:nvSpPr>
          <p:spPr>
            <a:xfrm>
              <a:off x="1719720" y="4334040"/>
              <a:ext cx="217800" cy="65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28"/>
            <p:cNvSpPr/>
            <p:nvPr/>
          </p:nvSpPr>
          <p:spPr>
            <a:xfrm rot="10800000">
              <a:off x="1719360" y="4399560"/>
              <a:ext cx="217800" cy="130680"/>
            </a:xfrm>
            <a:custGeom>
              <a:avLst/>
              <a:gdLst>
                <a:gd name="textAreaLeft" fmla="*/ 53280 w 217800"/>
                <a:gd name="textAreaRight" fmla="*/ 164520 w 217800"/>
                <a:gd name="textAreaTop" fmla="*/ 32040 h 130680"/>
                <a:gd name="textAreaBottom" fmla="*/ 98640 h 13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059" y="21600"/>
                  </a:lnTo>
                  <a:lnTo>
                    <a:pt x="1454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23"/>
          <p:cNvGrpSpPr/>
          <p:nvPr/>
        </p:nvGrpSpPr>
        <p:grpSpPr>
          <a:xfrm>
            <a:off x="1066680" y="4595760"/>
            <a:ext cx="304920" cy="262080"/>
            <a:chOff x="1066680" y="4595760"/>
            <a:chExt cx="304920" cy="262080"/>
          </a:xfrm>
        </p:grpSpPr>
        <p:grpSp>
          <p:nvGrpSpPr>
            <p:cNvPr id="142" name="Group 24"/>
            <p:cNvGrpSpPr/>
            <p:nvPr/>
          </p:nvGrpSpPr>
          <p:grpSpPr>
            <a:xfrm>
              <a:off x="1066680" y="4595760"/>
              <a:ext cx="304920" cy="163800"/>
              <a:chOff x="1066680" y="4595760"/>
              <a:chExt cx="304920" cy="163800"/>
            </a:xfrm>
          </p:grpSpPr>
          <p:sp>
            <p:nvSpPr>
              <p:cNvPr id="143" name="Oval 25"/>
              <p:cNvSpPr/>
              <p:nvPr/>
            </p:nvSpPr>
            <p:spPr>
              <a:xfrm>
                <a:off x="1109880" y="4595760"/>
                <a:ext cx="217800" cy="1310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Rectangle 26"/>
              <p:cNvSpPr/>
              <p:nvPr/>
            </p:nvSpPr>
            <p:spPr>
              <a:xfrm>
                <a:off x="1066680" y="4661280"/>
                <a:ext cx="304920" cy="9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Rectangle 27"/>
            <p:cNvSpPr/>
            <p:nvPr/>
          </p:nvSpPr>
          <p:spPr>
            <a:xfrm>
              <a:off x="1109880" y="4661280"/>
              <a:ext cx="217800" cy="65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28"/>
            <p:cNvSpPr/>
            <p:nvPr/>
          </p:nvSpPr>
          <p:spPr>
            <a:xfrm rot="10800000">
              <a:off x="1109520" y="4726800"/>
              <a:ext cx="217800" cy="131040"/>
            </a:xfrm>
            <a:custGeom>
              <a:avLst/>
              <a:gdLst>
                <a:gd name="textAreaLeft" fmla="*/ 53280 w 217800"/>
                <a:gd name="textAreaRight" fmla="*/ 164520 w 217800"/>
                <a:gd name="textAreaTop" fmla="*/ 32040 h 131040"/>
                <a:gd name="textAreaBottom" fmla="*/ 99000 h 13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059" y="21600"/>
                  </a:lnTo>
                  <a:lnTo>
                    <a:pt x="1454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5-09-16T11:49:13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