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433-03DD-423E-A8E6-3E4881F1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894-49C3-4CAE-A52F-D1C6BA7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B4F-5FE5-469F-9621-D7EBAE88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B70-B1DB-40DB-88FD-39936F08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451-77CB-42B1-A641-7618C5E0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ABA-8CA7-49FC-9A7E-816A5A3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7CB-7B64-4094-B043-5C8500D0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34C-028D-4C37-B836-400C522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78E-D6C1-4715-962C-62722A77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3561-AA8C-4498-8188-93D5D8C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78C-E4F0-4765-82B7-BAD80AFC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8D2B-2B1A-4CE7-B9AE-F6C563DD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511B-764E-4655-AE5B-DD8F00D686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34"/>
          <p:cNvSpPr/>
          <p:nvPr/>
        </p:nvSpPr>
        <p:spPr>
          <a:xfrm>
            <a:off x="149400" y="806400"/>
            <a:ext cx="1753920" cy="709560"/>
          </a:xfrm>
          <a:prstGeom prst="pi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11"/>
          <p:cNvGraphicFramePr/>
          <p:nvPr/>
        </p:nvGraphicFramePr>
        <p:xfrm>
          <a:off x="380880" y="990720"/>
          <a:ext cx="8485200" cy="55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8485200" cy="55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13"/>
          <p:cNvGraphicFramePr/>
          <p:nvPr/>
        </p:nvGraphicFramePr>
        <p:xfrm>
          <a:off x="4572000" y="2133720"/>
          <a:ext cx="184932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133720"/>
                    <a:ext cx="18493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22"/>
          <p:cNvSpPr/>
          <p:nvPr/>
        </p:nvSpPr>
        <p:spPr>
          <a:xfrm>
            <a:off x="990720" y="1905120"/>
            <a:ext cx="7467480" cy="403848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ct 25"/>
          <p:cNvGraphicFramePr/>
          <p:nvPr/>
        </p:nvGraphicFramePr>
        <p:xfrm>
          <a:off x="152280" y="5410080"/>
          <a:ext cx="152424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5410080"/>
                    <a:ext cx="15242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Picture 23" descr=""/>
          <p:cNvPicPr/>
          <p:nvPr/>
        </p:nvPicPr>
        <p:blipFill>
          <a:blip r:embed="rId7"/>
          <a:stretch/>
        </p:blipFill>
        <p:spPr>
          <a:xfrm>
            <a:off x="228600" y="548640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6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закрепления секторов оповещения и информирования населения населенного пункта    д.Ч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7"/>
          <p:cNvSpPr/>
          <p:nvPr/>
        </p:nvSpPr>
        <p:spPr>
          <a:xfrm>
            <a:off x="6732720" y="83808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лава МО «Кожиль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Э.В. Ельцов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__» _________ 20__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28"/>
          <p:cNvGraphicFramePr/>
          <p:nvPr/>
        </p:nvGraphicFramePr>
        <p:xfrm>
          <a:off x="6211800" y="0"/>
          <a:ext cx="2932200" cy="344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11800" y="0"/>
                    <a:ext cx="2932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29"/>
          <p:cNvSpPr/>
          <p:nvPr/>
        </p:nvSpPr>
        <p:spPr>
          <a:xfrm>
            <a:off x="4419720" y="6400800"/>
            <a:ext cx="3657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тароста населенного пункта Чупин А.Л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ел. 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30"/>
          <p:cNvSpPr/>
          <p:nvPr/>
        </p:nvSpPr>
        <p:spPr>
          <a:xfrm>
            <a:off x="6629400" y="4038480"/>
            <a:ext cx="2286000" cy="228600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31"/>
          <p:cNvGraphicFramePr/>
          <p:nvPr/>
        </p:nvGraphicFramePr>
        <p:xfrm>
          <a:off x="7620120" y="4952880"/>
          <a:ext cx="247680" cy="304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" name="Object 3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4952880"/>
                    <a:ext cx="247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2"/>
          <p:cNvSpPr/>
          <p:nvPr/>
        </p:nvSpPr>
        <p:spPr>
          <a:xfrm>
            <a:off x="1828800" y="5410080"/>
            <a:ext cx="1447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ароста Чупин А.Л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л. Центральная, Клубная, Береговая, Нижняя, Полевая, Лесная, Молодежная, Верхняя, Предорожная, Лугов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3"/>
          <p:cNvSpPr/>
          <p:nvPr/>
        </p:nvSpPr>
        <p:spPr>
          <a:xfrm>
            <a:off x="7620120" y="57913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3-05-31T13:08:50Z</dcterms:modified>
  <cp:revision>14</cp:revision>
  <dc:subject/>
  <dc:title>Презентация PowerPoint</dc:title>
</cp:coreProperties>
</file>